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9999"/>
              </a:gs>
            </a:gsLst>
            <a:path path="rect">
              <a:fillToRect l="100000" t="100000" r="0" b="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620640"/>
            <a:ext cx="8785440" cy="6235920"/>
            <a:chOff x="380880" y="620640"/>
            <a:chExt cx="8785440" cy="6235920"/>
          </a:xfrm>
        </p:grpSpPr>
        <p:sp>
          <p:nvSpPr>
            <p:cNvPr id="2" name=""/>
            <p:cNvSpPr/>
            <p:nvPr/>
          </p:nvSpPr>
          <p:spPr>
            <a:xfrm>
              <a:off x="380880" y="1701720"/>
              <a:ext cx="8785440" cy="5154840"/>
            </a:xfrm>
            <a:custGeom>
              <a:avLst/>
              <a:gdLst/>
              <a:ahLst/>
              <a:rect l="0" t="0" r="r" b="b"/>
              <a:pathLst>
                <a:path fill="none" w="24404" h="14319">
                  <a:moveTo>
                    <a:pt x="24404" y="0"/>
                  </a:moveTo>
                  <a:lnTo>
                    <a:pt x="0" y="0"/>
                  </a:lnTo>
                  <a:lnTo>
                    <a:pt x="0" y="14319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620640"/>
              <a:ext cx="8785440" cy="6235920"/>
            </a:xfrm>
            <a:custGeom>
              <a:avLst/>
              <a:gdLst/>
              <a:ahLst/>
              <a:rect l="0" t="0" r="r" b="b"/>
              <a:pathLst>
                <a:path fill="none" w="24404" h="17322">
                  <a:moveTo>
                    <a:pt x="1909" y="17322"/>
                  </a:moveTo>
                  <a:lnTo>
                    <a:pt x="1909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404" y="2143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9999"/>
              </a:gs>
            </a:gsLst>
            <a:path path="rect">
              <a:fillToRect l="100000" t="100000" r="0" b="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8680" y="2131920"/>
            <a:ext cx="8838000" cy="4724640"/>
            <a:chOff x="328680" y="2131920"/>
            <a:chExt cx="8838000" cy="4724640"/>
          </a:xfrm>
        </p:grpSpPr>
        <p:sp>
          <p:nvSpPr>
            <p:cNvPr id="44" name=""/>
            <p:cNvSpPr/>
            <p:nvPr/>
          </p:nvSpPr>
          <p:spPr>
            <a:xfrm>
              <a:off x="328680" y="3213000"/>
              <a:ext cx="8822160" cy="3643560"/>
            </a:xfrm>
            <a:custGeom>
              <a:avLst/>
              <a:gdLst/>
              <a:ahLst/>
              <a:rect l="0" t="0" r="r" b="b"/>
              <a:pathLst>
                <a:path fill="none" w="24506" h="10121">
                  <a:moveTo>
                    <a:pt x="24506" y="0"/>
                  </a:moveTo>
                  <a:lnTo>
                    <a:pt x="0" y="0"/>
                  </a:lnTo>
                  <a:lnTo>
                    <a:pt x="0" y="10121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8680" y="2131920"/>
              <a:ext cx="8838000" cy="4724640"/>
            </a:xfrm>
            <a:custGeom>
              <a:avLst/>
              <a:gdLst/>
              <a:ahLst/>
              <a:rect l="0" t="0" r="r" b="b"/>
              <a:pathLst>
                <a:path fill="none" w="24550" h="13124">
                  <a:moveTo>
                    <a:pt x="1925" y="13124"/>
                  </a:moveTo>
                  <a:lnTo>
                    <a:pt x="1920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550" y="2143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A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s de Ecuaciones Difer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o de f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yectorias u órb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6480"/>
              </a:spcBef>
              <a:spcAft>
                <a:spcPts val="601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yectorias punto de equili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rtamiento asint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bitas cer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62360" y="2666880"/>
            <a:ext cx="395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o de f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1905120"/>
            <a:ext cx="7620120" cy="486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622764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22939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2293920"/>
            <a:ext cx="0" cy="39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229600" y="2293920"/>
            <a:ext cx="0" cy="39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29392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29600" y="62276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622764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362320" y="2293920"/>
            <a:ext cx="0" cy="39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62276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9876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9876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7440" y="631044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44484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4484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32080" y="631044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38948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948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178160" y="631044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412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83280" y="63104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27840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7840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27920" y="63104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22304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2304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074000" y="63104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6175440"/>
            <a:ext cx="0" cy="52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69120" y="22939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018640" y="63104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622764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9120" y="622764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44800" y="601488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73408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169120" y="57340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44800" y="552276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24016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169120" y="524016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044800" y="502920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74804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169120" y="474804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044800" y="453564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426708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169120" y="42670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04920" y="405612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7735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8169120" y="377352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04920" y="356220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328140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169120" y="328140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04920" y="307008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78748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169120" y="278748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04920" y="257652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22939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169120" y="229392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04920" y="208296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622764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22939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62320" y="2293920"/>
            <a:ext cx="0" cy="39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229600" y="2293920"/>
            <a:ext cx="0" cy="393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62276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22939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3840" y="621360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468" y="40"/>
                </a:moveTo>
                <a:lnTo>
                  <a:pt x="0" y="40"/>
                </a:lnTo>
                <a:lnTo>
                  <a:pt x="88" y="76"/>
                </a:lnTo>
                <a:lnTo>
                  <a:pt x="0" y="4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60199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25520" y="582444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380" y="36"/>
                </a:moveTo>
                <a:lnTo>
                  <a:pt x="0" y="36"/>
                </a:lnTo>
                <a:lnTo>
                  <a:pt x="83" y="76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39920" y="563076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72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760" y="54356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0"/>
                </a:moveTo>
                <a:lnTo>
                  <a:pt x="0" y="0"/>
                </a:lnTo>
                <a:lnTo>
                  <a:pt x="83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240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1840" y="50468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6240" y="485136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12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32080" y="465624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8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6480" y="44625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7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4267080"/>
            <a:ext cx="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40593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0" y="0"/>
                </a:move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86568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0" y="0"/>
                </a:move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67020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0" y="0"/>
                </a:moveTo>
                <a:lnTo>
                  <a:pt x="127" y="0"/>
                </a:lnTo>
                <a:lnTo>
                  <a:pt x="127" y="0"/>
                </a:lnTo>
                <a:lnTo>
                  <a:pt x="12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34624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72"/>
                </a:lnTo>
                <a:lnTo>
                  <a:pt x="129" y="0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2670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69" y="0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30733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72"/>
                </a:lnTo>
                <a:lnTo>
                  <a:pt x="212" y="0"/>
                </a:lnTo>
                <a:lnTo>
                  <a:pt x="296" y="72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8782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0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67012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0" y="40"/>
                </a:moveTo>
                <a:lnTo>
                  <a:pt x="380" y="40"/>
                </a:lnTo>
                <a:lnTo>
                  <a:pt x="296" y="0"/>
                </a:lnTo>
                <a:lnTo>
                  <a:pt x="380" y="40"/>
                </a:lnTo>
                <a:lnTo>
                  <a:pt x="29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4764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36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28132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36"/>
                </a:moveTo>
                <a:lnTo>
                  <a:pt x="468" y="36"/>
                </a:lnTo>
                <a:lnTo>
                  <a:pt x="380" y="0"/>
                </a:lnTo>
                <a:lnTo>
                  <a:pt x="468" y="36"/>
                </a:lnTo>
                <a:lnTo>
                  <a:pt x="38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92200" y="62276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08400" y="603252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380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22440" y="583740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341" y="0"/>
                </a:moveTo>
                <a:lnTo>
                  <a:pt x="0" y="40"/>
                </a:lnTo>
                <a:lnTo>
                  <a:pt x="89" y="76"/>
                </a:lnTo>
                <a:lnTo>
                  <a:pt x="0" y="4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56437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4120" y="543564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68520" y="524016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213" y="0"/>
                </a:moveTo>
                <a:lnTo>
                  <a:pt x="0" y="76"/>
                </a:lnTo>
                <a:lnTo>
                  <a:pt x="44" y="76"/>
                </a:lnTo>
                <a:lnTo>
                  <a:pt x="0" y="76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0468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36"/>
                </a:lnTo>
                <a:lnTo>
                  <a:pt x="39" y="72"/>
                </a:lnTo>
                <a:lnTo>
                  <a:pt x="0" y="36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98760" y="48513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65624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044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72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44840" y="42670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44840" y="4059360"/>
            <a:ext cx="30600" cy="27360"/>
          </a:xfrm>
          <a:custGeom>
            <a:avLst/>
            <a:gdLst/>
            <a:ahLst/>
            <a:rect l="0" t="0" r="r" b="b"/>
            <a:pathLst>
              <a:path fill="none" w="85" h="76">
                <a:moveTo>
                  <a:pt x="0" y="0"/>
                </a:moveTo>
                <a:lnTo>
                  <a:pt x="85" y="76"/>
                </a:lnTo>
                <a:lnTo>
                  <a:pt x="45" y="36"/>
                </a:lnTo>
                <a:lnTo>
                  <a:pt x="85" y="76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4840" y="386568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84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44840" y="36702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28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44840" y="34750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44840" y="328140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0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44840" y="30859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0"/>
                </a:moveTo>
                <a:lnTo>
                  <a:pt x="296" y="72"/>
                </a:lnTo>
                <a:lnTo>
                  <a:pt x="256" y="0"/>
                </a:lnTo>
                <a:lnTo>
                  <a:pt x="296" y="72"/>
                </a:lnTo>
                <a:lnTo>
                  <a:pt x="25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44840" y="287820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0" y="0"/>
                </a:moveTo>
                <a:lnTo>
                  <a:pt x="341" y="76"/>
                </a:lnTo>
                <a:lnTo>
                  <a:pt x="297" y="36"/>
                </a:lnTo>
                <a:lnTo>
                  <a:pt x="341" y="76"/>
                </a:lnTo>
                <a:lnTo>
                  <a:pt x="25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44840" y="268452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0" y="0"/>
                </a:moveTo>
                <a:lnTo>
                  <a:pt x="385" y="72"/>
                </a:lnTo>
                <a:lnTo>
                  <a:pt x="297" y="0"/>
                </a:lnTo>
                <a:lnTo>
                  <a:pt x="385" y="72"/>
                </a:lnTo>
                <a:lnTo>
                  <a:pt x="29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44840" y="24890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0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44840" y="229392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0" y="0"/>
                </a:moveTo>
                <a:lnTo>
                  <a:pt x="468" y="36"/>
                </a:lnTo>
                <a:lnTo>
                  <a:pt x="384" y="0"/>
                </a:lnTo>
                <a:lnTo>
                  <a:pt x="468" y="36"/>
                </a:lnTo>
                <a:lnTo>
                  <a:pt x="384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75080" y="622764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71"/>
                </a:lnTo>
                <a:lnTo>
                  <a:pt x="88" y="107"/>
                </a:lnTo>
                <a:lnTo>
                  <a:pt x="0" y="71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71"/>
                </a:lnTo>
                <a:lnTo>
                  <a:pt x="83" y="107"/>
                </a:lnTo>
                <a:lnTo>
                  <a:pt x="0" y="71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06760" y="583740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380" y="0"/>
                </a:moveTo>
                <a:lnTo>
                  <a:pt x="0" y="76"/>
                </a:lnTo>
                <a:lnTo>
                  <a:pt x="83" y="76"/>
                </a:lnTo>
                <a:lnTo>
                  <a:pt x="0" y="76"/>
                </a:lnTo>
                <a:lnTo>
                  <a:pt x="83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0800" y="564372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37000" y="543564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51040" y="524016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0"/>
                </a:moveTo>
                <a:lnTo>
                  <a:pt x="0" y="111"/>
                </a:lnTo>
                <a:lnTo>
                  <a:pt x="89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82720" y="50468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97120" y="48513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2960" y="4656240"/>
            <a:ext cx="30600" cy="27360"/>
          </a:xfrm>
          <a:custGeom>
            <a:avLst/>
            <a:gdLst/>
            <a:ahLst/>
            <a:rect l="0" t="0" r="r" b="b"/>
            <a:pathLst>
              <a:path fill="none" w="85" h="76">
                <a:moveTo>
                  <a:pt x="85" y="0"/>
                </a:moveTo>
                <a:lnTo>
                  <a:pt x="0" y="76"/>
                </a:lnTo>
                <a:lnTo>
                  <a:pt x="0" y="76"/>
                </a:lnTo>
                <a:lnTo>
                  <a:pt x="0" y="76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2736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42670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35"/>
                </a:lnTo>
                <a:lnTo>
                  <a:pt x="0" y="7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75"/>
                </a:lnTo>
                <a:lnTo>
                  <a:pt x="72" y="111"/>
                </a:lnTo>
                <a:lnTo>
                  <a:pt x="72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8656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0"/>
                </a:moveTo>
                <a:lnTo>
                  <a:pt x="85" y="107"/>
                </a:lnTo>
                <a:lnTo>
                  <a:pt x="85" y="71"/>
                </a:lnTo>
                <a:lnTo>
                  <a:pt x="85" y="107"/>
                </a:lnTo>
                <a:lnTo>
                  <a:pt x="45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3670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129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47508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0" y="0"/>
                </a:moveTo>
                <a:lnTo>
                  <a:pt x="169" y="76"/>
                </a:lnTo>
                <a:lnTo>
                  <a:pt x="129" y="36"/>
                </a:lnTo>
                <a:lnTo>
                  <a:pt x="169" y="76"/>
                </a:lnTo>
                <a:lnTo>
                  <a:pt x="129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36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0859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36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287820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56" y="75"/>
                </a:lnTo>
                <a:lnTo>
                  <a:pt x="296" y="111"/>
                </a:lnTo>
                <a:lnTo>
                  <a:pt x="256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684520"/>
            <a:ext cx="136800" cy="38520"/>
          </a:xfrm>
          <a:custGeom>
            <a:avLst/>
            <a:gdLst/>
            <a:ahLst/>
            <a:rect l="0" t="0" r="r" b="b"/>
            <a:pathLst>
              <a:path fill="none" w="380" h="107">
                <a:moveTo>
                  <a:pt x="0" y="0"/>
                </a:moveTo>
                <a:lnTo>
                  <a:pt x="380" y="107"/>
                </a:lnTo>
                <a:lnTo>
                  <a:pt x="296" y="36"/>
                </a:lnTo>
                <a:lnTo>
                  <a:pt x="380" y="107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48904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0" y="0"/>
                </a:moveTo>
                <a:lnTo>
                  <a:pt x="424" y="107"/>
                </a:lnTo>
                <a:lnTo>
                  <a:pt x="340" y="36"/>
                </a:lnTo>
                <a:lnTo>
                  <a:pt x="424" y="107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293920"/>
            <a:ext cx="168480" cy="39960"/>
          </a:xfrm>
          <a:custGeom>
            <a:avLst/>
            <a:gdLst/>
            <a:ahLst/>
            <a:rect l="0" t="0" r="r" b="b"/>
            <a:pathLst>
              <a:path fill="none" w="468" h="111">
                <a:moveTo>
                  <a:pt x="0" y="0"/>
                </a:moveTo>
                <a:lnTo>
                  <a:pt x="468" y="75"/>
                </a:lnTo>
                <a:lnTo>
                  <a:pt x="380" y="35"/>
                </a:lnTo>
                <a:lnTo>
                  <a:pt x="468" y="75"/>
                </a:lnTo>
                <a:lnTo>
                  <a:pt x="34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59040" y="6227640"/>
            <a:ext cx="167040" cy="51120"/>
          </a:xfrm>
          <a:custGeom>
            <a:avLst/>
            <a:gdLst/>
            <a:ahLst/>
            <a:rect l="0" t="0" r="r" b="b"/>
            <a:pathLst>
              <a:path fill="none" w="464" h="142">
                <a:moveTo>
                  <a:pt x="464" y="0"/>
                </a:moveTo>
                <a:lnTo>
                  <a:pt x="0" y="106"/>
                </a:lnTo>
                <a:lnTo>
                  <a:pt x="123" y="142"/>
                </a:lnTo>
                <a:lnTo>
                  <a:pt x="0" y="106"/>
                </a:lnTo>
                <a:lnTo>
                  <a:pt x="8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03680" y="583740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0"/>
                </a:moveTo>
                <a:lnTo>
                  <a:pt x="0" y="111"/>
                </a:lnTo>
                <a:lnTo>
                  <a:pt x="89" y="111"/>
                </a:lnTo>
                <a:lnTo>
                  <a:pt x="0" y="111"/>
                </a:lnTo>
                <a:lnTo>
                  <a:pt x="44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564372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35360" y="5435640"/>
            <a:ext cx="90720" cy="52920"/>
          </a:xfrm>
          <a:custGeom>
            <a:avLst/>
            <a:gdLst/>
            <a:ahLst/>
            <a:rect l="0" t="0" r="r" b="b"/>
            <a:pathLst>
              <a:path fill="none" w="252" h="147">
                <a:moveTo>
                  <a:pt x="252" y="0"/>
                </a:moveTo>
                <a:lnTo>
                  <a:pt x="0" y="106"/>
                </a:lnTo>
                <a:lnTo>
                  <a:pt x="39" y="147"/>
                </a:lnTo>
                <a:lnTo>
                  <a:pt x="0" y="106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9400" y="524016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213" y="0"/>
                </a:moveTo>
                <a:lnTo>
                  <a:pt x="0" y="111"/>
                </a:lnTo>
                <a:lnTo>
                  <a:pt x="44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65600" y="504684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169" y="0"/>
                </a:moveTo>
                <a:lnTo>
                  <a:pt x="0" y="107"/>
                </a:lnTo>
                <a:lnTo>
                  <a:pt x="39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79640" y="485136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465624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85" y="0"/>
                </a:moveTo>
                <a:lnTo>
                  <a:pt x="0" y="111"/>
                </a:lnTo>
                <a:lnTo>
                  <a:pt x="45" y="75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11320" y="446256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72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5720" y="4267080"/>
            <a:ext cx="0" cy="39600"/>
          </a:xfrm>
          <a:custGeom>
            <a:avLst/>
            <a:gdLst/>
            <a:ahLst/>
            <a:rect l="0" t="0" r="r" b="b"/>
            <a:pathLst>
              <a:path fill="none" w="0" h="110">
                <a:moveTo>
                  <a:pt x="0" y="0"/>
                </a:moveTo>
                <a:lnTo>
                  <a:pt x="0" y="110"/>
                </a:lnTo>
                <a:lnTo>
                  <a:pt x="0" y="70"/>
                </a:lnTo>
                <a:lnTo>
                  <a:pt x="0" y="11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2572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111"/>
                </a:lnTo>
                <a:lnTo>
                  <a:pt x="72" y="111"/>
                </a:lnTo>
                <a:lnTo>
                  <a:pt x="7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25720" y="38656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0"/>
                </a:moveTo>
                <a:lnTo>
                  <a:pt x="85" y="107"/>
                </a:lnTo>
                <a:lnTo>
                  <a:pt x="85" y="71"/>
                </a:lnTo>
                <a:lnTo>
                  <a:pt x="85" y="107"/>
                </a:lnTo>
                <a:lnTo>
                  <a:pt x="85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25720" y="367020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0"/>
                </a:moveTo>
                <a:lnTo>
                  <a:pt x="173" y="107"/>
                </a:lnTo>
                <a:lnTo>
                  <a:pt x="128" y="71"/>
                </a:lnTo>
                <a:lnTo>
                  <a:pt x="173" y="107"/>
                </a:lnTo>
                <a:lnTo>
                  <a:pt x="128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25720" y="347508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0"/>
                </a:moveTo>
                <a:lnTo>
                  <a:pt x="213" y="111"/>
                </a:lnTo>
                <a:lnTo>
                  <a:pt x="173" y="75"/>
                </a:lnTo>
                <a:lnTo>
                  <a:pt x="213" y="111"/>
                </a:lnTo>
                <a:lnTo>
                  <a:pt x="173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25720" y="3281400"/>
            <a:ext cx="92520" cy="38520"/>
          </a:xfrm>
          <a:custGeom>
            <a:avLst/>
            <a:gdLst/>
            <a:ahLst/>
            <a:rect l="0" t="0" r="r" b="b"/>
            <a:pathLst>
              <a:path fill="none" w="257" h="107">
                <a:moveTo>
                  <a:pt x="0" y="0"/>
                </a:moveTo>
                <a:lnTo>
                  <a:pt x="257" y="107"/>
                </a:lnTo>
                <a:lnTo>
                  <a:pt x="213" y="71"/>
                </a:lnTo>
                <a:lnTo>
                  <a:pt x="257" y="107"/>
                </a:lnTo>
                <a:lnTo>
                  <a:pt x="17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25720" y="308592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56" y="35"/>
                </a:lnTo>
                <a:lnTo>
                  <a:pt x="296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25720" y="287820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0" y="0"/>
                </a:moveTo>
                <a:lnTo>
                  <a:pt x="341" y="147"/>
                </a:lnTo>
                <a:lnTo>
                  <a:pt x="297" y="75"/>
                </a:lnTo>
                <a:lnTo>
                  <a:pt x="341" y="147"/>
                </a:lnTo>
                <a:lnTo>
                  <a:pt x="257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25720" y="2684520"/>
            <a:ext cx="138600" cy="51120"/>
          </a:xfrm>
          <a:custGeom>
            <a:avLst/>
            <a:gdLst/>
            <a:ahLst/>
            <a:rect l="0" t="0" r="r" b="b"/>
            <a:pathLst>
              <a:path fill="none" w="385" h="142">
                <a:moveTo>
                  <a:pt x="0" y="0"/>
                </a:moveTo>
                <a:lnTo>
                  <a:pt x="385" y="106"/>
                </a:lnTo>
                <a:lnTo>
                  <a:pt x="297" y="70"/>
                </a:lnTo>
                <a:lnTo>
                  <a:pt x="385" y="106"/>
                </a:lnTo>
                <a:lnTo>
                  <a:pt x="297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25720" y="248904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0" y="0"/>
                </a:moveTo>
                <a:lnTo>
                  <a:pt x="424" y="106"/>
                </a:lnTo>
                <a:lnTo>
                  <a:pt x="340" y="71"/>
                </a:lnTo>
                <a:lnTo>
                  <a:pt x="424" y="106"/>
                </a:lnTo>
                <a:lnTo>
                  <a:pt x="34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25720" y="2293920"/>
            <a:ext cx="168480" cy="52920"/>
          </a:xfrm>
          <a:custGeom>
            <a:avLst/>
            <a:gdLst/>
            <a:ahLst/>
            <a:rect l="0" t="0" r="r" b="b"/>
            <a:pathLst>
              <a:path fill="none" w="468" h="147">
                <a:moveTo>
                  <a:pt x="0" y="0"/>
                </a:moveTo>
                <a:lnTo>
                  <a:pt x="468" y="112"/>
                </a:lnTo>
                <a:lnTo>
                  <a:pt x="384" y="35"/>
                </a:lnTo>
                <a:lnTo>
                  <a:pt x="468" y="112"/>
                </a:lnTo>
                <a:lnTo>
                  <a:pt x="384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55960" y="6227640"/>
            <a:ext cx="168480" cy="51120"/>
          </a:xfrm>
          <a:custGeom>
            <a:avLst/>
            <a:gdLst/>
            <a:ahLst/>
            <a:rect l="0" t="0" r="r" b="b"/>
            <a:pathLst>
              <a:path fill="none" w="468" h="142">
                <a:moveTo>
                  <a:pt x="468" y="0"/>
                </a:moveTo>
                <a:lnTo>
                  <a:pt x="0" y="106"/>
                </a:lnTo>
                <a:lnTo>
                  <a:pt x="88" y="142"/>
                </a:lnTo>
                <a:lnTo>
                  <a:pt x="0" y="106"/>
                </a:lnTo>
                <a:lnTo>
                  <a:pt x="88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87640" y="583740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380" y="0"/>
                </a:moveTo>
                <a:lnTo>
                  <a:pt x="0" y="111"/>
                </a:lnTo>
                <a:lnTo>
                  <a:pt x="83" y="111"/>
                </a:lnTo>
                <a:lnTo>
                  <a:pt x="0" y="111"/>
                </a:lnTo>
                <a:lnTo>
                  <a:pt x="83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02040" y="564372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17880" y="5435640"/>
            <a:ext cx="106560" cy="52920"/>
          </a:xfrm>
          <a:custGeom>
            <a:avLst/>
            <a:gdLst/>
            <a:ahLst/>
            <a:rect l="0" t="0" r="r" b="b"/>
            <a:pathLst>
              <a:path fill="none" w="296" h="147">
                <a:moveTo>
                  <a:pt x="296" y="0"/>
                </a:moveTo>
                <a:lnTo>
                  <a:pt x="0" y="147"/>
                </a:lnTo>
                <a:lnTo>
                  <a:pt x="83" y="147"/>
                </a:lnTo>
                <a:lnTo>
                  <a:pt x="0" y="14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32280" y="524016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257" y="0"/>
                </a:moveTo>
                <a:lnTo>
                  <a:pt x="0" y="147"/>
                </a:lnTo>
                <a:lnTo>
                  <a:pt x="89" y="112"/>
                </a:lnTo>
                <a:lnTo>
                  <a:pt x="0" y="147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50468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63960" y="485136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169" y="0"/>
                </a:moveTo>
                <a:lnTo>
                  <a:pt x="0" y="107"/>
                </a:lnTo>
                <a:lnTo>
                  <a:pt x="39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94200" y="465624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85" y="0"/>
                </a:move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08240" y="446256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0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08240" y="426708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0"/>
                </a:moveTo>
                <a:lnTo>
                  <a:pt x="72" y="111"/>
                </a:lnTo>
                <a:lnTo>
                  <a:pt x="72" y="71"/>
                </a:lnTo>
                <a:lnTo>
                  <a:pt x="72" y="111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405936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0" y="0"/>
                </a:moveTo>
                <a:lnTo>
                  <a:pt x="72" y="147"/>
                </a:lnTo>
                <a:lnTo>
                  <a:pt x="72" y="112"/>
                </a:lnTo>
                <a:lnTo>
                  <a:pt x="72" y="147"/>
                </a:lnTo>
                <a:lnTo>
                  <a:pt x="0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65680"/>
            <a:ext cx="30600" cy="51120"/>
          </a:xfrm>
          <a:custGeom>
            <a:avLst/>
            <a:gdLst/>
            <a:ahLst/>
            <a:rect l="0" t="0" r="r" b="b"/>
            <a:pathLst>
              <a:path fill="none" w="85" h="142">
                <a:moveTo>
                  <a:pt x="0" y="0"/>
                </a:moveTo>
                <a:lnTo>
                  <a:pt x="85" y="142"/>
                </a:lnTo>
                <a:lnTo>
                  <a:pt x="85" y="106"/>
                </a:lnTo>
                <a:lnTo>
                  <a:pt x="85" y="142"/>
                </a:lnTo>
                <a:lnTo>
                  <a:pt x="45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367020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0"/>
                </a:moveTo>
                <a:lnTo>
                  <a:pt x="129" y="107"/>
                </a:lnTo>
                <a:lnTo>
                  <a:pt x="84" y="71"/>
                </a:lnTo>
                <a:lnTo>
                  <a:pt x="129" y="107"/>
                </a:lnTo>
                <a:lnTo>
                  <a:pt x="84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4750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0"/>
                </a:moveTo>
                <a:lnTo>
                  <a:pt x="169" y="111"/>
                </a:lnTo>
                <a:lnTo>
                  <a:pt x="129" y="75"/>
                </a:lnTo>
                <a:lnTo>
                  <a:pt x="169" y="111"/>
                </a:lnTo>
                <a:lnTo>
                  <a:pt x="129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32814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0"/>
                </a:moveTo>
                <a:lnTo>
                  <a:pt x="213" y="107"/>
                </a:lnTo>
                <a:lnTo>
                  <a:pt x="169" y="71"/>
                </a:lnTo>
                <a:lnTo>
                  <a:pt x="213" y="107"/>
                </a:lnTo>
                <a:lnTo>
                  <a:pt x="16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8592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0"/>
                </a:moveTo>
                <a:lnTo>
                  <a:pt x="257" y="111"/>
                </a:lnTo>
                <a:lnTo>
                  <a:pt x="213" y="71"/>
                </a:lnTo>
                <a:lnTo>
                  <a:pt x="257" y="111"/>
                </a:lnTo>
                <a:lnTo>
                  <a:pt x="213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878200"/>
            <a:ext cx="106560" cy="52920"/>
          </a:xfrm>
          <a:custGeom>
            <a:avLst/>
            <a:gdLst/>
            <a:ahLst/>
            <a:rect l="0" t="0" r="r" b="b"/>
            <a:pathLst>
              <a:path fill="none" w="296" h="147">
                <a:moveTo>
                  <a:pt x="0" y="0"/>
                </a:moveTo>
                <a:lnTo>
                  <a:pt x="296" y="147"/>
                </a:lnTo>
                <a:lnTo>
                  <a:pt x="256" y="75"/>
                </a:lnTo>
                <a:lnTo>
                  <a:pt x="296" y="147"/>
                </a:lnTo>
                <a:lnTo>
                  <a:pt x="25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68452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0" y="0"/>
                </a:moveTo>
                <a:lnTo>
                  <a:pt x="341" y="142"/>
                </a:lnTo>
                <a:lnTo>
                  <a:pt x="297" y="70"/>
                </a:lnTo>
                <a:lnTo>
                  <a:pt x="341" y="142"/>
                </a:lnTo>
                <a:lnTo>
                  <a:pt x="257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489040"/>
            <a:ext cx="136800" cy="52920"/>
          </a:xfrm>
          <a:custGeom>
            <a:avLst/>
            <a:gdLst/>
            <a:ahLst/>
            <a:rect l="0" t="0" r="r" b="b"/>
            <a:pathLst>
              <a:path fill="none" w="380" h="147">
                <a:moveTo>
                  <a:pt x="0" y="0"/>
                </a:moveTo>
                <a:lnTo>
                  <a:pt x="380" y="106"/>
                </a:lnTo>
                <a:lnTo>
                  <a:pt x="340" y="71"/>
                </a:lnTo>
                <a:lnTo>
                  <a:pt x="380" y="106"/>
                </a:lnTo>
                <a:lnTo>
                  <a:pt x="29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293920"/>
            <a:ext cx="168480" cy="52920"/>
          </a:xfrm>
          <a:custGeom>
            <a:avLst/>
            <a:gdLst/>
            <a:ahLst/>
            <a:rect l="0" t="0" r="r" b="b"/>
            <a:pathLst>
              <a:path fill="none" w="468" h="147">
                <a:moveTo>
                  <a:pt x="0" y="0"/>
                </a:moveTo>
                <a:lnTo>
                  <a:pt x="468" y="112"/>
                </a:lnTo>
                <a:lnTo>
                  <a:pt x="380" y="75"/>
                </a:lnTo>
                <a:lnTo>
                  <a:pt x="468" y="112"/>
                </a:lnTo>
                <a:lnTo>
                  <a:pt x="34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9920" y="6227640"/>
            <a:ext cx="167040" cy="38520"/>
          </a:xfrm>
          <a:custGeom>
            <a:avLst/>
            <a:gdLst/>
            <a:ahLst/>
            <a:rect l="0" t="0" r="r" b="b"/>
            <a:pathLst>
              <a:path fill="none" w="464" h="107">
                <a:moveTo>
                  <a:pt x="464" y="0"/>
                </a:moveTo>
                <a:lnTo>
                  <a:pt x="0" y="107"/>
                </a:lnTo>
                <a:lnTo>
                  <a:pt x="12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5432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70160" y="583740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380" y="0"/>
                </a:moveTo>
                <a:lnTo>
                  <a:pt x="0" y="111"/>
                </a:lnTo>
                <a:lnTo>
                  <a:pt x="83" y="111"/>
                </a:lnTo>
                <a:lnTo>
                  <a:pt x="0" y="111"/>
                </a:lnTo>
                <a:lnTo>
                  <a:pt x="83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64372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16240" y="5435640"/>
            <a:ext cx="90720" cy="38520"/>
          </a:xfrm>
          <a:custGeom>
            <a:avLst/>
            <a:gdLst/>
            <a:ahLst/>
            <a:rect l="0" t="0" r="r" b="b"/>
            <a:pathLst>
              <a:path fill="none" w="252" h="107">
                <a:moveTo>
                  <a:pt x="252" y="0"/>
                </a:moveTo>
                <a:lnTo>
                  <a:pt x="0" y="107"/>
                </a:lnTo>
                <a:lnTo>
                  <a:pt x="39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30640" y="524016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213" y="0"/>
                </a:moveTo>
                <a:lnTo>
                  <a:pt x="0" y="111"/>
                </a:lnTo>
                <a:lnTo>
                  <a:pt x="44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6480" y="504684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169" y="0"/>
                </a:moveTo>
                <a:lnTo>
                  <a:pt x="0" y="107"/>
                </a:lnTo>
                <a:lnTo>
                  <a:pt x="39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0880" y="485136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465624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85" y="0"/>
                </a:moveTo>
                <a:lnTo>
                  <a:pt x="0" y="111"/>
                </a:lnTo>
                <a:lnTo>
                  <a:pt x="45" y="75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92560" y="446256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0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06600" y="4267080"/>
            <a:ext cx="0" cy="39600"/>
          </a:xfrm>
          <a:custGeom>
            <a:avLst/>
            <a:gdLst/>
            <a:ahLst/>
            <a:rect l="0" t="0" r="r" b="b"/>
            <a:pathLst>
              <a:path fill="none" w="0" h="110">
                <a:moveTo>
                  <a:pt x="0" y="0"/>
                </a:moveTo>
                <a:lnTo>
                  <a:pt x="0" y="110"/>
                </a:lnTo>
                <a:lnTo>
                  <a:pt x="0" y="70"/>
                </a:lnTo>
                <a:lnTo>
                  <a:pt x="0" y="11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0660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111"/>
                </a:lnTo>
                <a:lnTo>
                  <a:pt x="72" y="111"/>
                </a:lnTo>
                <a:lnTo>
                  <a:pt x="7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06600" y="38656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0"/>
                </a:moveTo>
                <a:lnTo>
                  <a:pt x="85" y="107"/>
                </a:lnTo>
                <a:lnTo>
                  <a:pt x="85" y="71"/>
                </a:lnTo>
                <a:lnTo>
                  <a:pt x="85" y="107"/>
                </a:lnTo>
                <a:lnTo>
                  <a:pt x="85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06600" y="367020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0"/>
                </a:moveTo>
                <a:lnTo>
                  <a:pt x="129" y="107"/>
                </a:lnTo>
                <a:lnTo>
                  <a:pt x="129" y="71"/>
                </a:lnTo>
                <a:lnTo>
                  <a:pt x="129" y="107"/>
                </a:lnTo>
                <a:lnTo>
                  <a:pt x="12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06600" y="347508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0" y="0"/>
                </a:moveTo>
                <a:lnTo>
                  <a:pt x="173" y="111"/>
                </a:lnTo>
                <a:lnTo>
                  <a:pt x="173" y="75"/>
                </a:lnTo>
                <a:lnTo>
                  <a:pt x="173" y="111"/>
                </a:lnTo>
                <a:lnTo>
                  <a:pt x="128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06600" y="3281400"/>
            <a:ext cx="92520" cy="38520"/>
          </a:xfrm>
          <a:custGeom>
            <a:avLst/>
            <a:gdLst/>
            <a:ahLst/>
            <a:rect l="0" t="0" r="r" b="b"/>
            <a:pathLst>
              <a:path fill="none" w="257" h="107">
                <a:moveTo>
                  <a:pt x="0" y="0"/>
                </a:moveTo>
                <a:lnTo>
                  <a:pt x="257" y="107"/>
                </a:lnTo>
                <a:lnTo>
                  <a:pt x="213" y="71"/>
                </a:lnTo>
                <a:lnTo>
                  <a:pt x="257" y="107"/>
                </a:lnTo>
                <a:lnTo>
                  <a:pt x="17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06600" y="308592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12" y="35"/>
                </a:lnTo>
                <a:lnTo>
                  <a:pt x="296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06600" y="287820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0" y="0"/>
                </a:moveTo>
                <a:lnTo>
                  <a:pt x="341" y="112"/>
                </a:lnTo>
                <a:lnTo>
                  <a:pt x="257" y="75"/>
                </a:lnTo>
                <a:lnTo>
                  <a:pt x="341" y="112"/>
                </a:lnTo>
                <a:lnTo>
                  <a:pt x="257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06600" y="2684520"/>
            <a:ext cx="138600" cy="51120"/>
          </a:xfrm>
          <a:custGeom>
            <a:avLst/>
            <a:gdLst/>
            <a:ahLst/>
            <a:rect l="0" t="0" r="r" b="b"/>
            <a:pathLst>
              <a:path fill="none" w="385" h="142">
                <a:moveTo>
                  <a:pt x="0" y="0"/>
                </a:moveTo>
                <a:lnTo>
                  <a:pt x="385" y="106"/>
                </a:lnTo>
                <a:lnTo>
                  <a:pt x="297" y="70"/>
                </a:lnTo>
                <a:lnTo>
                  <a:pt x="385" y="106"/>
                </a:lnTo>
                <a:lnTo>
                  <a:pt x="297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06600" y="248904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0" y="0"/>
                </a:moveTo>
                <a:lnTo>
                  <a:pt x="424" y="106"/>
                </a:lnTo>
                <a:lnTo>
                  <a:pt x="340" y="71"/>
                </a:lnTo>
                <a:lnTo>
                  <a:pt x="424" y="106"/>
                </a:lnTo>
                <a:lnTo>
                  <a:pt x="34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06600" y="2293920"/>
            <a:ext cx="168480" cy="39960"/>
          </a:xfrm>
          <a:custGeom>
            <a:avLst/>
            <a:gdLst/>
            <a:ahLst/>
            <a:rect l="0" t="0" r="r" b="b"/>
            <a:pathLst>
              <a:path fill="none" w="468" h="111">
                <a:moveTo>
                  <a:pt x="0" y="0"/>
                </a:moveTo>
                <a:lnTo>
                  <a:pt x="468" y="111"/>
                </a:lnTo>
                <a:lnTo>
                  <a:pt x="384" y="35"/>
                </a:lnTo>
                <a:lnTo>
                  <a:pt x="468" y="111"/>
                </a:lnTo>
                <a:lnTo>
                  <a:pt x="384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36840" y="622764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71"/>
                </a:lnTo>
                <a:lnTo>
                  <a:pt x="88" y="107"/>
                </a:lnTo>
                <a:lnTo>
                  <a:pt x="0" y="71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71"/>
                </a:lnTo>
                <a:lnTo>
                  <a:pt x="83" y="107"/>
                </a:lnTo>
                <a:lnTo>
                  <a:pt x="0" y="71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68520" y="583740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380" y="0"/>
                </a:moveTo>
                <a:lnTo>
                  <a:pt x="0" y="76"/>
                </a:lnTo>
                <a:lnTo>
                  <a:pt x="83" y="76"/>
                </a:lnTo>
                <a:lnTo>
                  <a:pt x="0" y="76"/>
                </a:lnTo>
                <a:lnTo>
                  <a:pt x="39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82920" y="564372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98760" y="543564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39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3160" y="524016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0"/>
                </a:moveTo>
                <a:lnTo>
                  <a:pt x="0" y="75"/>
                </a:lnTo>
                <a:lnTo>
                  <a:pt x="44" y="111"/>
                </a:lnTo>
                <a:lnTo>
                  <a:pt x="0" y="75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0468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44840" y="48513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59240" y="4656240"/>
            <a:ext cx="46440" cy="27360"/>
          </a:xfrm>
          <a:custGeom>
            <a:avLst/>
            <a:gdLst/>
            <a:ahLst/>
            <a:rect l="0" t="0" r="r" b="b"/>
            <a:pathLst>
              <a:path fill="none" w="129" h="76">
                <a:moveTo>
                  <a:pt x="129" y="0"/>
                </a:moveTo>
                <a:lnTo>
                  <a:pt x="0" y="76"/>
                </a:lnTo>
                <a:lnTo>
                  <a:pt x="45" y="76"/>
                </a:lnTo>
                <a:lnTo>
                  <a:pt x="0" y="76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75080" y="446256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0" y="72"/>
                </a:lnTo>
                <a:lnTo>
                  <a:pt x="0" y="72"/>
                </a:lnTo>
                <a:lnTo>
                  <a:pt x="4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89480" y="42670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72" y="72"/>
                </a:lnTo>
                <a:lnTo>
                  <a:pt x="72" y="36"/>
                </a:lnTo>
                <a:lnTo>
                  <a:pt x="72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75"/>
                </a:lnTo>
                <a:lnTo>
                  <a:pt x="72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3865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45" y="72"/>
                </a:lnTo>
                <a:lnTo>
                  <a:pt x="85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3670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84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47508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0" y="0"/>
                </a:moveTo>
                <a:lnTo>
                  <a:pt x="169" y="76"/>
                </a:lnTo>
                <a:lnTo>
                  <a:pt x="129" y="36"/>
                </a:lnTo>
                <a:lnTo>
                  <a:pt x="169" y="76"/>
                </a:lnTo>
                <a:lnTo>
                  <a:pt x="129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36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30859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36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287820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56" y="35"/>
                </a:lnTo>
                <a:lnTo>
                  <a:pt x="296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268452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0" y="0"/>
                </a:moveTo>
                <a:lnTo>
                  <a:pt x="341" y="107"/>
                </a:lnTo>
                <a:lnTo>
                  <a:pt x="297" y="36"/>
                </a:lnTo>
                <a:lnTo>
                  <a:pt x="341" y="107"/>
                </a:lnTo>
                <a:lnTo>
                  <a:pt x="257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05320" y="2489040"/>
            <a:ext cx="136800" cy="38520"/>
          </a:xfrm>
          <a:custGeom>
            <a:avLst/>
            <a:gdLst/>
            <a:ahLst/>
            <a:rect l="0" t="0" r="r" b="b"/>
            <a:pathLst>
              <a:path fill="none" w="380" h="107">
                <a:moveTo>
                  <a:pt x="0" y="0"/>
                </a:moveTo>
                <a:lnTo>
                  <a:pt x="380" y="71"/>
                </a:lnTo>
                <a:lnTo>
                  <a:pt x="296" y="36"/>
                </a:lnTo>
                <a:lnTo>
                  <a:pt x="380" y="71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2293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0"/>
                </a:moveTo>
                <a:lnTo>
                  <a:pt x="424" y="75"/>
                </a:lnTo>
                <a:lnTo>
                  <a:pt x="340" y="35"/>
                </a:lnTo>
                <a:lnTo>
                  <a:pt x="424" y="75"/>
                </a:lnTo>
                <a:lnTo>
                  <a:pt x="34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21160" y="6227640"/>
            <a:ext cx="167040" cy="25920"/>
          </a:xfrm>
          <a:custGeom>
            <a:avLst/>
            <a:gdLst/>
            <a:ahLst/>
            <a:rect l="0" t="0" r="r" b="b"/>
            <a:pathLst>
              <a:path fill="none" w="464" h="72">
                <a:moveTo>
                  <a:pt x="464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35200" y="60325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51400" y="583740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380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5440" y="564372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0"/>
                </a:moveTo>
                <a:lnTo>
                  <a:pt x="0" y="72"/>
                </a:lnTo>
                <a:lnTo>
                  <a:pt x="89" y="72"/>
                </a:lnTo>
                <a:lnTo>
                  <a:pt x="0" y="72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54356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11520" y="524016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213" y="0"/>
                </a:moveTo>
                <a:lnTo>
                  <a:pt x="0" y="36"/>
                </a:lnTo>
                <a:lnTo>
                  <a:pt x="44" y="76"/>
                </a:lnTo>
                <a:lnTo>
                  <a:pt x="0" y="36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27360" y="50468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41760" y="48513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465624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7344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87840" y="42670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0"/>
                </a:lnTo>
                <a:lnTo>
                  <a:pt x="0" y="7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87840" y="40593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87840" y="3865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85" y="72"/>
                </a:lnTo>
                <a:lnTo>
                  <a:pt x="85" y="72"/>
                </a:lnTo>
                <a:lnTo>
                  <a:pt x="8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87840" y="3670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129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87840" y="34750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784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7840" y="30859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0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87840" y="287820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0" y="0"/>
                </a:moveTo>
                <a:lnTo>
                  <a:pt x="341" y="76"/>
                </a:lnTo>
                <a:lnTo>
                  <a:pt x="257" y="36"/>
                </a:lnTo>
                <a:lnTo>
                  <a:pt x="341" y="76"/>
                </a:lnTo>
                <a:lnTo>
                  <a:pt x="25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87840" y="268452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0" y="0"/>
                </a:moveTo>
                <a:lnTo>
                  <a:pt x="385" y="36"/>
                </a:lnTo>
                <a:lnTo>
                  <a:pt x="297" y="0"/>
                </a:lnTo>
                <a:lnTo>
                  <a:pt x="385" y="36"/>
                </a:lnTo>
                <a:lnTo>
                  <a:pt x="29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87840" y="24890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0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7840" y="229392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0" y="0"/>
                </a:moveTo>
                <a:lnTo>
                  <a:pt x="468" y="36"/>
                </a:lnTo>
                <a:lnTo>
                  <a:pt x="384" y="0"/>
                </a:lnTo>
                <a:lnTo>
                  <a:pt x="468" y="36"/>
                </a:lnTo>
                <a:lnTo>
                  <a:pt x="384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18080" y="6213600"/>
            <a:ext cx="152640" cy="27360"/>
          </a:xfrm>
          <a:custGeom>
            <a:avLst/>
            <a:gdLst/>
            <a:ahLst/>
            <a:rect l="0" t="0" r="r" b="b"/>
            <a:pathLst>
              <a:path fill="none" w="424" h="76">
                <a:moveTo>
                  <a:pt x="424" y="40"/>
                </a:moveTo>
                <a:lnTo>
                  <a:pt x="0" y="40"/>
                </a:lnTo>
                <a:lnTo>
                  <a:pt x="88" y="76"/>
                </a:lnTo>
                <a:lnTo>
                  <a:pt x="0" y="4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601992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380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749760" y="5824440"/>
            <a:ext cx="120960" cy="25920"/>
          </a:xfrm>
          <a:custGeom>
            <a:avLst/>
            <a:gdLst/>
            <a:ahLst/>
            <a:rect l="0" t="0" r="r" b="b"/>
            <a:pathLst>
              <a:path fill="none" w="336" h="72">
                <a:moveTo>
                  <a:pt x="336" y="72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63800" y="563076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80000" y="543564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0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94040" y="5240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5046840"/>
            <a:ext cx="60120" cy="0"/>
          </a:xfrm>
          <a:custGeom>
            <a:avLst/>
            <a:gdLst/>
            <a:ahLst/>
            <a:rect l="0" t="0" r="r" b="b"/>
            <a:pathLst>
              <a:path fill="none" w="167" h="0">
                <a:moveTo>
                  <a:pt x="167" y="0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25720" y="4838760"/>
            <a:ext cx="44640" cy="25920"/>
          </a:xfrm>
          <a:custGeom>
            <a:avLst/>
            <a:gdLst/>
            <a:ahLst/>
            <a:rect l="0" t="0" r="r" b="b"/>
            <a:pathLst>
              <a:path fill="none" w="124" h="72">
                <a:moveTo>
                  <a:pt x="124" y="72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40120" y="46432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5960" y="44481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70360" y="42544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70360" y="40593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0" y="0"/>
                </a:move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70360" y="386568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0" y="0"/>
                </a:moveTo>
                <a:lnTo>
                  <a:pt x="127" y="0"/>
                </a:lnTo>
                <a:lnTo>
                  <a:pt x="88" y="0"/>
                </a:lnTo>
                <a:lnTo>
                  <a:pt x="127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70360" y="367020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70360" y="3462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70360" y="326700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72"/>
                </a:moveTo>
                <a:lnTo>
                  <a:pt x="257" y="72"/>
                </a:lnTo>
                <a:lnTo>
                  <a:pt x="213" y="0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70360" y="307332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72"/>
                </a:moveTo>
                <a:lnTo>
                  <a:pt x="301" y="0"/>
                </a:lnTo>
                <a:lnTo>
                  <a:pt x="257" y="0"/>
                </a:lnTo>
                <a:lnTo>
                  <a:pt x="30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70360" y="28782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0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70360" y="2670120"/>
            <a:ext cx="138600" cy="27360"/>
          </a:xfrm>
          <a:custGeom>
            <a:avLst/>
            <a:gdLst/>
            <a:ahLst/>
            <a:rect l="0" t="0" r="r" b="b"/>
            <a:pathLst>
              <a:path fill="none" w="385" h="76">
                <a:moveTo>
                  <a:pt x="0" y="40"/>
                </a:moveTo>
                <a:lnTo>
                  <a:pt x="385" y="40"/>
                </a:lnTo>
                <a:lnTo>
                  <a:pt x="301" y="0"/>
                </a:lnTo>
                <a:lnTo>
                  <a:pt x="385" y="40"/>
                </a:lnTo>
                <a:lnTo>
                  <a:pt x="301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70360" y="24764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36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70360" y="228132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36"/>
                </a:moveTo>
                <a:lnTo>
                  <a:pt x="468" y="36"/>
                </a:lnTo>
                <a:lnTo>
                  <a:pt x="384" y="0"/>
                </a:lnTo>
                <a:lnTo>
                  <a:pt x="468" y="36"/>
                </a:lnTo>
                <a:lnTo>
                  <a:pt x="3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02040" y="6200640"/>
            <a:ext cx="167040" cy="27360"/>
          </a:xfrm>
          <a:custGeom>
            <a:avLst/>
            <a:gdLst/>
            <a:ahLst/>
            <a:rect l="0" t="0" r="r" b="b"/>
            <a:pathLst>
              <a:path fill="none" w="464" h="76">
                <a:moveTo>
                  <a:pt x="464" y="76"/>
                </a:moveTo>
                <a:lnTo>
                  <a:pt x="0" y="36"/>
                </a:lnTo>
                <a:lnTo>
                  <a:pt x="83" y="76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16440" y="600696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72"/>
                </a:moveTo>
                <a:lnTo>
                  <a:pt x="0" y="0"/>
                </a:lnTo>
                <a:lnTo>
                  <a:pt x="83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2280" y="581184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380" y="72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46680" y="561672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341" y="76"/>
                </a:moveTo>
                <a:lnTo>
                  <a:pt x="0" y="0"/>
                </a:lnTo>
                <a:lnTo>
                  <a:pt x="89" y="40"/>
                </a:lnTo>
                <a:lnTo>
                  <a:pt x="0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54230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78360" y="522756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72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92400" y="50324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22640" y="48261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38480" y="4630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54320" y="4435560"/>
            <a:ext cx="25920" cy="27360"/>
          </a:xfrm>
          <a:custGeom>
            <a:avLst/>
            <a:gdLst/>
            <a:ahLst/>
            <a:rect l="0" t="0" r="r" b="b"/>
            <a:pathLst>
              <a:path fill="none" w="72" h="76">
                <a:moveTo>
                  <a:pt x="72" y="76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8720" y="42418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068720" y="40464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68720" y="38512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72"/>
                </a:moveTo>
                <a:lnTo>
                  <a:pt x="85" y="0"/>
                </a:lnTo>
                <a:lnTo>
                  <a:pt x="45" y="0"/>
                </a:lnTo>
                <a:lnTo>
                  <a:pt x="85" y="0"/>
                </a:lnTo>
                <a:lnTo>
                  <a:pt x="8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8720" y="36576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84" y="0"/>
                </a:lnTo>
                <a:lnTo>
                  <a:pt x="129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68720" y="344952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2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68720" y="325440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0" y="76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68720" y="30607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72"/>
                </a:moveTo>
                <a:lnTo>
                  <a:pt x="257" y="0"/>
                </a:lnTo>
                <a:lnTo>
                  <a:pt x="213" y="0"/>
                </a:lnTo>
                <a:lnTo>
                  <a:pt x="257" y="0"/>
                </a:lnTo>
                <a:lnTo>
                  <a:pt x="21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68720" y="286560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0"/>
                </a:lnTo>
                <a:lnTo>
                  <a:pt x="256" y="0"/>
                </a:lnTo>
                <a:lnTo>
                  <a:pt x="296" y="0"/>
                </a:lnTo>
                <a:lnTo>
                  <a:pt x="25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68720" y="265752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0" y="76"/>
                </a:moveTo>
                <a:lnTo>
                  <a:pt x="341" y="36"/>
                </a:lnTo>
                <a:lnTo>
                  <a:pt x="297" y="0"/>
                </a:lnTo>
                <a:lnTo>
                  <a:pt x="341" y="36"/>
                </a:lnTo>
                <a:lnTo>
                  <a:pt x="29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68720" y="24638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72"/>
                </a:moveTo>
                <a:lnTo>
                  <a:pt x="424" y="36"/>
                </a:lnTo>
                <a:lnTo>
                  <a:pt x="296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68720" y="226836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72"/>
                </a:moveTo>
                <a:lnTo>
                  <a:pt x="468" y="36"/>
                </a:lnTo>
                <a:lnTo>
                  <a:pt x="340" y="0"/>
                </a:lnTo>
                <a:lnTo>
                  <a:pt x="468" y="36"/>
                </a:lnTo>
                <a:lnTo>
                  <a:pt x="3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84560" y="6188040"/>
            <a:ext cx="167040" cy="39960"/>
          </a:xfrm>
          <a:custGeom>
            <a:avLst/>
            <a:gdLst/>
            <a:ahLst/>
            <a:rect l="0" t="0" r="r" b="b"/>
            <a:pathLst>
              <a:path fill="none" w="464" h="111">
                <a:moveTo>
                  <a:pt x="464" y="111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098960" y="5992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0"/>
                </a:lnTo>
                <a:lnTo>
                  <a:pt x="88" y="7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30640" y="5799240"/>
            <a:ext cx="120960" cy="38520"/>
          </a:xfrm>
          <a:custGeom>
            <a:avLst/>
            <a:gdLst/>
            <a:ahLst/>
            <a:rect l="0" t="0" r="r" b="b"/>
            <a:pathLst>
              <a:path fill="none" w="336" h="107">
                <a:moveTo>
                  <a:pt x="336" y="107"/>
                </a:moveTo>
                <a:lnTo>
                  <a:pt x="0" y="0"/>
                </a:lnTo>
                <a:lnTo>
                  <a:pt x="39" y="71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45040" y="560376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296" y="111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60880" y="541008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72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75280" y="5214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501984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169" y="76"/>
                </a:moveTo>
                <a:lnTo>
                  <a:pt x="0" y="0"/>
                </a:lnTo>
                <a:lnTo>
                  <a:pt x="45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06960" y="4811760"/>
            <a:ext cx="44640" cy="39960"/>
          </a:xfrm>
          <a:custGeom>
            <a:avLst/>
            <a:gdLst/>
            <a:ahLst/>
            <a:rect l="0" t="0" r="r" b="b"/>
            <a:pathLst>
              <a:path fill="none" w="124" h="111">
                <a:moveTo>
                  <a:pt x="124" y="111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3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2100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37200" y="442260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1240" y="4228920"/>
            <a:ext cx="0" cy="37800"/>
          </a:xfrm>
          <a:custGeom>
            <a:avLst/>
            <a:gdLst/>
            <a:ahLst/>
            <a:rect l="0" t="0" r="r" b="b"/>
            <a:pathLst>
              <a:path fill="none" w="0" h="105">
                <a:moveTo>
                  <a:pt x="0" y="10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51240" y="40338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51240" y="3838680"/>
            <a:ext cx="32040" cy="27360"/>
          </a:xfrm>
          <a:custGeom>
            <a:avLst/>
            <a:gdLst/>
            <a:ahLst/>
            <a:rect l="0" t="0" r="r" b="b"/>
            <a:pathLst>
              <a:path fill="none" w="89" h="76">
                <a:moveTo>
                  <a:pt x="0" y="76"/>
                </a:move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51240" y="36450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129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51240" y="343692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51240" y="324180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111"/>
                </a:moveTo>
                <a:lnTo>
                  <a:pt x="257" y="0"/>
                </a:lnTo>
                <a:lnTo>
                  <a:pt x="172" y="0"/>
                </a:lnTo>
                <a:lnTo>
                  <a:pt x="257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51240" y="3046320"/>
            <a:ext cx="108360" cy="39960"/>
          </a:xfrm>
          <a:custGeom>
            <a:avLst/>
            <a:gdLst/>
            <a:ahLst/>
            <a:rect l="0" t="0" r="r" b="b"/>
            <a:pathLst>
              <a:path fill="none" w="301" h="111">
                <a:moveTo>
                  <a:pt x="0" y="111"/>
                </a:moveTo>
                <a:lnTo>
                  <a:pt x="301" y="0"/>
                </a:lnTo>
                <a:lnTo>
                  <a:pt x="212" y="0"/>
                </a:lnTo>
                <a:lnTo>
                  <a:pt x="301" y="0"/>
                </a:lnTo>
                <a:lnTo>
                  <a:pt x="257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51240" y="28526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72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51240" y="264492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0" y="111"/>
                </a:moveTo>
                <a:lnTo>
                  <a:pt x="385" y="35"/>
                </a:lnTo>
                <a:lnTo>
                  <a:pt x="301" y="0"/>
                </a:lnTo>
                <a:lnTo>
                  <a:pt x="385" y="35"/>
                </a:lnTo>
                <a:lnTo>
                  <a:pt x="301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5124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39"/>
                </a:lnTo>
                <a:lnTo>
                  <a:pt x="340" y="0"/>
                </a:lnTo>
                <a:lnTo>
                  <a:pt x="424" y="39"/>
                </a:lnTo>
                <a:lnTo>
                  <a:pt x="34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1240" y="225576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0" y="107"/>
                </a:moveTo>
                <a:lnTo>
                  <a:pt x="468" y="0"/>
                </a:lnTo>
                <a:lnTo>
                  <a:pt x="384" y="0"/>
                </a:lnTo>
                <a:lnTo>
                  <a:pt x="468" y="0"/>
                </a:lnTo>
                <a:lnTo>
                  <a:pt x="38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2920" y="6175440"/>
            <a:ext cx="167040" cy="52920"/>
          </a:xfrm>
          <a:custGeom>
            <a:avLst/>
            <a:gdLst/>
            <a:ahLst/>
            <a:rect l="0" t="0" r="r" b="b"/>
            <a:pathLst>
              <a:path fill="none" w="464" h="147">
                <a:moveTo>
                  <a:pt x="464" y="147"/>
                </a:moveTo>
                <a:lnTo>
                  <a:pt x="0" y="35"/>
                </a:lnTo>
                <a:lnTo>
                  <a:pt x="83" y="106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97320" y="597996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424" y="147"/>
                </a:moveTo>
                <a:lnTo>
                  <a:pt x="0" y="35"/>
                </a:lnTo>
                <a:lnTo>
                  <a:pt x="83" y="75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313160" y="5786280"/>
            <a:ext cx="136800" cy="51120"/>
          </a:xfrm>
          <a:custGeom>
            <a:avLst/>
            <a:gdLst/>
            <a:ahLst/>
            <a:rect l="0" t="0" r="r" b="b"/>
            <a:pathLst>
              <a:path fill="none" w="380" h="142">
                <a:moveTo>
                  <a:pt x="380" y="142"/>
                </a:moveTo>
                <a:lnTo>
                  <a:pt x="0" y="35"/>
                </a:lnTo>
                <a:lnTo>
                  <a:pt x="39" y="70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27560" y="559116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341" y="147"/>
                </a:moveTo>
                <a:lnTo>
                  <a:pt x="0" y="0"/>
                </a:lnTo>
                <a:lnTo>
                  <a:pt x="44" y="71"/>
                </a:lnTo>
                <a:lnTo>
                  <a:pt x="0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539604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296" y="111"/>
                </a:moveTo>
                <a:lnTo>
                  <a:pt x="0" y="0"/>
                </a:lnTo>
                <a:lnTo>
                  <a:pt x="44" y="7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59240" y="5202360"/>
            <a:ext cx="90720" cy="38520"/>
          </a:xfrm>
          <a:custGeom>
            <a:avLst/>
            <a:gdLst/>
            <a:ahLst/>
            <a:rect l="0" t="0" r="r" b="b"/>
            <a:pathLst>
              <a:path fill="none" w="252" h="107">
                <a:moveTo>
                  <a:pt x="252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73640" y="500688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213" y="111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89480" y="481176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169" y="111"/>
                </a:moveTo>
                <a:lnTo>
                  <a:pt x="0" y="0"/>
                </a:lnTo>
                <a:lnTo>
                  <a:pt x="39" y="39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03880" y="461808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107"/>
                </a:moveTo>
                <a:lnTo>
                  <a:pt x="0" y="0"/>
                </a:lnTo>
                <a:lnTo>
                  <a:pt x="45" y="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35560" y="442260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35560" y="421488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72" y="0"/>
                </a:lnTo>
                <a:lnTo>
                  <a:pt x="0" y="40"/>
                </a:lnTo>
                <a:lnTo>
                  <a:pt x="72" y="0"/>
                </a:lnTo>
                <a:lnTo>
                  <a:pt x="72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49600" y="40212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0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49600" y="382572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0" y="111"/>
                </a:moveTo>
                <a:lnTo>
                  <a:pt x="85" y="0"/>
                </a:lnTo>
                <a:lnTo>
                  <a:pt x="45" y="0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49600" y="363060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0" y="111"/>
                </a:moveTo>
                <a:lnTo>
                  <a:pt x="129" y="0"/>
                </a:lnTo>
                <a:lnTo>
                  <a:pt x="84" y="0"/>
                </a:lnTo>
                <a:lnTo>
                  <a:pt x="129" y="0"/>
                </a:lnTo>
                <a:lnTo>
                  <a:pt x="84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449600" y="343692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2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49600" y="32418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49600" y="303372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0" y="147"/>
                </a:moveTo>
                <a:lnTo>
                  <a:pt x="257" y="0"/>
                </a:lnTo>
                <a:lnTo>
                  <a:pt x="213" y="0"/>
                </a:lnTo>
                <a:lnTo>
                  <a:pt x="257" y="0"/>
                </a:lnTo>
                <a:lnTo>
                  <a:pt x="21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49600" y="284004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0" y="107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5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49600" y="264492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0" y="111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9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49600" y="244944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0" y="111"/>
                </a:moveTo>
                <a:lnTo>
                  <a:pt x="385" y="0"/>
                </a:lnTo>
                <a:lnTo>
                  <a:pt x="297" y="0"/>
                </a:lnTo>
                <a:lnTo>
                  <a:pt x="385" y="0"/>
                </a:lnTo>
                <a:lnTo>
                  <a:pt x="341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49600" y="2243160"/>
            <a:ext cx="152640" cy="51120"/>
          </a:xfrm>
          <a:custGeom>
            <a:avLst/>
            <a:gdLst/>
            <a:ahLst/>
            <a:rect l="0" t="0" r="r" b="b"/>
            <a:pathLst>
              <a:path fill="none" w="424" h="142">
                <a:moveTo>
                  <a:pt x="0" y="142"/>
                </a:moveTo>
                <a:lnTo>
                  <a:pt x="424" y="35"/>
                </a:lnTo>
                <a:lnTo>
                  <a:pt x="340" y="0"/>
                </a:lnTo>
                <a:lnTo>
                  <a:pt x="424" y="35"/>
                </a:lnTo>
                <a:lnTo>
                  <a:pt x="34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65800" y="6175440"/>
            <a:ext cx="167040" cy="52920"/>
          </a:xfrm>
          <a:custGeom>
            <a:avLst/>
            <a:gdLst/>
            <a:ahLst/>
            <a:rect l="0" t="0" r="r" b="b"/>
            <a:pathLst>
              <a:path fill="none" w="464" h="147">
                <a:moveTo>
                  <a:pt x="464" y="147"/>
                </a:moveTo>
                <a:lnTo>
                  <a:pt x="0" y="35"/>
                </a:lnTo>
                <a:lnTo>
                  <a:pt x="83" y="71"/>
                </a:lnTo>
                <a:lnTo>
                  <a:pt x="0" y="35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79840" y="597996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424" y="147"/>
                </a:moveTo>
                <a:lnTo>
                  <a:pt x="0" y="35"/>
                </a:lnTo>
                <a:lnTo>
                  <a:pt x="88" y="75"/>
                </a:lnTo>
                <a:lnTo>
                  <a:pt x="0" y="35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5786280"/>
            <a:ext cx="136800" cy="51120"/>
          </a:xfrm>
          <a:custGeom>
            <a:avLst/>
            <a:gdLst/>
            <a:ahLst/>
            <a:rect l="0" t="0" r="r" b="b"/>
            <a:pathLst>
              <a:path fill="none" w="380" h="142">
                <a:moveTo>
                  <a:pt x="380" y="142"/>
                </a:moveTo>
                <a:lnTo>
                  <a:pt x="0" y="0"/>
                </a:lnTo>
                <a:lnTo>
                  <a:pt x="83" y="70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11520" y="5591160"/>
            <a:ext cx="120960" cy="52920"/>
          </a:xfrm>
          <a:custGeom>
            <a:avLst/>
            <a:gdLst/>
            <a:ahLst/>
            <a:rect l="0" t="0" r="r" b="b"/>
            <a:pathLst>
              <a:path fill="none" w="336" h="147">
                <a:moveTo>
                  <a:pt x="336" y="147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1760" y="5396040"/>
            <a:ext cx="90720" cy="39960"/>
          </a:xfrm>
          <a:custGeom>
            <a:avLst/>
            <a:gdLst/>
            <a:ahLst/>
            <a:rect l="0" t="0" r="r" b="b"/>
            <a:pathLst>
              <a:path fill="none" w="252" h="111">
                <a:moveTo>
                  <a:pt x="252" y="111"/>
                </a:moveTo>
                <a:lnTo>
                  <a:pt x="0" y="0"/>
                </a:lnTo>
                <a:lnTo>
                  <a:pt x="39" y="39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56160" y="520236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50068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169" y="111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87840" y="4811760"/>
            <a:ext cx="44640" cy="39960"/>
          </a:xfrm>
          <a:custGeom>
            <a:avLst/>
            <a:gdLst/>
            <a:ahLst/>
            <a:rect l="0" t="0" r="r" b="b"/>
            <a:pathLst>
              <a:path fill="none" w="124" h="111">
                <a:moveTo>
                  <a:pt x="124" y="111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0224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18080" y="441000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32480" y="4214880"/>
            <a:ext cx="0" cy="52200"/>
          </a:xfrm>
          <a:custGeom>
            <a:avLst/>
            <a:gdLst/>
            <a:ahLst/>
            <a:rect l="0" t="0" r="r" b="b"/>
            <a:pathLst>
              <a:path fill="none" w="0" h="145">
                <a:moveTo>
                  <a:pt x="0" y="145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32480" y="40212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72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632480" y="3825720"/>
            <a:ext cx="32040" cy="39960"/>
          </a:xfrm>
          <a:custGeom>
            <a:avLst/>
            <a:gdLst/>
            <a:ahLst/>
            <a:rect l="0" t="0" r="r" b="b"/>
            <a:pathLst>
              <a:path fill="none" w="89" h="111">
                <a:moveTo>
                  <a:pt x="0" y="111"/>
                </a:moveTo>
                <a:lnTo>
                  <a:pt x="89" y="0"/>
                </a:lnTo>
                <a:lnTo>
                  <a:pt x="89" y="0"/>
                </a:lnTo>
                <a:lnTo>
                  <a:pt x="89" y="0"/>
                </a:lnTo>
                <a:lnTo>
                  <a:pt x="8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32480" y="363060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0" y="111"/>
                </a:moveTo>
                <a:lnTo>
                  <a:pt x="129" y="0"/>
                </a:lnTo>
                <a:lnTo>
                  <a:pt x="89" y="0"/>
                </a:lnTo>
                <a:lnTo>
                  <a:pt x="129" y="0"/>
                </a:lnTo>
                <a:lnTo>
                  <a:pt x="12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32480" y="343692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32480" y="3228840"/>
            <a:ext cx="76680" cy="52920"/>
          </a:xfrm>
          <a:custGeom>
            <a:avLst/>
            <a:gdLst/>
            <a:ahLst/>
            <a:rect l="0" t="0" r="r" b="b"/>
            <a:pathLst>
              <a:path fill="none" w="213" h="147">
                <a:moveTo>
                  <a:pt x="0" y="147"/>
                </a:moveTo>
                <a:lnTo>
                  <a:pt x="213" y="0"/>
                </a:lnTo>
                <a:lnTo>
                  <a:pt x="173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32480" y="303372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0" y="147"/>
                </a:moveTo>
                <a:lnTo>
                  <a:pt x="301" y="0"/>
                </a:lnTo>
                <a:lnTo>
                  <a:pt x="212" y="0"/>
                </a:lnTo>
                <a:lnTo>
                  <a:pt x="301" y="0"/>
                </a:lnTo>
                <a:lnTo>
                  <a:pt x="212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32480" y="284004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0" y="107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32480" y="264492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0" y="111"/>
                </a:moveTo>
                <a:lnTo>
                  <a:pt x="385" y="0"/>
                </a:lnTo>
                <a:lnTo>
                  <a:pt x="301" y="0"/>
                </a:lnTo>
                <a:lnTo>
                  <a:pt x="385" y="0"/>
                </a:lnTo>
                <a:lnTo>
                  <a:pt x="301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3248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32480" y="2243160"/>
            <a:ext cx="168480" cy="51120"/>
          </a:xfrm>
          <a:custGeom>
            <a:avLst/>
            <a:gdLst/>
            <a:ahLst/>
            <a:rect l="0" t="0" r="r" b="b"/>
            <a:pathLst>
              <a:path fill="none" w="468" h="142">
                <a:moveTo>
                  <a:pt x="0" y="142"/>
                </a:moveTo>
                <a:lnTo>
                  <a:pt x="468" y="35"/>
                </a:lnTo>
                <a:lnTo>
                  <a:pt x="340" y="0"/>
                </a:lnTo>
                <a:lnTo>
                  <a:pt x="468" y="35"/>
                </a:lnTo>
                <a:lnTo>
                  <a:pt x="384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64160" y="61880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78200" y="599292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385" y="111"/>
                </a:moveTo>
                <a:lnTo>
                  <a:pt x="0" y="0"/>
                </a:lnTo>
                <a:lnTo>
                  <a:pt x="44" y="39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94400" y="579924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08440" y="559116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301" y="147"/>
                </a:moveTo>
                <a:lnTo>
                  <a:pt x="0" y="35"/>
                </a:lnTo>
                <a:lnTo>
                  <a:pt x="44" y="71"/>
                </a:lnTo>
                <a:lnTo>
                  <a:pt x="0" y="35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9604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111"/>
                </a:moveTo>
                <a:lnTo>
                  <a:pt x="0" y="0"/>
                </a:lnTo>
                <a:lnTo>
                  <a:pt x="44" y="7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40120" y="520236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754520" y="500688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173" y="111"/>
                </a:moveTo>
                <a:lnTo>
                  <a:pt x="0" y="0"/>
                </a:lnTo>
                <a:lnTo>
                  <a:pt x="45" y="35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70360" y="481176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129" y="111"/>
                </a:moveTo>
                <a:lnTo>
                  <a:pt x="0" y="0"/>
                </a:lnTo>
                <a:lnTo>
                  <a:pt x="40" y="39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84760" y="4618080"/>
            <a:ext cx="32040" cy="38520"/>
          </a:xfrm>
          <a:custGeom>
            <a:avLst/>
            <a:gdLst/>
            <a:ahLst/>
            <a:rect l="0" t="0" r="r" b="b"/>
            <a:pathLst>
              <a:path fill="none" w="89" h="107">
                <a:moveTo>
                  <a:pt x="89" y="107"/>
                </a:moveTo>
                <a:lnTo>
                  <a:pt x="0" y="0"/>
                </a:lnTo>
                <a:lnTo>
                  <a:pt x="45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442260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16440" y="422892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16440" y="402120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107"/>
                </a:moveTo>
                <a:lnTo>
                  <a:pt x="85" y="0"/>
                </a:lnTo>
                <a:lnTo>
                  <a:pt x="40" y="36"/>
                </a:lnTo>
                <a:lnTo>
                  <a:pt x="85" y="0"/>
                </a:lnTo>
                <a:lnTo>
                  <a:pt x="8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16440" y="3825720"/>
            <a:ext cx="44640" cy="39960"/>
          </a:xfrm>
          <a:custGeom>
            <a:avLst/>
            <a:gdLst/>
            <a:ahLst/>
            <a:rect l="0" t="0" r="r" b="b"/>
            <a:pathLst>
              <a:path fill="none" w="124" h="111">
                <a:moveTo>
                  <a:pt x="0" y="111"/>
                </a:moveTo>
                <a:lnTo>
                  <a:pt x="124" y="0"/>
                </a:lnTo>
                <a:lnTo>
                  <a:pt x="84" y="35"/>
                </a:lnTo>
                <a:lnTo>
                  <a:pt x="124" y="0"/>
                </a:lnTo>
                <a:lnTo>
                  <a:pt x="84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816440" y="363060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111"/>
                </a:moveTo>
                <a:lnTo>
                  <a:pt x="169" y="0"/>
                </a:lnTo>
                <a:lnTo>
                  <a:pt x="124" y="0"/>
                </a:lnTo>
                <a:lnTo>
                  <a:pt x="169" y="0"/>
                </a:lnTo>
                <a:lnTo>
                  <a:pt x="124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16440" y="343692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16440" y="3241800"/>
            <a:ext cx="90720" cy="39960"/>
          </a:xfrm>
          <a:custGeom>
            <a:avLst/>
            <a:gdLst/>
            <a:ahLst/>
            <a:rect l="0" t="0" r="r" b="b"/>
            <a:pathLst>
              <a:path fill="none" w="252" h="111">
                <a:moveTo>
                  <a:pt x="0" y="111"/>
                </a:moveTo>
                <a:lnTo>
                  <a:pt x="252" y="0"/>
                </a:lnTo>
                <a:lnTo>
                  <a:pt x="212" y="0"/>
                </a:lnTo>
                <a:lnTo>
                  <a:pt x="252" y="0"/>
                </a:lnTo>
                <a:lnTo>
                  <a:pt x="21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16440" y="304632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111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52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16440" y="2840040"/>
            <a:ext cx="120960" cy="38520"/>
          </a:xfrm>
          <a:custGeom>
            <a:avLst/>
            <a:gdLst/>
            <a:ahLst/>
            <a:rect l="0" t="0" r="r" b="b"/>
            <a:pathLst>
              <a:path fill="none" w="336" h="107">
                <a:moveTo>
                  <a:pt x="0" y="107"/>
                </a:moveTo>
                <a:lnTo>
                  <a:pt x="336" y="36"/>
                </a:lnTo>
                <a:lnTo>
                  <a:pt x="252" y="0"/>
                </a:lnTo>
                <a:lnTo>
                  <a:pt x="336" y="36"/>
                </a:lnTo>
                <a:lnTo>
                  <a:pt x="29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16440" y="264492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0" y="111"/>
                </a:moveTo>
                <a:lnTo>
                  <a:pt x="380" y="0"/>
                </a:lnTo>
                <a:lnTo>
                  <a:pt x="296" y="0"/>
                </a:lnTo>
                <a:lnTo>
                  <a:pt x="380" y="0"/>
                </a:lnTo>
                <a:lnTo>
                  <a:pt x="33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1644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336" y="0"/>
                </a:lnTo>
                <a:lnTo>
                  <a:pt x="424" y="0"/>
                </a:lnTo>
                <a:lnTo>
                  <a:pt x="336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16440" y="2255760"/>
            <a:ext cx="167040" cy="38520"/>
          </a:xfrm>
          <a:custGeom>
            <a:avLst/>
            <a:gdLst/>
            <a:ahLst/>
            <a:rect l="0" t="0" r="r" b="b"/>
            <a:pathLst>
              <a:path fill="none" w="464" h="107">
                <a:moveTo>
                  <a:pt x="0" y="107"/>
                </a:moveTo>
                <a:lnTo>
                  <a:pt x="464" y="0"/>
                </a:lnTo>
                <a:lnTo>
                  <a:pt x="380" y="0"/>
                </a:lnTo>
                <a:lnTo>
                  <a:pt x="464" y="0"/>
                </a:lnTo>
                <a:lnTo>
                  <a:pt x="38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46680" y="6188040"/>
            <a:ext cx="167040" cy="39960"/>
          </a:xfrm>
          <a:custGeom>
            <a:avLst/>
            <a:gdLst/>
            <a:ahLst/>
            <a:rect l="0" t="0" r="r" b="b"/>
            <a:pathLst>
              <a:path fill="none" w="464" h="111">
                <a:moveTo>
                  <a:pt x="464" y="111"/>
                </a:moveTo>
                <a:lnTo>
                  <a:pt x="0" y="35"/>
                </a:lnTo>
                <a:lnTo>
                  <a:pt x="83" y="71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61080" y="5992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39"/>
                </a:lnTo>
                <a:lnTo>
                  <a:pt x="88" y="75"/>
                </a:lnTo>
                <a:lnTo>
                  <a:pt x="0" y="39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99240"/>
            <a:ext cx="136800" cy="38520"/>
          </a:xfrm>
          <a:custGeom>
            <a:avLst/>
            <a:gdLst/>
            <a:ahLst/>
            <a:rect l="0" t="0" r="r" b="b"/>
            <a:pathLst>
              <a:path fill="none" w="380" h="107">
                <a:moveTo>
                  <a:pt x="380" y="107"/>
                </a:moveTo>
                <a:lnTo>
                  <a:pt x="0" y="36"/>
                </a:lnTo>
                <a:lnTo>
                  <a:pt x="83" y="71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92760" y="5603760"/>
            <a:ext cx="120960" cy="39960"/>
          </a:xfrm>
          <a:custGeom>
            <a:avLst/>
            <a:gdLst/>
            <a:ahLst/>
            <a:rect l="0" t="0" r="r" b="b"/>
            <a:pathLst>
              <a:path fill="none" w="336" h="111">
                <a:moveTo>
                  <a:pt x="336" y="111"/>
                </a:moveTo>
                <a:lnTo>
                  <a:pt x="0" y="0"/>
                </a:lnTo>
                <a:lnTo>
                  <a:pt x="83" y="7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06800" y="541008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23000" y="521496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72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501984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169" y="76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68720" y="4826160"/>
            <a:ext cx="44640" cy="25920"/>
          </a:xfrm>
          <a:custGeom>
            <a:avLst/>
            <a:gdLst/>
            <a:ahLst/>
            <a:rect l="0" t="0" r="r" b="b"/>
            <a:pathLst>
              <a:path fill="none" w="124" h="72">
                <a:moveTo>
                  <a:pt x="124" y="72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83120" y="4630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98960" y="4435560"/>
            <a:ext cx="25920" cy="27360"/>
          </a:xfrm>
          <a:custGeom>
            <a:avLst/>
            <a:gdLst/>
            <a:ahLst/>
            <a:rect l="0" t="0" r="r" b="b"/>
            <a:pathLst>
              <a:path fill="none" w="72" h="76">
                <a:moveTo>
                  <a:pt x="72" y="7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3360" y="4228920"/>
            <a:ext cx="0" cy="37800"/>
          </a:xfrm>
          <a:custGeom>
            <a:avLst/>
            <a:gdLst/>
            <a:ahLst/>
            <a:rect l="0" t="0" r="r" b="b"/>
            <a:pathLst>
              <a:path fill="none" w="0" h="105">
                <a:moveTo>
                  <a:pt x="0" y="105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13360" y="40338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13360" y="3838680"/>
            <a:ext cx="32040" cy="27360"/>
          </a:xfrm>
          <a:custGeom>
            <a:avLst/>
            <a:gdLst/>
            <a:ahLst/>
            <a:rect l="0" t="0" r="r" b="b"/>
            <a:pathLst>
              <a:path fill="none" w="89" h="76">
                <a:moveTo>
                  <a:pt x="0" y="76"/>
                </a:moveTo>
                <a:lnTo>
                  <a:pt x="89" y="0"/>
                </a:lnTo>
                <a:lnTo>
                  <a:pt x="45" y="0"/>
                </a:lnTo>
                <a:lnTo>
                  <a:pt x="89" y="0"/>
                </a:lnTo>
                <a:lnTo>
                  <a:pt x="8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13360" y="36450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89" y="0"/>
                </a:lnTo>
                <a:lnTo>
                  <a:pt x="12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13360" y="344952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2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13360" y="325440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0" y="76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13360" y="304632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111"/>
                </a:moveTo>
                <a:lnTo>
                  <a:pt x="257" y="39"/>
                </a:lnTo>
                <a:lnTo>
                  <a:pt x="213" y="0"/>
                </a:lnTo>
                <a:lnTo>
                  <a:pt x="257" y="39"/>
                </a:lnTo>
                <a:lnTo>
                  <a:pt x="21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13360" y="285264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72"/>
                </a:moveTo>
                <a:lnTo>
                  <a:pt x="301" y="0"/>
                </a:lnTo>
                <a:lnTo>
                  <a:pt x="257" y="0"/>
                </a:lnTo>
                <a:lnTo>
                  <a:pt x="30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13360" y="2657520"/>
            <a:ext cx="138600" cy="27360"/>
          </a:xfrm>
          <a:custGeom>
            <a:avLst/>
            <a:gdLst/>
            <a:ahLst/>
            <a:rect l="0" t="0" r="r" b="b"/>
            <a:pathLst>
              <a:path fill="none" w="385" h="76">
                <a:moveTo>
                  <a:pt x="0" y="76"/>
                </a:moveTo>
                <a:lnTo>
                  <a:pt x="385" y="0"/>
                </a:lnTo>
                <a:lnTo>
                  <a:pt x="301" y="0"/>
                </a:lnTo>
                <a:lnTo>
                  <a:pt x="385" y="0"/>
                </a:lnTo>
                <a:lnTo>
                  <a:pt x="301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13360" y="24638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72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13360" y="225576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0" y="107"/>
                </a:moveTo>
                <a:lnTo>
                  <a:pt x="468" y="36"/>
                </a:lnTo>
                <a:lnTo>
                  <a:pt x="340" y="0"/>
                </a:lnTo>
                <a:lnTo>
                  <a:pt x="468" y="36"/>
                </a:lnTo>
                <a:lnTo>
                  <a:pt x="38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620064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468" y="76"/>
                </a:moveTo>
                <a:lnTo>
                  <a:pt x="0" y="36"/>
                </a:lnTo>
                <a:lnTo>
                  <a:pt x="127" y="76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59440" y="600696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385" y="72"/>
                </a:moveTo>
                <a:lnTo>
                  <a:pt x="0" y="36"/>
                </a:lnTo>
                <a:lnTo>
                  <a:pt x="44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75280" y="58118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72"/>
                </a:moveTo>
                <a:lnTo>
                  <a:pt x="0" y="36"/>
                </a:lnTo>
                <a:lnTo>
                  <a:pt x="39" y="72"/>
                </a:lnTo>
                <a:lnTo>
                  <a:pt x="0" y="36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89680" y="5616720"/>
            <a:ext cx="108360" cy="27360"/>
          </a:xfrm>
          <a:custGeom>
            <a:avLst/>
            <a:gdLst/>
            <a:ahLst/>
            <a:rect l="0" t="0" r="r" b="b"/>
            <a:pathLst>
              <a:path fill="none" w="301" h="76">
                <a:moveTo>
                  <a:pt x="301" y="76"/>
                </a:moveTo>
                <a:lnTo>
                  <a:pt x="0" y="40"/>
                </a:lnTo>
                <a:lnTo>
                  <a:pt x="44" y="76"/>
                </a:lnTo>
                <a:lnTo>
                  <a:pt x="0" y="4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542304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21360" y="52275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35400" y="50324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72"/>
                </a:moveTo>
                <a:lnTo>
                  <a:pt x="0" y="0"/>
                </a:lnTo>
                <a:lnTo>
                  <a:pt x="45" y="72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151600" y="48387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40" y="72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165640" y="464328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89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4481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97320" y="42544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97320" y="40464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72"/>
                </a:lnTo>
                <a:lnTo>
                  <a:pt x="72" y="0"/>
                </a:lnTo>
                <a:lnTo>
                  <a:pt x="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97320" y="38512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72"/>
                </a:moveTo>
                <a:lnTo>
                  <a:pt x="85" y="0"/>
                </a:lnTo>
                <a:lnTo>
                  <a:pt x="85" y="0"/>
                </a:lnTo>
                <a:lnTo>
                  <a:pt x="85" y="0"/>
                </a:lnTo>
                <a:lnTo>
                  <a:pt x="8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97320" y="36576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4" y="0"/>
                </a:lnTo>
                <a:lnTo>
                  <a:pt x="169" y="0"/>
                </a:lnTo>
                <a:lnTo>
                  <a:pt x="12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197320" y="3462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97320" y="3254400"/>
            <a:ext cx="90720" cy="27360"/>
          </a:xfrm>
          <a:custGeom>
            <a:avLst/>
            <a:gdLst/>
            <a:ahLst/>
            <a:rect l="0" t="0" r="r" b="b"/>
            <a:pathLst>
              <a:path fill="none" w="252" h="76">
                <a:moveTo>
                  <a:pt x="0" y="76"/>
                </a:moveTo>
                <a:lnTo>
                  <a:pt x="252" y="36"/>
                </a:lnTo>
                <a:lnTo>
                  <a:pt x="212" y="0"/>
                </a:lnTo>
                <a:lnTo>
                  <a:pt x="252" y="36"/>
                </a:lnTo>
                <a:lnTo>
                  <a:pt x="21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197320" y="30607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36"/>
                </a:lnTo>
                <a:lnTo>
                  <a:pt x="212" y="0"/>
                </a:lnTo>
                <a:lnTo>
                  <a:pt x="296" y="36"/>
                </a:lnTo>
                <a:lnTo>
                  <a:pt x="25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97320" y="2865600"/>
            <a:ext cx="120960" cy="25920"/>
          </a:xfrm>
          <a:custGeom>
            <a:avLst/>
            <a:gdLst/>
            <a:ahLst/>
            <a:rect l="0" t="0" r="r" b="b"/>
            <a:pathLst>
              <a:path fill="none" w="336" h="72">
                <a:moveTo>
                  <a:pt x="0" y="72"/>
                </a:moveTo>
                <a:lnTo>
                  <a:pt x="336" y="72"/>
                </a:lnTo>
                <a:lnTo>
                  <a:pt x="252" y="0"/>
                </a:lnTo>
                <a:lnTo>
                  <a:pt x="336" y="72"/>
                </a:lnTo>
                <a:lnTo>
                  <a:pt x="25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97320" y="267012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0" y="72"/>
                </a:moveTo>
                <a:lnTo>
                  <a:pt x="380" y="0"/>
                </a:lnTo>
                <a:lnTo>
                  <a:pt x="296" y="0"/>
                </a:lnTo>
                <a:lnTo>
                  <a:pt x="380" y="0"/>
                </a:lnTo>
                <a:lnTo>
                  <a:pt x="29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97320" y="24638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72"/>
                </a:moveTo>
                <a:lnTo>
                  <a:pt x="424" y="36"/>
                </a:lnTo>
                <a:lnTo>
                  <a:pt x="336" y="0"/>
                </a:lnTo>
                <a:lnTo>
                  <a:pt x="424" y="36"/>
                </a:lnTo>
                <a:lnTo>
                  <a:pt x="33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97320" y="2268360"/>
            <a:ext cx="167040" cy="25920"/>
          </a:xfrm>
          <a:custGeom>
            <a:avLst/>
            <a:gdLst/>
            <a:ahLst/>
            <a:rect l="0" t="0" r="r" b="b"/>
            <a:pathLst>
              <a:path fill="none" w="464" h="72">
                <a:moveTo>
                  <a:pt x="0" y="72"/>
                </a:moveTo>
                <a:lnTo>
                  <a:pt x="464" y="36"/>
                </a:lnTo>
                <a:lnTo>
                  <a:pt x="380" y="0"/>
                </a:lnTo>
                <a:lnTo>
                  <a:pt x="464" y="36"/>
                </a:lnTo>
                <a:lnTo>
                  <a:pt x="38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27560" y="6213600"/>
            <a:ext cx="167040" cy="27360"/>
          </a:xfrm>
          <a:custGeom>
            <a:avLst/>
            <a:gdLst/>
            <a:ahLst/>
            <a:rect l="0" t="0" r="r" b="b"/>
            <a:pathLst>
              <a:path fill="none" w="464" h="76">
                <a:moveTo>
                  <a:pt x="464" y="40"/>
                </a:moveTo>
                <a:lnTo>
                  <a:pt x="0" y="40"/>
                </a:lnTo>
                <a:lnTo>
                  <a:pt x="83" y="76"/>
                </a:lnTo>
                <a:lnTo>
                  <a:pt x="0" y="4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41960" y="60199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36"/>
                </a:moveTo>
                <a:lnTo>
                  <a:pt x="0" y="36"/>
                </a:lnTo>
                <a:lnTo>
                  <a:pt x="88" y="72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582444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380" y="36"/>
                </a:moveTo>
                <a:lnTo>
                  <a:pt x="0" y="36"/>
                </a:lnTo>
                <a:lnTo>
                  <a:pt x="83" y="76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73640" y="5630760"/>
            <a:ext cx="120960" cy="25920"/>
          </a:xfrm>
          <a:custGeom>
            <a:avLst/>
            <a:gdLst/>
            <a:ahLst/>
            <a:rect l="0" t="0" r="r" b="b"/>
            <a:pathLst>
              <a:path fill="none" w="336" h="72">
                <a:moveTo>
                  <a:pt x="336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88040" y="54356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03880" y="524016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252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8280" y="50468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0"/>
                </a:lnTo>
                <a:lnTo>
                  <a:pt x="44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48513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0"/>
                </a:moveTo>
                <a:lnTo>
                  <a:pt x="0" y="0"/>
                </a:lnTo>
                <a:lnTo>
                  <a:pt x="45" y="72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64000" y="465624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8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80200" y="44625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7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4240" y="4267080"/>
            <a:ext cx="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4240" y="40593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394240" y="386568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0" y="0"/>
                </a:moveTo>
                <a:lnTo>
                  <a:pt x="89" y="72"/>
                </a:lnTo>
                <a:lnTo>
                  <a:pt x="45" y="0"/>
                </a:lnTo>
                <a:lnTo>
                  <a:pt x="89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94240" y="3670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0"/>
                </a:lnTo>
                <a:lnTo>
                  <a:pt x="89" y="0"/>
                </a:lnTo>
                <a:lnTo>
                  <a:pt x="129" y="0"/>
                </a:lnTo>
                <a:lnTo>
                  <a:pt x="8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4240" y="34750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9424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94240" y="30733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36"/>
                </a:moveTo>
                <a:lnTo>
                  <a:pt x="257" y="36"/>
                </a:lnTo>
                <a:lnTo>
                  <a:pt x="213" y="0"/>
                </a:lnTo>
                <a:lnTo>
                  <a:pt x="257" y="36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94240" y="287820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0"/>
                </a:moveTo>
                <a:lnTo>
                  <a:pt x="301" y="72"/>
                </a:lnTo>
                <a:lnTo>
                  <a:pt x="257" y="0"/>
                </a:lnTo>
                <a:lnTo>
                  <a:pt x="301" y="72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94240" y="268452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0"/>
                </a:moveTo>
                <a:lnTo>
                  <a:pt x="341" y="72"/>
                </a:lnTo>
                <a:lnTo>
                  <a:pt x="301" y="0"/>
                </a:lnTo>
                <a:lnTo>
                  <a:pt x="341" y="72"/>
                </a:lnTo>
                <a:lnTo>
                  <a:pt x="301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94240" y="248904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0" y="0"/>
                </a:moveTo>
                <a:lnTo>
                  <a:pt x="385" y="72"/>
                </a:lnTo>
                <a:lnTo>
                  <a:pt x="341" y="0"/>
                </a:lnTo>
                <a:lnTo>
                  <a:pt x="385" y="72"/>
                </a:lnTo>
                <a:lnTo>
                  <a:pt x="301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94240" y="228132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36"/>
                </a:moveTo>
                <a:lnTo>
                  <a:pt x="468" y="36"/>
                </a:lnTo>
                <a:lnTo>
                  <a:pt x="340" y="0"/>
                </a:lnTo>
                <a:lnTo>
                  <a:pt x="468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622764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468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25920" y="60325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40320" y="5837400"/>
            <a:ext cx="138600" cy="27360"/>
          </a:xfrm>
          <a:custGeom>
            <a:avLst/>
            <a:gdLst/>
            <a:ahLst/>
            <a:rect l="0" t="0" r="r" b="b"/>
            <a:pathLst>
              <a:path fill="none" w="385" h="76">
                <a:moveTo>
                  <a:pt x="385" y="0"/>
                </a:moveTo>
                <a:lnTo>
                  <a:pt x="0" y="40"/>
                </a:lnTo>
                <a:lnTo>
                  <a:pt x="83" y="76"/>
                </a:lnTo>
                <a:lnTo>
                  <a:pt x="0" y="4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470560" y="564372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0"/>
                </a:moveTo>
                <a:lnTo>
                  <a:pt x="0" y="36"/>
                </a:lnTo>
                <a:lnTo>
                  <a:pt x="44" y="72"/>
                </a:lnTo>
                <a:lnTo>
                  <a:pt x="0" y="36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543564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02240" y="524016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213" y="0"/>
                </a:moveTo>
                <a:lnTo>
                  <a:pt x="0" y="76"/>
                </a:lnTo>
                <a:lnTo>
                  <a:pt x="39" y="76"/>
                </a:lnTo>
                <a:lnTo>
                  <a:pt x="0" y="76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16640" y="50468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48513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40" y="72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546880" y="465624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89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78560" y="42670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78560" y="4059360"/>
            <a:ext cx="25920" cy="27360"/>
          </a:xfrm>
          <a:custGeom>
            <a:avLst/>
            <a:gdLst/>
            <a:ahLst/>
            <a:rect l="0" t="0" r="r" b="b"/>
            <a:pathLst>
              <a:path fill="none" w="72" h="76">
                <a:moveTo>
                  <a:pt x="0" y="0"/>
                </a:moveTo>
                <a:lnTo>
                  <a:pt x="72" y="76"/>
                </a:lnTo>
                <a:lnTo>
                  <a:pt x="72" y="76"/>
                </a:lnTo>
                <a:lnTo>
                  <a:pt x="72" y="76"/>
                </a:lnTo>
                <a:lnTo>
                  <a:pt x="7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78560" y="3865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85" y="36"/>
                </a:lnTo>
                <a:lnTo>
                  <a:pt x="85" y="72"/>
                </a:lnTo>
                <a:lnTo>
                  <a:pt x="8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78560" y="3670200"/>
            <a:ext cx="44640" cy="25920"/>
          </a:xfrm>
          <a:custGeom>
            <a:avLst/>
            <a:gdLst/>
            <a:ahLst/>
            <a:rect l="0" t="0" r="r" b="b"/>
            <a:pathLst>
              <a:path fill="none" w="124" h="72">
                <a:moveTo>
                  <a:pt x="0" y="0"/>
                </a:moveTo>
                <a:lnTo>
                  <a:pt x="124" y="72"/>
                </a:lnTo>
                <a:lnTo>
                  <a:pt x="124" y="36"/>
                </a:lnTo>
                <a:lnTo>
                  <a:pt x="124" y="72"/>
                </a:lnTo>
                <a:lnTo>
                  <a:pt x="12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78560" y="347508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0" y="0"/>
                </a:moveTo>
                <a:lnTo>
                  <a:pt x="169" y="76"/>
                </a:lnTo>
                <a:lnTo>
                  <a:pt x="169" y="36"/>
                </a:lnTo>
                <a:lnTo>
                  <a:pt x="169" y="76"/>
                </a:lnTo>
                <a:lnTo>
                  <a:pt x="124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578560" y="328140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0" y="0"/>
                </a:moveTo>
                <a:lnTo>
                  <a:pt x="252" y="36"/>
                </a:lnTo>
                <a:lnTo>
                  <a:pt x="212" y="36"/>
                </a:lnTo>
                <a:lnTo>
                  <a:pt x="252" y="36"/>
                </a:lnTo>
                <a:lnTo>
                  <a:pt x="16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578560" y="30859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0"/>
                </a:moveTo>
                <a:lnTo>
                  <a:pt x="296" y="36"/>
                </a:lnTo>
                <a:lnTo>
                  <a:pt x="212" y="0"/>
                </a:lnTo>
                <a:lnTo>
                  <a:pt x="296" y="36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78560" y="2878200"/>
            <a:ext cx="120960" cy="27360"/>
          </a:xfrm>
          <a:custGeom>
            <a:avLst/>
            <a:gdLst/>
            <a:ahLst/>
            <a:rect l="0" t="0" r="r" b="b"/>
            <a:pathLst>
              <a:path fill="none" w="336" h="76">
                <a:moveTo>
                  <a:pt x="0" y="0"/>
                </a:moveTo>
                <a:lnTo>
                  <a:pt x="336" y="76"/>
                </a:lnTo>
                <a:lnTo>
                  <a:pt x="252" y="36"/>
                </a:lnTo>
                <a:lnTo>
                  <a:pt x="336" y="76"/>
                </a:lnTo>
                <a:lnTo>
                  <a:pt x="25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578560" y="268452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0" y="0"/>
                </a:moveTo>
                <a:lnTo>
                  <a:pt x="380" y="72"/>
                </a:lnTo>
                <a:lnTo>
                  <a:pt x="296" y="36"/>
                </a:lnTo>
                <a:lnTo>
                  <a:pt x="380" y="72"/>
                </a:lnTo>
                <a:lnTo>
                  <a:pt x="29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78560" y="24890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0"/>
                </a:moveTo>
                <a:lnTo>
                  <a:pt x="424" y="72"/>
                </a:lnTo>
                <a:lnTo>
                  <a:pt x="336" y="36"/>
                </a:lnTo>
                <a:lnTo>
                  <a:pt x="424" y="72"/>
                </a:lnTo>
                <a:lnTo>
                  <a:pt x="33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78560" y="2293920"/>
            <a:ext cx="167040" cy="27360"/>
          </a:xfrm>
          <a:custGeom>
            <a:avLst/>
            <a:gdLst/>
            <a:ahLst/>
            <a:rect l="0" t="0" r="r" b="b"/>
            <a:pathLst>
              <a:path fill="none" w="464" h="76">
                <a:moveTo>
                  <a:pt x="0" y="0"/>
                </a:moveTo>
                <a:lnTo>
                  <a:pt x="464" y="76"/>
                </a:lnTo>
                <a:lnTo>
                  <a:pt x="380" y="0"/>
                </a:lnTo>
                <a:lnTo>
                  <a:pt x="464" y="76"/>
                </a:lnTo>
                <a:lnTo>
                  <a:pt x="380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08800" y="6227640"/>
            <a:ext cx="167040" cy="38520"/>
          </a:xfrm>
          <a:custGeom>
            <a:avLst/>
            <a:gdLst/>
            <a:ahLst/>
            <a:rect l="0" t="0" r="r" b="b"/>
            <a:pathLst>
              <a:path fill="none" w="464" h="107">
                <a:moveTo>
                  <a:pt x="464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2284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71"/>
                </a:lnTo>
                <a:lnTo>
                  <a:pt x="88" y="107"/>
                </a:lnTo>
                <a:lnTo>
                  <a:pt x="0" y="71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583740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380" y="0"/>
                </a:moveTo>
                <a:lnTo>
                  <a:pt x="0" y="75"/>
                </a:lnTo>
                <a:lnTo>
                  <a:pt x="83" y="111"/>
                </a:lnTo>
                <a:lnTo>
                  <a:pt x="0" y="75"/>
                </a:lnTo>
                <a:lnTo>
                  <a:pt x="44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54520" y="5643720"/>
            <a:ext cx="120960" cy="25920"/>
          </a:xfrm>
          <a:custGeom>
            <a:avLst/>
            <a:gdLst/>
            <a:ahLst/>
            <a:rect l="0" t="0" r="r" b="b"/>
            <a:pathLst>
              <a:path fill="none" w="336" h="72">
                <a:moveTo>
                  <a:pt x="336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68920" y="543564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684760" y="5240160"/>
            <a:ext cx="90720" cy="39960"/>
          </a:xfrm>
          <a:custGeom>
            <a:avLst/>
            <a:gdLst/>
            <a:ahLst/>
            <a:rect l="0" t="0" r="r" b="b"/>
            <a:pathLst>
              <a:path fill="none" w="252" h="111">
                <a:moveTo>
                  <a:pt x="252" y="0"/>
                </a:moveTo>
                <a:lnTo>
                  <a:pt x="0" y="111"/>
                </a:lnTo>
                <a:lnTo>
                  <a:pt x="39" y="111"/>
                </a:lnTo>
                <a:lnTo>
                  <a:pt x="0" y="111"/>
                </a:lnTo>
                <a:lnTo>
                  <a:pt x="39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99160" y="50468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485136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169" y="0"/>
                </a:moveTo>
                <a:lnTo>
                  <a:pt x="0" y="107"/>
                </a:lnTo>
                <a:lnTo>
                  <a:pt x="45" y="71"/>
                </a:lnTo>
                <a:lnTo>
                  <a:pt x="0" y="107"/>
                </a:lnTo>
                <a:lnTo>
                  <a:pt x="45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30840" y="4656240"/>
            <a:ext cx="44640" cy="27360"/>
          </a:xfrm>
          <a:custGeom>
            <a:avLst/>
            <a:gdLst/>
            <a:ahLst/>
            <a:rect l="0" t="0" r="r" b="b"/>
            <a:pathLst>
              <a:path fill="none" w="124" h="76">
                <a:moveTo>
                  <a:pt x="124" y="0"/>
                </a:moveTo>
                <a:lnTo>
                  <a:pt x="0" y="76"/>
                </a:lnTo>
                <a:lnTo>
                  <a:pt x="39" y="76"/>
                </a:lnTo>
                <a:lnTo>
                  <a:pt x="0" y="76"/>
                </a:lnTo>
                <a:lnTo>
                  <a:pt x="39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45240" y="446256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61080" y="42670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7548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75"/>
                </a:lnTo>
                <a:lnTo>
                  <a:pt x="72" y="111"/>
                </a:lnTo>
                <a:lnTo>
                  <a:pt x="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75480" y="3865680"/>
            <a:ext cx="32040" cy="38520"/>
          </a:xfrm>
          <a:custGeom>
            <a:avLst/>
            <a:gdLst/>
            <a:ahLst/>
            <a:rect l="0" t="0" r="r" b="b"/>
            <a:pathLst>
              <a:path fill="none" w="89" h="107">
                <a:moveTo>
                  <a:pt x="0" y="0"/>
                </a:moveTo>
                <a:lnTo>
                  <a:pt x="89" y="107"/>
                </a:lnTo>
                <a:lnTo>
                  <a:pt x="45" y="71"/>
                </a:lnTo>
                <a:lnTo>
                  <a:pt x="89" y="107"/>
                </a:lnTo>
                <a:lnTo>
                  <a:pt x="45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75480" y="367020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0"/>
                </a:moveTo>
                <a:lnTo>
                  <a:pt x="129" y="107"/>
                </a:lnTo>
                <a:lnTo>
                  <a:pt x="89" y="71"/>
                </a:lnTo>
                <a:lnTo>
                  <a:pt x="129" y="107"/>
                </a:lnTo>
                <a:lnTo>
                  <a:pt x="8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75480" y="347508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0" y="0"/>
                </a:moveTo>
                <a:lnTo>
                  <a:pt x="173" y="111"/>
                </a:lnTo>
                <a:lnTo>
                  <a:pt x="128" y="75"/>
                </a:lnTo>
                <a:lnTo>
                  <a:pt x="173" y="111"/>
                </a:lnTo>
                <a:lnTo>
                  <a:pt x="128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7548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36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75480" y="308592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36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75480" y="2878200"/>
            <a:ext cx="108360" cy="39960"/>
          </a:xfrm>
          <a:custGeom>
            <a:avLst/>
            <a:gdLst/>
            <a:ahLst/>
            <a:rect l="0" t="0" r="r" b="b"/>
            <a:pathLst>
              <a:path fill="none" w="301" h="111">
                <a:moveTo>
                  <a:pt x="0" y="0"/>
                </a:moveTo>
                <a:lnTo>
                  <a:pt x="301" y="111"/>
                </a:lnTo>
                <a:lnTo>
                  <a:pt x="257" y="75"/>
                </a:lnTo>
                <a:lnTo>
                  <a:pt x="301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75480" y="268452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0" y="0"/>
                </a:moveTo>
                <a:lnTo>
                  <a:pt x="341" y="107"/>
                </a:lnTo>
                <a:lnTo>
                  <a:pt x="301" y="71"/>
                </a:lnTo>
                <a:lnTo>
                  <a:pt x="341" y="107"/>
                </a:lnTo>
                <a:lnTo>
                  <a:pt x="257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75480" y="2489040"/>
            <a:ext cx="138600" cy="38520"/>
          </a:xfrm>
          <a:custGeom>
            <a:avLst/>
            <a:gdLst/>
            <a:ahLst/>
            <a:rect l="0" t="0" r="r" b="b"/>
            <a:pathLst>
              <a:path fill="none" w="385" h="107">
                <a:moveTo>
                  <a:pt x="0" y="0"/>
                </a:moveTo>
                <a:lnTo>
                  <a:pt x="385" y="107"/>
                </a:lnTo>
                <a:lnTo>
                  <a:pt x="341" y="36"/>
                </a:lnTo>
                <a:lnTo>
                  <a:pt x="385" y="107"/>
                </a:lnTo>
                <a:lnTo>
                  <a:pt x="301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75480" y="2293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0"/>
                </a:moveTo>
                <a:lnTo>
                  <a:pt x="424" y="111"/>
                </a:lnTo>
                <a:lnTo>
                  <a:pt x="340" y="35"/>
                </a:lnTo>
                <a:lnTo>
                  <a:pt x="424" y="111"/>
                </a:lnTo>
                <a:lnTo>
                  <a:pt x="34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6227640"/>
            <a:ext cx="168480" cy="51120"/>
          </a:xfrm>
          <a:custGeom>
            <a:avLst/>
            <a:gdLst/>
            <a:ahLst/>
            <a:rect l="0" t="0" r="r" b="b"/>
            <a:pathLst>
              <a:path fill="none" w="468" h="142">
                <a:moveTo>
                  <a:pt x="468" y="0"/>
                </a:moveTo>
                <a:lnTo>
                  <a:pt x="0" y="106"/>
                </a:lnTo>
                <a:lnTo>
                  <a:pt x="127" y="142"/>
                </a:lnTo>
                <a:lnTo>
                  <a:pt x="0" y="106"/>
                </a:lnTo>
                <a:lnTo>
                  <a:pt x="8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716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21200" y="583740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385" y="0"/>
                </a:moveTo>
                <a:lnTo>
                  <a:pt x="0" y="111"/>
                </a:lnTo>
                <a:lnTo>
                  <a:pt x="83" y="111"/>
                </a:lnTo>
                <a:lnTo>
                  <a:pt x="0" y="111"/>
                </a:lnTo>
                <a:lnTo>
                  <a:pt x="83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37400" y="564372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51440" y="543564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301" y="0"/>
                </a:moveTo>
                <a:lnTo>
                  <a:pt x="0" y="147"/>
                </a:lnTo>
                <a:lnTo>
                  <a:pt x="89" y="147"/>
                </a:lnTo>
                <a:lnTo>
                  <a:pt x="0" y="147"/>
                </a:lnTo>
                <a:lnTo>
                  <a:pt x="8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83120" y="524016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213" y="0"/>
                </a:moveTo>
                <a:lnTo>
                  <a:pt x="0" y="111"/>
                </a:lnTo>
                <a:lnTo>
                  <a:pt x="39" y="111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97520" y="50468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173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13360" y="485136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40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7760" y="4656240"/>
            <a:ext cx="32040" cy="39960"/>
          </a:xfrm>
          <a:custGeom>
            <a:avLst/>
            <a:gdLst/>
            <a:ahLst/>
            <a:rect l="0" t="0" r="r" b="b"/>
            <a:pathLst>
              <a:path fill="none" w="89" h="111">
                <a:moveTo>
                  <a:pt x="89" y="0"/>
                </a:moveTo>
                <a:lnTo>
                  <a:pt x="0" y="111"/>
                </a:lnTo>
                <a:lnTo>
                  <a:pt x="0" y="111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43600" y="446256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0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59440" y="4267080"/>
            <a:ext cx="0" cy="39600"/>
          </a:xfrm>
          <a:custGeom>
            <a:avLst/>
            <a:gdLst/>
            <a:ahLst/>
            <a:rect l="0" t="0" r="r" b="b"/>
            <a:pathLst>
              <a:path fill="none" w="0" h="110">
                <a:moveTo>
                  <a:pt x="0" y="0"/>
                </a:moveTo>
                <a:lnTo>
                  <a:pt x="0" y="110"/>
                </a:lnTo>
                <a:lnTo>
                  <a:pt x="0" y="70"/>
                </a:lnTo>
                <a:lnTo>
                  <a:pt x="0" y="11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59440" y="405936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0" y="0"/>
                </a:moveTo>
                <a:lnTo>
                  <a:pt x="72" y="147"/>
                </a:lnTo>
                <a:lnTo>
                  <a:pt x="72" y="112"/>
                </a:lnTo>
                <a:lnTo>
                  <a:pt x="72" y="147"/>
                </a:lnTo>
                <a:lnTo>
                  <a:pt x="72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959440" y="38656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0"/>
                </a:moveTo>
                <a:lnTo>
                  <a:pt x="85" y="107"/>
                </a:lnTo>
                <a:lnTo>
                  <a:pt x="85" y="107"/>
                </a:lnTo>
                <a:lnTo>
                  <a:pt x="85" y="107"/>
                </a:lnTo>
                <a:lnTo>
                  <a:pt x="4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59440" y="3670200"/>
            <a:ext cx="44640" cy="38520"/>
          </a:xfrm>
          <a:custGeom>
            <a:avLst/>
            <a:gdLst/>
            <a:ahLst/>
            <a:rect l="0" t="0" r="r" b="b"/>
            <a:pathLst>
              <a:path fill="none" w="124" h="107">
                <a:moveTo>
                  <a:pt x="0" y="0"/>
                </a:moveTo>
                <a:lnTo>
                  <a:pt x="124" y="107"/>
                </a:lnTo>
                <a:lnTo>
                  <a:pt x="124" y="71"/>
                </a:lnTo>
                <a:lnTo>
                  <a:pt x="124" y="107"/>
                </a:lnTo>
                <a:lnTo>
                  <a:pt x="84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9440" y="34750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0"/>
                </a:moveTo>
                <a:lnTo>
                  <a:pt x="169" y="111"/>
                </a:lnTo>
                <a:lnTo>
                  <a:pt x="169" y="75"/>
                </a:lnTo>
                <a:lnTo>
                  <a:pt x="169" y="111"/>
                </a:lnTo>
                <a:lnTo>
                  <a:pt x="124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59440" y="32814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0"/>
                </a:moveTo>
                <a:lnTo>
                  <a:pt x="213" y="107"/>
                </a:lnTo>
                <a:lnTo>
                  <a:pt x="213" y="71"/>
                </a:lnTo>
                <a:lnTo>
                  <a:pt x="213" y="107"/>
                </a:lnTo>
                <a:lnTo>
                  <a:pt x="16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959440" y="3085920"/>
            <a:ext cx="90720" cy="39960"/>
          </a:xfrm>
          <a:custGeom>
            <a:avLst/>
            <a:gdLst/>
            <a:ahLst/>
            <a:rect l="0" t="0" r="r" b="b"/>
            <a:pathLst>
              <a:path fill="none" w="252" h="111">
                <a:moveTo>
                  <a:pt x="0" y="0"/>
                </a:moveTo>
                <a:lnTo>
                  <a:pt x="252" y="111"/>
                </a:lnTo>
                <a:lnTo>
                  <a:pt x="212" y="71"/>
                </a:lnTo>
                <a:lnTo>
                  <a:pt x="252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59440" y="2878200"/>
            <a:ext cx="120960" cy="52920"/>
          </a:xfrm>
          <a:custGeom>
            <a:avLst/>
            <a:gdLst/>
            <a:ahLst/>
            <a:rect l="0" t="0" r="r" b="b"/>
            <a:pathLst>
              <a:path fill="none" w="336" h="147">
                <a:moveTo>
                  <a:pt x="0" y="0"/>
                </a:moveTo>
                <a:lnTo>
                  <a:pt x="336" y="147"/>
                </a:lnTo>
                <a:lnTo>
                  <a:pt x="252" y="75"/>
                </a:lnTo>
                <a:lnTo>
                  <a:pt x="336" y="147"/>
                </a:lnTo>
                <a:lnTo>
                  <a:pt x="25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59440" y="2684520"/>
            <a:ext cx="136800" cy="51120"/>
          </a:xfrm>
          <a:custGeom>
            <a:avLst/>
            <a:gdLst/>
            <a:ahLst/>
            <a:rect l="0" t="0" r="r" b="b"/>
            <a:pathLst>
              <a:path fill="none" w="380" h="142">
                <a:moveTo>
                  <a:pt x="0" y="0"/>
                </a:moveTo>
                <a:lnTo>
                  <a:pt x="380" y="142"/>
                </a:lnTo>
                <a:lnTo>
                  <a:pt x="296" y="70"/>
                </a:lnTo>
                <a:lnTo>
                  <a:pt x="380" y="142"/>
                </a:lnTo>
                <a:lnTo>
                  <a:pt x="296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959440" y="248904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0" y="0"/>
                </a:moveTo>
                <a:lnTo>
                  <a:pt x="424" y="106"/>
                </a:lnTo>
                <a:lnTo>
                  <a:pt x="336" y="71"/>
                </a:lnTo>
                <a:lnTo>
                  <a:pt x="424" y="106"/>
                </a:lnTo>
                <a:lnTo>
                  <a:pt x="33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959440" y="2293920"/>
            <a:ext cx="167040" cy="52920"/>
          </a:xfrm>
          <a:custGeom>
            <a:avLst/>
            <a:gdLst/>
            <a:ahLst/>
            <a:rect l="0" t="0" r="r" b="b"/>
            <a:pathLst>
              <a:path fill="none" w="464" h="147">
                <a:moveTo>
                  <a:pt x="0" y="0"/>
                </a:moveTo>
                <a:lnTo>
                  <a:pt x="464" y="112"/>
                </a:lnTo>
                <a:lnTo>
                  <a:pt x="380" y="75"/>
                </a:lnTo>
                <a:lnTo>
                  <a:pt x="464" y="112"/>
                </a:lnTo>
                <a:lnTo>
                  <a:pt x="33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89680" y="6227640"/>
            <a:ext cx="152640" cy="51120"/>
          </a:xfrm>
          <a:custGeom>
            <a:avLst/>
            <a:gdLst/>
            <a:ahLst/>
            <a:rect l="0" t="0" r="r" b="b"/>
            <a:pathLst>
              <a:path fill="none" w="424" h="142">
                <a:moveTo>
                  <a:pt x="424" y="0"/>
                </a:moveTo>
                <a:lnTo>
                  <a:pt x="0" y="106"/>
                </a:lnTo>
                <a:lnTo>
                  <a:pt x="83" y="142"/>
                </a:lnTo>
                <a:lnTo>
                  <a:pt x="0" y="106"/>
                </a:lnTo>
                <a:lnTo>
                  <a:pt x="39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04080" y="6032520"/>
            <a:ext cx="138600" cy="38520"/>
          </a:xfrm>
          <a:custGeom>
            <a:avLst/>
            <a:gdLst/>
            <a:ahLst/>
            <a:rect l="0" t="0" r="r" b="b"/>
            <a:pathLst>
              <a:path fill="none" w="385" h="107">
                <a:moveTo>
                  <a:pt x="385" y="0"/>
                </a:moveTo>
                <a:lnTo>
                  <a:pt x="0" y="107"/>
                </a:lnTo>
                <a:lnTo>
                  <a:pt x="88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19920" y="583740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0"/>
                </a:moveTo>
                <a:lnTo>
                  <a:pt x="0" y="111"/>
                </a:lnTo>
                <a:lnTo>
                  <a:pt x="83" y="111"/>
                </a:lnTo>
                <a:lnTo>
                  <a:pt x="0" y="111"/>
                </a:lnTo>
                <a:lnTo>
                  <a:pt x="44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35760" y="564372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49800" y="543564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257" y="0"/>
                </a:moveTo>
                <a:lnTo>
                  <a:pt x="0" y="147"/>
                </a:lnTo>
                <a:lnTo>
                  <a:pt x="44" y="147"/>
                </a:lnTo>
                <a:lnTo>
                  <a:pt x="0" y="14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66000" y="5240160"/>
            <a:ext cx="76680" cy="52920"/>
          </a:xfrm>
          <a:custGeom>
            <a:avLst/>
            <a:gdLst/>
            <a:ahLst/>
            <a:rect l="0" t="0" r="r" b="b"/>
            <a:pathLst>
              <a:path fill="none" w="213" h="147">
                <a:moveTo>
                  <a:pt x="213" y="0"/>
                </a:moveTo>
                <a:lnTo>
                  <a:pt x="0" y="147"/>
                </a:lnTo>
                <a:lnTo>
                  <a:pt x="39" y="112"/>
                </a:lnTo>
                <a:lnTo>
                  <a:pt x="0" y="147"/>
                </a:lnTo>
                <a:lnTo>
                  <a:pt x="39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80040" y="50468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173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45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95880" y="485136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45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1720" y="465624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85" y="0"/>
                </a:moveTo>
                <a:lnTo>
                  <a:pt x="0" y="111"/>
                </a:lnTo>
                <a:lnTo>
                  <a:pt x="40" y="111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26120" y="446256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72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141960" y="426708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0" y="111"/>
                </a:lnTo>
                <a:lnTo>
                  <a:pt x="72" y="71"/>
                </a:lnTo>
                <a:lnTo>
                  <a:pt x="0" y="111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1960" y="405936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0" y="0"/>
                </a:moveTo>
                <a:lnTo>
                  <a:pt x="72" y="147"/>
                </a:lnTo>
                <a:lnTo>
                  <a:pt x="72" y="112"/>
                </a:lnTo>
                <a:lnTo>
                  <a:pt x="72" y="147"/>
                </a:lnTo>
                <a:lnTo>
                  <a:pt x="72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41960" y="386568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0"/>
                </a:moveTo>
                <a:lnTo>
                  <a:pt x="129" y="107"/>
                </a:lnTo>
                <a:lnTo>
                  <a:pt x="84" y="107"/>
                </a:lnTo>
                <a:lnTo>
                  <a:pt x="129" y="107"/>
                </a:lnTo>
                <a:lnTo>
                  <a:pt x="84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41960" y="367020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0"/>
                </a:moveTo>
                <a:lnTo>
                  <a:pt x="169" y="107"/>
                </a:lnTo>
                <a:lnTo>
                  <a:pt x="129" y="71"/>
                </a:lnTo>
                <a:lnTo>
                  <a:pt x="169" y="107"/>
                </a:lnTo>
                <a:lnTo>
                  <a:pt x="12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41960" y="347508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0"/>
                </a:moveTo>
                <a:lnTo>
                  <a:pt x="213" y="111"/>
                </a:lnTo>
                <a:lnTo>
                  <a:pt x="169" y="75"/>
                </a:lnTo>
                <a:lnTo>
                  <a:pt x="213" y="111"/>
                </a:lnTo>
                <a:lnTo>
                  <a:pt x="169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41960" y="3281400"/>
            <a:ext cx="90720" cy="38520"/>
          </a:xfrm>
          <a:custGeom>
            <a:avLst/>
            <a:gdLst/>
            <a:ahLst/>
            <a:rect l="0" t="0" r="r" b="b"/>
            <a:pathLst>
              <a:path fill="none" w="252" h="107">
                <a:moveTo>
                  <a:pt x="0" y="0"/>
                </a:moveTo>
                <a:lnTo>
                  <a:pt x="252" y="107"/>
                </a:lnTo>
                <a:lnTo>
                  <a:pt x="212" y="71"/>
                </a:lnTo>
                <a:lnTo>
                  <a:pt x="252" y="107"/>
                </a:lnTo>
                <a:lnTo>
                  <a:pt x="21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41960" y="308592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52" y="71"/>
                </a:lnTo>
                <a:lnTo>
                  <a:pt x="296" y="111"/>
                </a:lnTo>
                <a:lnTo>
                  <a:pt x="21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41960" y="287820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0" y="0"/>
                </a:moveTo>
                <a:lnTo>
                  <a:pt x="341" y="147"/>
                </a:lnTo>
                <a:lnTo>
                  <a:pt x="297" y="75"/>
                </a:lnTo>
                <a:lnTo>
                  <a:pt x="341" y="147"/>
                </a:lnTo>
                <a:lnTo>
                  <a:pt x="25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41960" y="2684520"/>
            <a:ext cx="136800" cy="51120"/>
          </a:xfrm>
          <a:custGeom>
            <a:avLst/>
            <a:gdLst/>
            <a:ahLst/>
            <a:rect l="0" t="0" r="r" b="b"/>
            <a:pathLst>
              <a:path fill="none" w="380" h="142">
                <a:moveTo>
                  <a:pt x="0" y="0"/>
                </a:moveTo>
                <a:lnTo>
                  <a:pt x="380" y="142"/>
                </a:lnTo>
                <a:lnTo>
                  <a:pt x="340" y="70"/>
                </a:lnTo>
                <a:lnTo>
                  <a:pt x="380" y="142"/>
                </a:lnTo>
                <a:lnTo>
                  <a:pt x="296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41960" y="248904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0" y="0"/>
                </a:moveTo>
                <a:lnTo>
                  <a:pt x="424" y="106"/>
                </a:lnTo>
                <a:lnTo>
                  <a:pt x="340" y="71"/>
                </a:lnTo>
                <a:lnTo>
                  <a:pt x="424" y="106"/>
                </a:lnTo>
                <a:lnTo>
                  <a:pt x="34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141960" y="2293920"/>
            <a:ext cx="167040" cy="52920"/>
          </a:xfrm>
          <a:custGeom>
            <a:avLst/>
            <a:gdLst/>
            <a:ahLst/>
            <a:rect l="0" t="0" r="r" b="b"/>
            <a:pathLst>
              <a:path fill="none" w="464" h="147">
                <a:moveTo>
                  <a:pt x="0" y="0"/>
                </a:moveTo>
                <a:lnTo>
                  <a:pt x="464" y="112"/>
                </a:lnTo>
                <a:lnTo>
                  <a:pt x="380" y="75"/>
                </a:lnTo>
                <a:lnTo>
                  <a:pt x="464" y="112"/>
                </a:lnTo>
                <a:lnTo>
                  <a:pt x="38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172200" y="622764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88040" y="603252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424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202440" y="583740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385" y="0"/>
                </a:moveTo>
                <a:lnTo>
                  <a:pt x="0" y="111"/>
                </a:lnTo>
                <a:lnTo>
                  <a:pt x="83" y="111"/>
                </a:lnTo>
                <a:lnTo>
                  <a:pt x="0" y="111"/>
                </a:lnTo>
                <a:lnTo>
                  <a:pt x="83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218280" y="564372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0"/>
                </a:moveTo>
                <a:lnTo>
                  <a:pt x="0" y="71"/>
                </a:lnTo>
                <a:lnTo>
                  <a:pt x="83" y="107"/>
                </a:lnTo>
                <a:lnTo>
                  <a:pt x="0" y="71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232680" y="5435640"/>
            <a:ext cx="108360" cy="38520"/>
          </a:xfrm>
          <a:custGeom>
            <a:avLst/>
            <a:gdLst/>
            <a:ahLst/>
            <a:rect l="0" t="0" r="r" b="b"/>
            <a:pathLst>
              <a:path fill="none" w="301" h="107">
                <a:moveTo>
                  <a:pt x="301" y="0"/>
                </a:moveTo>
                <a:lnTo>
                  <a:pt x="0" y="107"/>
                </a:lnTo>
                <a:lnTo>
                  <a:pt x="89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48520" y="524016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0"/>
                </a:moveTo>
                <a:lnTo>
                  <a:pt x="0" y="111"/>
                </a:lnTo>
                <a:lnTo>
                  <a:pt x="84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64360" y="50468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0"/>
                </a:moveTo>
                <a:lnTo>
                  <a:pt x="0" y="107"/>
                </a:lnTo>
                <a:lnTo>
                  <a:pt x="84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94600" y="485136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0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08640" y="4656240"/>
            <a:ext cx="32040" cy="39960"/>
          </a:xfrm>
          <a:custGeom>
            <a:avLst/>
            <a:gdLst/>
            <a:ahLst/>
            <a:rect l="0" t="0" r="r" b="b"/>
            <a:pathLst>
              <a:path fill="none" w="89" h="111">
                <a:moveTo>
                  <a:pt x="89" y="0"/>
                </a:moveTo>
                <a:lnTo>
                  <a:pt x="0" y="111"/>
                </a:lnTo>
                <a:lnTo>
                  <a:pt x="0" y="75"/>
                </a:lnTo>
                <a:lnTo>
                  <a:pt x="0" y="111"/>
                </a:lnTo>
                <a:lnTo>
                  <a:pt x="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40320" y="42670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40320" y="405936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111"/>
                </a:lnTo>
                <a:lnTo>
                  <a:pt x="72" y="111"/>
                </a:lnTo>
                <a:lnTo>
                  <a:pt x="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40320" y="38656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0" y="0"/>
                </a:moveTo>
                <a:lnTo>
                  <a:pt x="85" y="107"/>
                </a:lnTo>
                <a:lnTo>
                  <a:pt x="85" y="71"/>
                </a:lnTo>
                <a:lnTo>
                  <a:pt x="85" y="107"/>
                </a:lnTo>
                <a:lnTo>
                  <a:pt x="4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40320" y="3670200"/>
            <a:ext cx="44640" cy="38520"/>
          </a:xfrm>
          <a:custGeom>
            <a:avLst/>
            <a:gdLst/>
            <a:ahLst/>
            <a:rect l="0" t="0" r="r" b="b"/>
            <a:pathLst>
              <a:path fill="none" w="124" h="107">
                <a:moveTo>
                  <a:pt x="0" y="0"/>
                </a:moveTo>
                <a:lnTo>
                  <a:pt x="124" y="107"/>
                </a:lnTo>
                <a:lnTo>
                  <a:pt x="124" y="71"/>
                </a:lnTo>
                <a:lnTo>
                  <a:pt x="124" y="107"/>
                </a:lnTo>
                <a:lnTo>
                  <a:pt x="84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40320" y="34750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0"/>
                </a:moveTo>
                <a:lnTo>
                  <a:pt x="169" y="111"/>
                </a:lnTo>
                <a:lnTo>
                  <a:pt x="124" y="75"/>
                </a:lnTo>
                <a:lnTo>
                  <a:pt x="169" y="111"/>
                </a:lnTo>
                <a:lnTo>
                  <a:pt x="124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40320" y="32814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0"/>
                </a:moveTo>
                <a:lnTo>
                  <a:pt x="213" y="107"/>
                </a:lnTo>
                <a:lnTo>
                  <a:pt x="169" y="36"/>
                </a:lnTo>
                <a:lnTo>
                  <a:pt x="213" y="107"/>
                </a:lnTo>
                <a:lnTo>
                  <a:pt x="16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340320" y="308592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0" y="0"/>
                </a:moveTo>
                <a:lnTo>
                  <a:pt x="252" y="72"/>
                </a:lnTo>
                <a:lnTo>
                  <a:pt x="212" y="36"/>
                </a:lnTo>
                <a:lnTo>
                  <a:pt x="252" y="72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40320" y="287820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0"/>
                </a:moveTo>
                <a:lnTo>
                  <a:pt x="296" y="111"/>
                </a:lnTo>
                <a:lnTo>
                  <a:pt x="252" y="75"/>
                </a:lnTo>
                <a:lnTo>
                  <a:pt x="296" y="111"/>
                </a:lnTo>
                <a:lnTo>
                  <a:pt x="25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40320" y="2684520"/>
            <a:ext cx="120960" cy="38520"/>
          </a:xfrm>
          <a:custGeom>
            <a:avLst/>
            <a:gdLst/>
            <a:ahLst/>
            <a:rect l="0" t="0" r="r" b="b"/>
            <a:pathLst>
              <a:path fill="none" w="336" h="107">
                <a:moveTo>
                  <a:pt x="0" y="0"/>
                </a:moveTo>
                <a:lnTo>
                  <a:pt x="336" y="107"/>
                </a:lnTo>
                <a:lnTo>
                  <a:pt x="296" y="71"/>
                </a:lnTo>
                <a:lnTo>
                  <a:pt x="336" y="107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40320" y="248904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0" y="0"/>
                </a:moveTo>
                <a:lnTo>
                  <a:pt x="424" y="107"/>
                </a:lnTo>
                <a:lnTo>
                  <a:pt x="336" y="36"/>
                </a:lnTo>
                <a:lnTo>
                  <a:pt x="424" y="107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40320" y="2293920"/>
            <a:ext cx="167040" cy="39960"/>
          </a:xfrm>
          <a:custGeom>
            <a:avLst/>
            <a:gdLst/>
            <a:ahLst/>
            <a:rect l="0" t="0" r="r" b="b"/>
            <a:pathLst>
              <a:path fill="none" w="464" h="111">
                <a:moveTo>
                  <a:pt x="0" y="0"/>
                </a:moveTo>
                <a:lnTo>
                  <a:pt x="464" y="111"/>
                </a:lnTo>
                <a:lnTo>
                  <a:pt x="380" y="35"/>
                </a:lnTo>
                <a:lnTo>
                  <a:pt x="464" y="111"/>
                </a:lnTo>
                <a:lnTo>
                  <a:pt x="336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54720" y="622764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71"/>
                </a:lnTo>
                <a:lnTo>
                  <a:pt x="127" y="107"/>
                </a:lnTo>
                <a:lnTo>
                  <a:pt x="0" y="71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370560" y="60325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00800" y="583740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341" y="0"/>
                </a:moveTo>
                <a:lnTo>
                  <a:pt x="0" y="76"/>
                </a:lnTo>
                <a:lnTo>
                  <a:pt x="44" y="76"/>
                </a:lnTo>
                <a:lnTo>
                  <a:pt x="0" y="76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416640" y="56437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0"/>
                </a:moveTo>
                <a:lnTo>
                  <a:pt x="0" y="36"/>
                </a:lnTo>
                <a:lnTo>
                  <a:pt x="39" y="72"/>
                </a:lnTo>
                <a:lnTo>
                  <a:pt x="0" y="36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31040" y="5435640"/>
            <a:ext cx="92520" cy="38520"/>
          </a:xfrm>
          <a:custGeom>
            <a:avLst/>
            <a:gdLst/>
            <a:ahLst/>
            <a:rect l="0" t="0" r="r" b="b"/>
            <a:pathLst>
              <a:path fill="none" w="257" h="107">
                <a:moveTo>
                  <a:pt x="257" y="0"/>
                </a:moveTo>
                <a:lnTo>
                  <a:pt x="0" y="71"/>
                </a:lnTo>
                <a:lnTo>
                  <a:pt x="44" y="107"/>
                </a:lnTo>
                <a:lnTo>
                  <a:pt x="0" y="71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46880" y="524016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213" y="0"/>
                </a:moveTo>
                <a:lnTo>
                  <a:pt x="0" y="76"/>
                </a:lnTo>
                <a:lnTo>
                  <a:pt x="39" y="76"/>
                </a:lnTo>
                <a:lnTo>
                  <a:pt x="0" y="76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61280" y="50468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77120" y="48513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92960" y="4656240"/>
            <a:ext cx="30600" cy="27360"/>
          </a:xfrm>
          <a:custGeom>
            <a:avLst/>
            <a:gdLst/>
            <a:ahLst/>
            <a:rect l="0" t="0" r="r" b="b"/>
            <a:pathLst>
              <a:path fill="none" w="85" h="76">
                <a:moveTo>
                  <a:pt x="85" y="0"/>
                </a:moveTo>
                <a:lnTo>
                  <a:pt x="0" y="76"/>
                </a:lnTo>
                <a:lnTo>
                  <a:pt x="40" y="76"/>
                </a:lnTo>
                <a:lnTo>
                  <a:pt x="0" y="76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4625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0"/>
                </a:moveTo>
                <a:lnTo>
                  <a:pt x="0" y="72"/>
                </a:lnTo>
                <a:lnTo>
                  <a:pt x="0" y="36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23200" y="42670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23200" y="4059360"/>
            <a:ext cx="25920" cy="27360"/>
          </a:xfrm>
          <a:custGeom>
            <a:avLst/>
            <a:gdLst/>
            <a:ahLst/>
            <a:rect l="0" t="0" r="r" b="b"/>
            <a:pathLst>
              <a:path fill="none" w="72" h="76">
                <a:moveTo>
                  <a:pt x="0" y="0"/>
                </a:moveTo>
                <a:lnTo>
                  <a:pt x="72" y="76"/>
                </a:lnTo>
                <a:lnTo>
                  <a:pt x="72" y="76"/>
                </a:lnTo>
                <a:lnTo>
                  <a:pt x="72" y="76"/>
                </a:lnTo>
                <a:lnTo>
                  <a:pt x="7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23200" y="3865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85" y="72"/>
                </a:lnTo>
                <a:lnTo>
                  <a:pt x="85" y="72"/>
                </a:lnTo>
                <a:lnTo>
                  <a:pt x="8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523200" y="3670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129" y="36"/>
                </a:lnTo>
                <a:lnTo>
                  <a:pt x="12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23200" y="347508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0" y="0"/>
                </a:moveTo>
                <a:lnTo>
                  <a:pt x="213" y="76"/>
                </a:lnTo>
                <a:lnTo>
                  <a:pt x="169" y="36"/>
                </a:lnTo>
                <a:lnTo>
                  <a:pt x="213" y="76"/>
                </a:lnTo>
                <a:lnTo>
                  <a:pt x="169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23200" y="328140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0" y="0"/>
                </a:moveTo>
                <a:lnTo>
                  <a:pt x="252" y="72"/>
                </a:lnTo>
                <a:lnTo>
                  <a:pt x="212" y="36"/>
                </a:lnTo>
                <a:lnTo>
                  <a:pt x="252" y="72"/>
                </a:lnTo>
                <a:lnTo>
                  <a:pt x="16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523200" y="30859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0"/>
                </a:moveTo>
                <a:lnTo>
                  <a:pt x="296" y="72"/>
                </a:lnTo>
                <a:lnTo>
                  <a:pt x="252" y="36"/>
                </a:lnTo>
                <a:lnTo>
                  <a:pt x="296" y="72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23200" y="287820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0" y="0"/>
                </a:moveTo>
                <a:lnTo>
                  <a:pt x="341" y="75"/>
                </a:lnTo>
                <a:lnTo>
                  <a:pt x="252" y="35"/>
                </a:lnTo>
                <a:lnTo>
                  <a:pt x="341" y="75"/>
                </a:lnTo>
                <a:lnTo>
                  <a:pt x="252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23200" y="2684520"/>
            <a:ext cx="136800" cy="38520"/>
          </a:xfrm>
          <a:custGeom>
            <a:avLst/>
            <a:gdLst/>
            <a:ahLst/>
            <a:rect l="0" t="0" r="r" b="b"/>
            <a:pathLst>
              <a:path fill="none" w="380" h="107">
                <a:moveTo>
                  <a:pt x="0" y="0"/>
                </a:moveTo>
                <a:lnTo>
                  <a:pt x="380" y="71"/>
                </a:lnTo>
                <a:lnTo>
                  <a:pt x="296" y="36"/>
                </a:lnTo>
                <a:lnTo>
                  <a:pt x="380" y="71"/>
                </a:lnTo>
                <a:lnTo>
                  <a:pt x="2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523200" y="2489040"/>
            <a:ext cx="152640" cy="38520"/>
          </a:xfrm>
          <a:custGeom>
            <a:avLst/>
            <a:gdLst/>
            <a:ahLst/>
            <a:rect l="0" t="0" r="r" b="b"/>
            <a:pathLst>
              <a:path fill="none" w="424" h="107">
                <a:moveTo>
                  <a:pt x="0" y="0"/>
                </a:moveTo>
                <a:lnTo>
                  <a:pt x="424" y="71"/>
                </a:lnTo>
                <a:lnTo>
                  <a:pt x="340" y="36"/>
                </a:lnTo>
                <a:lnTo>
                  <a:pt x="424" y="71"/>
                </a:lnTo>
                <a:lnTo>
                  <a:pt x="34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23200" y="2293920"/>
            <a:ext cx="167040" cy="39960"/>
          </a:xfrm>
          <a:custGeom>
            <a:avLst/>
            <a:gdLst/>
            <a:ahLst/>
            <a:rect l="0" t="0" r="r" b="b"/>
            <a:pathLst>
              <a:path fill="none" w="464" h="111">
                <a:moveTo>
                  <a:pt x="0" y="0"/>
                </a:moveTo>
                <a:lnTo>
                  <a:pt x="464" y="75"/>
                </a:lnTo>
                <a:lnTo>
                  <a:pt x="380" y="0"/>
                </a:lnTo>
                <a:lnTo>
                  <a:pt x="464" y="75"/>
                </a:lnTo>
                <a:lnTo>
                  <a:pt x="380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622764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468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68920" y="601992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36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3320" y="5824440"/>
            <a:ext cx="138600" cy="27360"/>
          </a:xfrm>
          <a:custGeom>
            <a:avLst/>
            <a:gdLst/>
            <a:ahLst/>
            <a:rect l="0" t="0" r="r" b="b"/>
            <a:pathLst>
              <a:path fill="none" w="385" h="76">
                <a:moveTo>
                  <a:pt x="385" y="36"/>
                </a:moveTo>
                <a:lnTo>
                  <a:pt x="0" y="36"/>
                </a:lnTo>
                <a:lnTo>
                  <a:pt x="83" y="76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99160" y="563076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13560" y="543564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0"/>
                </a:moveTo>
                <a:lnTo>
                  <a:pt x="0" y="36"/>
                </a:lnTo>
                <a:lnTo>
                  <a:pt x="44" y="72"/>
                </a:lnTo>
                <a:lnTo>
                  <a:pt x="0" y="36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629400" y="524016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45240" y="50468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48513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75480" y="465624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40" y="72"/>
                </a:lnTo>
                <a:lnTo>
                  <a:pt x="0" y="72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05720" y="44625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7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21560" y="4267080"/>
            <a:ext cx="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721560" y="40593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21560" y="3865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40" y="72"/>
                </a:lnTo>
                <a:lnTo>
                  <a:pt x="85" y="72"/>
                </a:lnTo>
                <a:lnTo>
                  <a:pt x="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721560" y="3670200"/>
            <a:ext cx="44640" cy="25920"/>
          </a:xfrm>
          <a:custGeom>
            <a:avLst/>
            <a:gdLst/>
            <a:ahLst/>
            <a:rect l="0" t="0" r="r" b="b"/>
            <a:pathLst>
              <a:path fill="none" w="124" h="72">
                <a:moveTo>
                  <a:pt x="0" y="0"/>
                </a:moveTo>
                <a:lnTo>
                  <a:pt x="124" y="72"/>
                </a:lnTo>
                <a:lnTo>
                  <a:pt x="84" y="0"/>
                </a:lnTo>
                <a:lnTo>
                  <a:pt x="124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721560" y="34750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0"/>
                </a:moveTo>
                <a:lnTo>
                  <a:pt x="169" y="72"/>
                </a:lnTo>
                <a:lnTo>
                  <a:pt x="124" y="0"/>
                </a:lnTo>
                <a:lnTo>
                  <a:pt x="169" y="72"/>
                </a:lnTo>
                <a:lnTo>
                  <a:pt x="12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721560" y="3281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721560" y="308592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0" y="0"/>
                </a:moveTo>
                <a:lnTo>
                  <a:pt x="252" y="0"/>
                </a:lnTo>
                <a:lnTo>
                  <a:pt x="212" y="0"/>
                </a:lnTo>
                <a:lnTo>
                  <a:pt x="252" y="0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21560" y="2878200"/>
            <a:ext cx="106560" cy="27360"/>
          </a:xfrm>
          <a:custGeom>
            <a:avLst/>
            <a:gdLst/>
            <a:ahLst/>
            <a:rect l="0" t="0" r="r" b="b"/>
            <a:pathLst>
              <a:path fill="none" w="296" h="76">
                <a:moveTo>
                  <a:pt x="0" y="0"/>
                </a:moveTo>
                <a:lnTo>
                  <a:pt x="296" y="36"/>
                </a:lnTo>
                <a:lnTo>
                  <a:pt x="252" y="0"/>
                </a:lnTo>
                <a:lnTo>
                  <a:pt x="296" y="36"/>
                </a:lnTo>
                <a:lnTo>
                  <a:pt x="25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21560" y="2684520"/>
            <a:ext cx="120960" cy="25920"/>
          </a:xfrm>
          <a:custGeom>
            <a:avLst/>
            <a:gdLst/>
            <a:ahLst/>
            <a:rect l="0" t="0" r="r" b="b"/>
            <a:pathLst>
              <a:path fill="none" w="336" h="72">
                <a:moveTo>
                  <a:pt x="0" y="0"/>
                </a:moveTo>
                <a:lnTo>
                  <a:pt x="336" y="36"/>
                </a:lnTo>
                <a:lnTo>
                  <a:pt x="296" y="0"/>
                </a:lnTo>
                <a:lnTo>
                  <a:pt x="336" y="36"/>
                </a:lnTo>
                <a:lnTo>
                  <a:pt x="29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21560" y="248904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0" y="0"/>
                </a:moveTo>
                <a:lnTo>
                  <a:pt x="380" y="36"/>
                </a:lnTo>
                <a:lnTo>
                  <a:pt x="336" y="0"/>
                </a:lnTo>
                <a:lnTo>
                  <a:pt x="380" y="36"/>
                </a:lnTo>
                <a:lnTo>
                  <a:pt x="29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21560" y="2293920"/>
            <a:ext cx="152640" cy="27360"/>
          </a:xfrm>
          <a:custGeom>
            <a:avLst/>
            <a:gdLst/>
            <a:ahLst/>
            <a:rect l="0" t="0" r="r" b="b"/>
            <a:pathLst>
              <a:path fill="none" w="424" h="76">
                <a:moveTo>
                  <a:pt x="0" y="0"/>
                </a:moveTo>
                <a:lnTo>
                  <a:pt x="424" y="36"/>
                </a:lnTo>
                <a:lnTo>
                  <a:pt x="336" y="0"/>
                </a:lnTo>
                <a:lnTo>
                  <a:pt x="424" y="36"/>
                </a:lnTo>
                <a:lnTo>
                  <a:pt x="33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5600" y="6200640"/>
            <a:ext cx="168480" cy="39960"/>
          </a:xfrm>
          <a:custGeom>
            <a:avLst/>
            <a:gdLst/>
            <a:ahLst/>
            <a:rect l="0" t="0" r="r" b="b"/>
            <a:pathLst>
              <a:path fill="none" w="468" h="111">
                <a:moveTo>
                  <a:pt x="468" y="75"/>
                </a:moveTo>
                <a:lnTo>
                  <a:pt x="0" y="35"/>
                </a:lnTo>
                <a:lnTo>
                  <a:pt x="83" y="111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751800" y="600696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72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765840" y="581184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385" y="72"/>
                </a:moveTo>
                <a:lnTo>
                  <a:pt x="0" y="36"/>
                </a:lnTo>
                <a:lnTo>
                  <a:pt x="88" y="72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81680" y="561672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341" y="76"/>
                </a:moveTo>
                <a:lnTo>
                  <a:pt x="0" y="40"/>
                </a:lnTo>
                <a:lnTo>
                  <a:pt x="83" y="76"/>
                </a:lnTo>
                <a:lnTo>
                  <a:pt x="0" y="4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11920" y="542304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36"/>
                </a:moveTo>
                <a:lnTo>
                  <a:pt x="0" y="36"/>
                </a:lnTo>
                <a:lnTo>
                  <a:pt x="44" y="72"/>
                </a:lnTo>
                <a:lnTo>
                  <a:pt x="0" y="36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27760" y="52275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42160" y="50324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72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0" y="48387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73840" y="46432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88240" y="44481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904080" y="42544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04080" y="40593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0" y="0"/>
                </a:move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04080" y="386568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0" y="0"/>
                </a:move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904080" y="36576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129" y="0"/>
                </a:lnTo>
                <a:lnTo>
                  <a:pt x="129" y="0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904080" y="34624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904080" y="32670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904080" y="30733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04080" y="28656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36"/>
                </a:moveTo>
                <a:lnTo>
                  <a:pt x="341" y="36"/>
                </a:lnTo>
                <a:lnTo>
                  <a:pt x="252" y="0"/>
                </a:lnTo>
                <a:lnTo>
                  <a:pt x="341" y="36"/>
                </a:lnTo>
                <a:lnTo>
                  <a:pt x="25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04080" y="267012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0" y="40"/>
                </a:moveTo>
                <a:lnTo>
                  <a:pt x="380" y="40"/>
                </a:lnTo>
                <a:lnTo>
                  <a:pt x="296" y="0"/>
                </a:lnTo>
                <a:lnTo>
                  <a:pt x="380" y="40"/>
                </a:lnTo>
                <a:lnTo>
                  <a:pt x="29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904080" y="24764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36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04080" y="2268360"/>
            <a:ext cx="167040" cy="38520"/>
          </a:xfrm>
          <a:custGeom>
            <a:avLst/>
            <a:gdLst/>
            <a:ahLst/>
            <a:rect l="0" t="0" r="r" b="b"/>
            <a:pathLst>
              <a:path fill="none" w="464" h="107">
                <a:moveTo>
                  <a:pt x="0" y="71"/>
                </a:moveTo>
                <a:lnTo>
                  <a:pt x="464" y="36"/>
                </a:lnTo>
                <a:lnTo>
                  <a:pt x="380" y="0"/>
                </a:lnTo>
                <a:lnTo>
                  <a:pt x="464" y="36"/>
                </a:lnTo>
                <a:lnTo>
                  <a:pt x="38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934320" y="6200640"/>
            <a:ext cx="152640" cy="27360"/>
          </a:xfrm>
          <a:custGeom>
            <a:avLst/>
            <a:gdLst/>
            <a:ahLst/>
            <a:rect l="0" t="0" r="r" b="b"/>
            <a:pathLst>
              <a:path fill="none" w="424" h="76">
                <a:moveTo>
                  <a:pt x="424" y="76"/>
                </a:moveTo>
                <a:lnTo>
                  <a:pt x="0" y="0"/>
                </a:lnTo>
                <a:lnTo>
                  <a:pt x="83" y="7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950160" y="599292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380" y="111"/>
                </a:moveTo>
                <a:lnTo>
                  <a:pt x="0" y="39"/>
                </a:lnTo>
                <a:lnTo>
                  <a:pt x="83" y="75"/>
                </a:lnTo>
                <a:lnTo>
                  <a:pt x="0" y="39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64200" y="579924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107"/>
                </a:moveTo>
                <a:lnTo>
                  <a:pt x="0" y="36"/>
                </a:lnTo>
                <a:lnTo>
                  <a:pt x="44" y="71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980400" y="560376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296" y="111"/>
                </a:moveTo>
                <a:lnTo>
                  <a:pt x="0" y="35"/>
                </a:lnTo>
                <a:lnTo>
                  <a:pt x="39" y="75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994440" y="541008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36"/>
                </a:lnTo>
                <a:lnTo>
                  <a:pt x="44" y="72"/>
                </a:lnTo>
                <a:lnTo>
                  <a:pt x="0" y="36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5214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26120" y="5019840"/>
            <a:ext cx="60840" cy="27360"/>
          </a:xfrm>
          <a:custGeom>
            <a:avLst/>
            <a:gdLst/>
            <a:ahLst/>
            <a:rect l="0" t="0" r="r" b="b"/>
            <a:pathLst>
              <a:path fill="none" w="169" h="76">
                <a:moveTo>
                  <a:pt x="169" y="76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40520" y="48261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45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56360" y="46306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0"/>
                </a:lnTo>
                <a:lnTo>
                  <a:pt x="40" y="36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70760" y="4435560"/>
            <a:ext cx="25920" cy="27360"/>
          </a:xfrm>
          <a:custGeom>
            <a:avLst/>
            <a:gdLst/>
            <a:ahLst/>
            <a:rect l="0" t="0" r="r" b="b"/>
            <a:pathLst>
              <a:path fill="none" w="72" h="76">
                <a:moveTo>
                  <a:pt x="72" y="7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6600" y="42418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6600" y="404640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72"/>
                </a:moveTo>
                <a:lnTo>
                  <a:pt x="85" y="0"/>
                </a:lnTo>
                <a:lnTo>
                  <a:pt x="45" y="0"/>
                </a:lnTo>
                <a:lnTo>
                  <a:pt x="85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086600" y="3838680"/>
            <a:ext cx="46440" cy="27360"/>
          </a:xfrm>
          <a:custGeom>
            <a:avLst/>
            <a:gdLst/>
            <a:ahLst/>
            <a:rect l="0" t="0" r="r" b="b"/>
            <a:pathLst>
              <a:path fill="none" w="129" h="76">
                <a:moveTo>
                  <a:pt x="0" y="76"/>
                </a:moveTo>
                <a:lnTo>
                  <a:pt x="129" y="0"/>
                </a:lnTo>
                <a:lnTo>
                  <a:pt x="84" y="36"/>
                </a:lnTo>
                <a:lnTo>
                  <a:pt x="129" y="0"/>
                </a:lnTo>
                <a:lnTo>
                  <a:pt x="8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86600" y="36450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86600" y="34495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6600" y="3254400"/>
            <a:ext cx="92520" cy="27360"/>
          </a:xfrm>
          <a:custGeom>
            <a:avLst/>
            <a:gdLst/>
            <a:ahLst/>
            <a:rect l="0" t="0" r="r" b="b"/>
            <a:pathLst>
              <a:path fill="none" w="257" h="76">
                <a:moveTo>
                  <a:pt x="0" y="76"/>
                </a:moveTo>
                <a:lnTo>
                  <a:pt x="257" y="0"/>
                </a:lnTo>
                <a:lnTo>
                  <a:pt x="213" y="0"/>
                </a:lnTo>
                <a:lnTo>
                  <a:pt x="257" y="0"/>
                </a:lnTo>
                <a:lnTo>
                  <a:pt x="21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086600" y="30607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0"/>
                </a:lnTo>
                <a:lnTo>
                  <a:pt x="256" y="0"/>
                </a:lnTo>
                <a:lnTo>
                  <a:pt x="296" y="0"/>
                </a:lnTo>
                <a:lnTo>
                  <a:pt x="256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86600" y="28526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72"/>
                </a:moveTo>
                <a:lnTo>
                  <a:pt x="341" y="36"/>
                </a:lnTo>
                <a:lnTo>
                  <a:pt x="257" y="0"/>
                </a:lnTo>
                <a:lnTo>
                  <a:pt x="341" y="36"/>
                </a:lnTo>
                <a:lnTo>
                  <a:pt x="29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086600" y="265752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0" y="76"/>
                </a:moveTo>
                <a:lnTo>
                  <a:pt x="380" y="36"/>
                </a:lnTo>
                <a:lnTo>
                  <a:pt x="296" y="0"/>
                </a:lnTo>
                <a:lnTo>
                  <a:pt x="380" y="36"/>
                </a:lnTo>
                <a:lnTo>
                  <a:pt x="340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86600" y="24638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72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86600" y="226836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72"/>
                </a:moveTo>
                <a:lnTo>
                  <a:pt x="468" y="0"/>
                </a:lnTo>
                <a:lnTo>
                  <a:pt x="380" y="0"/>
                </a:lnTo>
                <a:lnTo>
                  <a:pt x="468" y="0"/>
                </a:lnTo>
                <a:lnTo>
                  <a:pt x="38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16840" y="6188040"/>
            <a:ext cx="168480" cy="39960"/>
          </a:xfrm>
          <a:custGeom>
            <a:avLst/>
            <a:gdLst/>
            <a:ahLst/>
            <a:rect l="0" t="0" r="r" b="b"/>
            <a:pathLst>
              <a:path fill="none" w="468" h="111">
                <a:moveTo>
                  <a:pt x="468" y="111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32680" y="5992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0"/>
                </a:lnTo>
                <a:lnTo>
                  <a:pt x="83" y="7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147080" y="5799240"/>
            <a:ext cx="138600" cy="38520"/>
          </a:xfrm>
          <a:custGeom>
            <a:avLst/>
            <a:gdLst/>
            <a:ahLst/>
            <a:rect l="0" t="0" r="r" b="b"/>
            <a:pathLst>
              <a:path fill="none" w="385" h="107">
                <a:moveTo>
                  <a:pt x="385" y="107"/>
                </a:moveTo>
                <a:lnTo>
                  <a:pt x="0" y="0"/>
                </a:lnTo>
                <a:lnTo>
                  <a:pt x="88" y="36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162920" y="560376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111"/>
                </a:moveTo>
                <a:lnTo>
                  <a:pt x="0" y="0"/>
                </a:lnTo>
                <a:lnTo>
                  <a:pt x="83" y="3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178760" y="541008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192800" y="521496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223040" y="500688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173" y="111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238880" y="481176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129" y="111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25472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69120" y="442260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84960" y="4228920"/>
            <a:ext cx="0" cy="37800"/>
          </a:xfrm>
          <a:custGeom>
            <a:avLst/>
            <a:gdLst/>
            <a:ahLst/>
            <a:rect l="0" t="0" r="r" b="b"/>
            <a:pathLst>
              <a:path fill="none" w="0" h="105">
                <a:moveTo>
                  <a:pt x="0" y="10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284960" y="40338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84960" y="382572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0" y="111"/>
                </a:moveTo>
                <a:lnTo>
                  <a:pt x="85" y="0"/>
                </a:lnTo>
                <a:lnTo>
                  <a:pt x="40" y="35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284960" y="363060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0" y="111"/>
                </a:moveTo>
                <a:lnTo>
                  <a:pt x="129" y="0"/>
                </a:lnTo>
                <a:lnTo>
                  <a:pt x="84" y="39"/>
                </a:lnTo>
                <a:lnTo>
                  <a:pt x="129" y="0"/>
                </a:lnTo>
                <a:lnTo>
                  <a:pt x="12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284960" y="343692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284960" y="32418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284960" y="3046320"/>
            <a:ext cx="90720" cy="39960"/>
          </a:xfrm>
          <a:custGeom>
            <a:avLst/>
            <a:gdLst/>
            <a:ahLst/>
            <a:rect l="0" t="0" r="r" b="b"/>
            <a:pathLst>
              <a:path fill="none" w="252" h="111">
                <a:moveTo>
                  <a:pt x="0" y="111"/>
                </a:moveTo>
                <a:lnTo>
                  <a:pt x="252" y="0"/>
                </a:lnTo>
                <a:lnTo>
                  <a:pt x="212" y="0"/>
                </a:lnTo>
                <a:lnTo>
                  <a:pt x="252" y="0"/>
                </a:lnTo>
                <a:lnTo>
                  <a:pt x="212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84960" y="28526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0"/>
                </a:lnTo>
                <a:lnTo>
                  <a:pt x="252" y="0"/>
                </a:lnTo>
                <a:lnTo>
                  <a:pt x="296" y="0"/>
                </a:lnTo>
                <a:lnTo>
                  <a:pt x="25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84960" y="264492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0" y="111"/>
                </a:moveTo>
                <a:lnTo>
                  <a:pt x="380" y="35"/>
                </a:lnTo>
                <a:lnTo>
                  <a:pt x="296" y="0"/>
                </a:lnTo>
                <a:lnTo>
                  <a:pt x="380" y="35"/>
                </a:lnTo>
                <a:lnTo>
                  <a:pt x="29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8496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284960" y="2255760"/>
            <a:ext cx="167040" cy="38520"/>
          </a:xfrm>
          <a:custGeom>
            <a:avLst/>
            <a:gdLst/>
            <a:ahLst/>
            <a:rect l="0" t="0" r="r" b="b"/>
            <a:pathLst>
              <a:path fill="none" w="464" h="107">
                <a:moveTo>
                  <a:pt x="0" y="107"/>
                </a:moveTo>
                <a:lnTo>
                  <a:pt x="464" y="0"/>
                </a:lnTo>
                <a:lnTo>
                  <a:pt x="340" y="0"/>
                </a:lnTo>
                <a:lnTo>
                  <a:pt x="464" y="0"/>
                </a:lnTo>
                <a:lnTo>
                  <a:pt x="38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299360" y="6175440"/>
            <a:ext cx="168480" cy="52920"/>
          </a:xfrm>
          <a:custGeom>
            <a:avLst/>
            <a:gdLst/>
            <a:ahLst/>
            <a:rect l="0" t="0" r="r" b="b"/>
            <a:pathLst>
              <a:path fill="none" w="468" h="147">
                <a:moveTo>
                  <a:pt x="468" y="147"/>
                </a:moveTo>
                <a:lnTo>
                  <a:pt x="0" y="35"/>
                </a:lnTo>
                <a:lnTo>
                  <a:pt x="88" y="71"/>
                </a:lnTo>
                <a:lnTo>
                  <a:pt x="0" y="35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31040" y="5979960"/>
            <a:ext cx="136800" cy="52920"/>
          </a:xfrm>
          <a:custGeom>
            <a:avLst/>
            <a:gdLst/>
            <a:ahLst/>
            <a:rect l="0" t="0" r="r" b="b"/>
            <a:pathLst>
              <a:path fill="none" w="380" h="147">
                <a:moveTo>
                  <a:pt x="380" y="147"/>
                </a:moveTo>
                <a:lnTo>
                  <a:pt x="0" y="35"/>
                </a:lnTo>
                <a:lnTo>
                  <a:pt x="39" y="75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345440" y="578628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341" y="142"/>
                </a:moveTo>
                <a:lnTo>
                  <a:pt x="0" y="0"/>
                </a:lnTo>
                <a:lnTo>
                  <a:pt x="44" y="70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61280" y="5591160"/>
            <a:ext cx="106560" cy="52920"/>
          </a:xfrm>
          <a:custGeom>
            <a:avLst/>
            <a:gdLst/>
            <a:ahLst/>
            <a:rect l="0" t="0" r="r" b="b"/>
            <a:pathLst>
              <a:path fill="none" w="296" h="147">
                <a:moveTo>
                  <a:pt x="296" y="147"/>
                </a:moveTo>
                <a:lnTo>
                  <a:pt x="0" y="0"/>
                </a:lnTo>
                <a:lnTo>
                  <a:pt x="39" y="71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375680" y="539604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111"/>
                </a:moveTo>
                <a:lnTo>
                  <a:pt x="0" y="0"/>
                </a:lnTo>
                <a:lnTo>
                  <a:pt x="44" y="39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391520" y="520236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107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407360" y="50068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169" y="111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421400" y="481176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129" y="111"/>
                </a:moveTo>
                <a:lnTo>
                  <a:pt x="0" y="0"/>
                </a:lnTo>
                <a:lnTo>
                  <a:pt x="45" y="39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43760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51640" y="441000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467480" y="421488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0" y="147"/>
                </a:moveTo>
                <a:lnTo>
                  <a:pt x="0" y="0"/>
                </a:lnTo>
                <a:lnTo>
                  <a:pt x="0" y="40"/>
                </a:lnTo>
                <a:lnTo>
                  <a:pt x="0" y="0"/>
                </a:lnTo>
                <a:lnTo>
                  <a:pt x="72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467480" y="40212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72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382572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0" y="111"/>
                </a:moveTo>
                <a:lnTo>
                  <a:pt x="85" y="0"/>
                </a:lnTo>
                <a:lnTo>
                  <a:pt x="85" y="0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363060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111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2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467480" y="343692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467480" y="324180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111"/>
                </a:moveTo>
                <a:lnTo>
                  <a:pt x="257" y="0"/>
                </a:lnTo>
                <a:lnTo>
                  <a:pt x="168" y="0"/>
                </a:lnTo>
                <a:lnTo>
                  <a:pt x="257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3033720"/>
            <a:ext cx="106560" cy="52920"/>
          </a:xfrm>
          <a:custGeom>
            <a:avLst/>
            <a:gdLst/>
            <a:ahLst/>
            <a:rect l="0" t="0" r="r" b="b"/>
            <a:pathLst>
              <a:path fill="none" w="296" h="147">
                <a:moveTo>
                  <a:pt x="0" y="147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56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67480" y="284004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0" y="107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9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467480" y="264492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0" y="111"/>
                </a:moveTo>
                <a:lnTo>
                  <a:pt x="380" y="0"/>
                </a:lnTo>
                <a:lnTo>
                  <a:pt x="296" y="0"/>
                </a:lnTo>
                <a:lnTo>
                  <a:pt x="380" y="0"/>
                </a:lnTo>
                <a:lnTo>
                  <a:pt x="29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467480" y="2243160"/>
            <a:ext cx="168480" cy="51120"/>
          </a:xfrm>
          <a:custGeom>
            <a:avLst/>
            <a:gdLst/>
            <a:ahLst/>
            <a:rect l="0" t="0" r="r" b="b"/>
            <a:pathLst>
              <a:path fill="none" w="468" h="142">
                <a:moveTo>
                  <a:pt x="0" y="142"/>
                </a:moveTo>
                <a:lnTo>
                  <a:pt x="468" y="35"/>
                </a:lnTo>
                <a:lnTo>
                  <a:pt x="380" y="0"/>
                </a:lnTo>
                <a:lnTo>
                  <a:pt x="468" y="35"/>
                </a:lnTo>
                <a:lnTo>
                  <a:pt x="38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97720" y="6175440"/>
            <a:ext cx="168480" cy="52920"/>
          </a:xfrm>
          <a:custGeom>
            <a:avLst/>
            <a:gdLst/>
            <a:ahLst/>
            <a:rect l="0" t="0" r="r" b="b"/>
            <a:pathLst>
              <a:path fill="none" w="468" h="147">
                <a:moveTo>
                  <a:pt x="468" y="147"/>
                </a:moveTo>
                <a:lnTo>
                  <a:pt x="0" y="35"/>
                </a:lnTo>
                <a:lnTo>
                  <a:pt x="83" y="71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513560" y="5979960"/>
            <a:ext cx="152640" cy="52920"/>
          </a:xfrm>
          <a:custGeom>
            <a:avLst/>
            <a:gdLst/>
            <a:ahLst/>
            <a:rect l="0" t="0" r="r" b="b"/>
            <a:pathLst>
              <a:path fill="none" w="424" h="147">
                <a:moveTo>
                  <a:pt x="424" y="147"/>
                </a:moveTo>
                <a:lnTo>
                  <a:pt x="0" y="35"/>
                </a:lnTo>
                <a:lnTo>
                  <a:pt x="83" y="75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527960" y="5786280"/>
            <a:ext cx="138600" cy="51120"/>
          </a:xfrm>
          <a:custGeom>
            <a:avLst/>
            <a:gdLst/>
            <a:ahLst/>
            <a:rect l="0" t="0" r="r" b="b"/>
            <a:pathLst>
              <a:path fill="none" w="385" h="142">
                <a:moveTo>
                  <a:pt x="385" y="142"/>
                </a:moveTo>
                <a:lnTo>
                  <a:pt x="0" y="0"/>
                </a:lnTo>
                <a:lnTo>
                  <a:pt x="88" y="70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543800" y="559116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341" y="147"/>
                </a:moveTo>
                <a:lnTo>
                  <a:pt x="0" y="0"/>
                </a:lnTo>
                <a:lnTo>
                  <a:pt x="44" y="71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559640" y="539604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296" y="111"/>
                </a:moveTo>
                <a:lnTo>
                  <a:pt x="0" y="0"/>
                </a:lnTo>
                <a:lnTo>
                  <a:pt x="39" y="39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574040" y="5202360"/>
            <a:ext cx="92520" cy="38520"/>
          </a:xfrm>
          <a:custGeom>
            <a:avLst/>
            <a:gdLst/>
            <a:ahLst/>
            <a:rect l="0" t="0" r="r" b="b"/>
            <a:pathLst>
              <a:path fill="none" w="257" h="107">
                <a:moveTo>
                  <a:pt x="257" y="107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589880" y="500688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213" y="111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604280" y="481176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173" y="111"/>
                </a:moveTo>
                <a:lnTo>
                  <a:pt x="0" y="0"/>
                </a:lnTo>
                <a:lnTo>
                  <a:pt x="45" y="39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63596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650000" y="441000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666200" y="4214880"/>
            <a:ext cx="0" cy="52200"/>
          </a:xfrm>
          <a:custGeom>
            <a:avLst/>
            <a:gdLst/>
            <a:ahLst/>
            <a:rect l="0" t="0" r="r" b="b"/>
            <a:pathLst>
              <a:path fill="none" w="0" h="145">
                <a:moveTo>
                  <a:pt x="0" y="145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0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666200" y="40212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0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66200" y="382572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0" y="111"/>
                </a:moveTo>
                <a:lnTo>
                  <a:pt x="85" y="0"/>
                </a:lnTo>
                <a:lnTo>
                  <a:pt x="40" y="0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666200" y="363060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0" y="111"/>
                </a:moveTo>
                <a:lnTo>
                  <a:pt x="129" y="0"/>
                </a:lnTo>
                <a:lnTo>
                  <a:pt x="84" y="0"/>
                </a:lnTo>
                <a:lnTo>
                  <a:pt x="129" y="0"/>
                </a:lnTo>
                <a:lnTo>
                  <a:pt x="12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66200" y="343692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66200" y="32418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666200" y="3033720"/>
            <a:ext cx="90720" cy="52920"/>
          </a:xfrm>
          <a:custGeom>
            <a:avLst/>
            <a:gdLst/>
            <a:ahLst/>
            <a:rect l="0" t="0" r="r" b="b"/>
            <a:pathLst>
              <a:path fill="none" w="252" h="147">
                <a:moveTo>
                  <a:pt x="0" y="147"/>
                </a:moveTo>
                <a:lnTo>
                  <a:pt x="252" y="0"/>
                </a:lnTo>
                <a:lnTo>
                  <a:pt x="212" y="0"/>
                </a:lnTo>
                <a:lnTo>
                  <a:pt x="252" y="0"/>
                </a:lnTo>
                <a:lnTo>
                  <a:pt x="212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666200" y="284004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0" y="107"/>
                </a:moveTo>
                <a:lnTo>
                  <a:pt x="296" y="0"/>
                </a:lnTo>
                <a:lnTo>
                  <a:pt x="252" y="0"/>
                </a:lnTo>
                <a:lnTo>
                  <a:pt x="296" y="0"/>
                </a:lnTo>
                <a:lnTo>
                  <a:pt x="252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264492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0" y="111"/>
                </a:moveTo>
                <a:lnTo>
                  <a:pt x="341" y="0"/>
                </a:lnTo>
                <a:lnTo>
                  <a:pt x="252" y="0"/>
                </a:lnTo>
                <a:lnTo>
                  <a:pt x="341" y="0"/>
                </a:lnTo>
                <a:lnTo>
                  <a:pt x="29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66620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296" y="0"/>
                </a:lnTo>
                <a:lnTo>
                  <a:pt x="424" y="0"/>
                </a:lnTo>
                <a:lnTo>
                  <a:pt x="34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666200" y="2243160"/>
            <a:ext cx="167040" cy="51120"/>
          </a:xfrm>
          <a:custGeom>
            <a:avLst/>
            <a:gdLst/>
            <a:ahLst/>
            <a:rect l="0" t="0" r="r" b="b"/>
            <a:pathLst>
              <a:path fill="none" w="464" h="142">
                <a:moveTo>
                  <a:pt x="0" y="142"/>
                </a:moveTo>
                <a:lnTo>
                  <a:pt x="464" y="35"/>
                </a:lnTo>
                <a:lnTo>
                  <a:pt x="340" y="0"/>
                </a:lnTo>
                <a:lnTo>
                  <a:pt x="464" y="35"/>
                </a:lnTo>
                <a:lnTo>
                  <a:pt x="38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80240" y="6188040"/>
            <a:ext cx="168480" cy="39960"/>
          </a:xfrm>
          <a:custGeom>
            <a:avLst/>
            <a:gdLst/>
            <a:ahLst/>
            <a:rect l="0" t="0" r="r" b="b"/>
            <a:pathLst>
              <a:path fill="none" w="468" h="111">
                <a:moveTo>
                  <a:pt x="468" y="111"/>
                </a:moveTo>
                <a:lnTo>
                  <a:pt x="0" y="0"/>
                </a:lnTo>
                <a:lnTo>
                  <a:pt x="88" y="71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696080" y="5992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0"/>
                </a:lnTo>
                <a:lnTo>
                  <a:pt x="83" y="7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711920" y="5799240"/>
            <a:ext cx="136800" cy="38520"/>
          </a:xfrm>
          <a:custGeom>
            <a:avLst/>
            <a:gdLst/>
            <a:ahLst/>
            <a:rect l="0" t="0" r="r" b="b"/>
            <a:pathLst>
              <a:path fill="none" w="380" h="107">
                <a:moveTo>
                  <a:pt x="380" y="107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742160" y="560376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296" y="111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756560" y="541008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772400" y="5214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788240" y="500688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169" y="111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802640" y="481176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129" y="111"/>
                </a:moveTo>
                <a:lnTo>
                  <a:pt x="0" y="0"/>
                </a:lnTo>
                <a:lnTo>
                  <a:pt x="0" y="39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818480" y="461808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832880" y="442260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48720" y="4228920"/>
            <a:ext cx="0" cy="37800"/>
          </a:xfrm>
          <a:custGeom>
            <a:avLst/>
            <a:gdLst/>
            <a:ahLst/>
            <a:rect l="0" t="0" r="r" b="b"/>
            <a:pathLst>
              <a:path fill="none" w="0" h="105">
                <a:moveTo>
                  <a:pt x="0" y="10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848720" y="40338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848720" y="3825720"/>
            <a:ext cx="30600" cy="39960"/>
          </a:xfrm>
          <a:custGeom>
            <a:avLst/>
            <a:gdLst/>
            <a:ahLst/>
            <a:rect l="0" t="0" r="r" b="b"/>
            <a:pathLst>
              <a:path fill="none" w="85" h="111">
                <a:moveTo>
                  <a:pt x="0" y="111"/>
                </a:moveTo>
                <a:lnTo>
                  <a:pt x="85" y="0"/>
                </a:lnTo>
                <a:lnTo>
                  <a:pt x="85" y="35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848720" y="3630600"/>
            <a:ext cx="46440" cy="39960"/>
          </a:xfrm>
          <a:custGeom>
            <a:avLst/>
            <a:gdLst/>
            <a:ahLst/>
            <a:rect l="0" t="0" r="r" b="b"/>
            <a:pathLst>
              <a:path fill="none" w="129" h="111">
                <a:moveTo>
                  <a:pt x="0" y="111"/>
                </a:moveTo>
                <a:lnTo>
                  <a:pt x="129" y="0"/>
                </a:lnTo>
                <a:lnTo>
                  <a:pt x="129" y="39"/>
                </a:lnTo>
                <a:lnTo>
                  <a:pt x="129" y="0"/>
                </a:lnTo>
                <a:lnTo>
                  <a:pt x="129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848720" y="343692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324180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111"/>
                </a:moveTo>
                <a:lnTo>
                  <a:pt x="257" y="0"/>
                </a:lnTo>
                <a:lnTo>
                  <a:pt x="168" y="0"/>
                </a:lnTo>
                <a:lnTo>
                  <a:pt x="257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848720" y="3046320"/>
            <a:ext cx="106560" cy="39960"/>
          </a:xfrm>
          <a:custGeom>
            <a:avLst/>
            <a:gdLst/>
            <a:ahLst/>
            <a:rect l="0" t="0" r="r" b="b"/>
            <a:pathLst>
              <a:path fill="none" w="296" h="111">
                <a:moveTo>
                  <a:pt x="0" y="111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56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848720" y="28526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72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848720" y="2644920"/>
            <a:ext cx="136800" cy="39960"/>
          </a:xfrm>
          <a:custGeom>
            <a:avLst/>
            <a:gdLst/>
            <a:ahLst/>
            <a:rect l="0" t="0" r="r" b="b"/>
            <a:pathLst>
              <a:path fill="none" w="380" h="111">
                <a:moveTo>
                  <a:pt x="0" y="111"/>
                </a:moveTo>
                <a:lnTo>
                  <a:pt x="380" y="35"/>
                </a:lnTo>
                <a:lnTo>
                  <a:pt x="296" y="0"/>
                </a:lnTo>
                <a:lnTo>
                  <a:pt x="380" y="35"/>
                </a:lnTo>
                <a:lnTo>
                  <a:pt x="29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48720" y="244944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0" y="111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848720" y="225576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0" y="107"/>
                </a:moveTo>
                <a:lnTo>
                  <a:pt x="468" y="0"/>
                </a:lnTo>
                <a:lnTo>
                  <a:pt x="380" y="0"/>
                </a:lnTo>
                <a:lnTo>
                  <a:pt x="468" y="0"/>
                </a:lnTo>
                <a:lnTo>
                  <a:pt x="38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878600" y="620064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468" y="76"/>
                </a:moveTo>
                <a:lnTo>
                  <a:pt x="0" y="0"/>
                </a:lnTo>
                <a:lnTo>
                  <a:pt x="83" y="7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894800" y="5992920"/>
            <a:ext cx="152640" cy="39960"/>
          </a:xfrm>
          <a:custGeom>
            <a:avLst/>
            <a:gdLst/>
            <a:ahLst/>
            <a:rect l="0" t="0" r="r" b="b"/>
            <a:pathLst>
              <a:path fill="none" w="424" h="111">
                <a:moveTo>
                  <a:pt x="424" y="111"/>
                </a:moveTo>
                <a:lnTo>
                  <a:pt x="0" y="39"/>
                </a:lnTo>
                <a:lnTo>
                  <a:pt x="83" y="75"/>
                </a:lnTo>
                <a:lnTo>
                  <a:pt x="0" y="39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08840" y="5799240"/>
            <a:ext cx="138600" cy="38520"/>
          </a:xfrm>
          <a:custGeom>
            <a:avLst/>
            <a:gdLst/>
            <a:ahLst/>
            <a:rect l="0" t="0" r="r" b="b"/>
            <a:pathLst>
              <a:path fill="none" w="385" h="107">
                <a:moveTo>
                  <a:pt x="385" y="107"/>
                </a:moveTo>
                <a:lnTo>
                  <a:pt x="0" y="36"/>
                </a:lnTo>
                <a:lnTo>
                  <a:pt x="88" y="71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924680" y="560376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111"/>
                </a:moveTo>
                <a:lnTo>
                  <a:pt x="0" y="35"/>
                </a:lnTo>
                <a:lnTo>
                  <a:pt x="44" y="75"/>
                </a:lnTo>
                <a:lnTo>
                  <a:pt x="0" y="35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940520" y="541008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36"/>
                </a:lnTo>
                <a:lnTo>
                  <a:pt x="39" y="72"/>
                </a:lnTo>
                <a:lnTo>
                  <a:pt x="0" y="36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54920" y="521496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970760" y="501984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213" y="76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985160" y="48261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72"/>
                </a:moveTo>
                <a:lnTo>
                  <a:pt x="0" y="0"/>
                </a:lnTo>
                <a:lnTo>
                  <a:pt x="45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001000" y="463068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45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016840" y="4435560"/>
            <a:ext cx="30600" cy="27360"/>
          </a:xfrm>
          <a:custGeom>
            <a:avLst/>
            <a:gdLst/>
            <a:ahLst/>
            <a:rect l="0" t="0" r="r" b="b"/>
            <a:pathLst>
              <a:path fill="none" w="85" h="76">
                <a:moveTo>
                  <a:pt x="85" y="76"/>
                </a:moveTo>
                <a:lnTo>
                  <a:pt x="0" y="0"/>
                </a:lnTo>
                <a:lnTo>
                  <a:pt x="40" y="0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031240" y="42418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72" y="0"/>
                </a:lnTo>
                <a:lnTo>
                  <a:pt x="0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047080" y="40464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0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047080" y="3838680"/>
            <a:ext cx="30600" cy="27360"/>
          </a:xfrm>
          <a:custGeom>
            <a:avLst/>
            <a:gdLst/>
            <a:ahLst/>
            <a:rect l="0" t="0" r="r" b="b"/>
            <a:pathLst>
              <a:path fill="none" w="85" h="76">
                <a:moveTo>
                  <a:pt x="0" y="76"/>
                </a:moveTo>
                <a:lnTo>
                  <a:pt x="85" y="0"/>
                </a:lnTo>
                <a:lnTo>
                  <a:pt x="40" y="36"/>
                </a:lnTo>
                <a:lnTo>
                  <a:pt x="85" y="0"/>
                </a:lnTo>
                <a:lnTo>
                  <a:pt x="4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047080" y="36450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84" y="0"/>
                </a:lnTo>
                <a:lnTo>
                  <a:pt x="129" y="0"/>
                </a:lnTo>
                <a:lnTo>
                  <a:pt x="8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047080" y="344952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047080" y="3254400"/>
            <a:ext cx="76680" cy="27360"/>
          </a:xfrm>
          <a:custGeom>
            <a:avLst/>
            <a:gdLst/>
            <a:ahLst/>
            <a:rect l="0" t="0" r="r" b="b"/>
            <a:pathLst>
              <a:path fill="none" w="213" h="76">
                <a:moveTo>
                  <a:pt x="0" y="76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047080" y="3060720"/>
            <a:ext cx="90720" cy="25920"/>
          </a:xfrm>
          <a:custGeom>
            <a:avLst/>
            <a:gdLst/>
            <a:ahLst/>
            <a:rect l="0" t="0" r="r" b="b"/>
            <a:pathLst>
              <a:path fill="none" w="252" h="72">
                <a:moveTo>
                  <a:pt x="0" y="72"/>
                </a:moveTo>
                <a:lnTo>
                  <a:pt x="252" y="0"/>
                </a:lnTo>
                <a:lnTo>
                  <a:pt x="212" y="0"/>
                </a:lnTo>
                <a:lnTo>
                  <a:pt x="252" y="0"/>
                </a:lnTo>
                <a:lnTo>
                  <a:pt x="21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8047080" y="28526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36"/>
                </a:lnTo>
                <a:lnTo>
                  <a:pt x="252" y="0"/>
                </a:lnTo>
                <a:lnTo>
                  <a:pt x="296" y="36"/>
                </a:lnTo>
                <a:lnTo>
                  <a:pt x="25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047080" y="265752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0" y="76"/>
                </a:moveTo>
                <a:lnTo>
                  <a:pt x="341" y="36"/>
                </a:lnTo>
                <a:lnTo>
                  <a:pt x="252" y="0"/>
                </a:lnTo>
                <a:lnTo>
                  <a:pt x="341" y="36"/>
                </a:lnTo>
                <a:lnTo>
                  <a:pt x="29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047080" y="246384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0" y="72"/>
                </a:moveTo>
                <a:lnTo>
                  <a:pt x="380" y="0"/>
                </a:lnTo>
                <a:lnTo>
                  <a:pt x="296" y="0"/>
                </a:lnTo>
                <a:lnTo>
                  <a:pt x="380" y="0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047080" y="226836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72"/>
                </a:moveTo>
                <a:lnTo>
                  <a:pt x="424" y="0"/>
                </a:lnTo>
                <a:lnTo>
                  <a:pt x="340" y="0"/>
                </a:lnTo>
                <a:lnTo>
                  <a:pt x="424" y="0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8061480" y="6213600"/>
            <a:ext cx="168480" cy="27360"/>
          </a:xfrm>
          <a:custGeom>
            <a:avLst/>
            <a:gdLst/>
            <a:ahLst/>
            <a:rect l="0" t="0" r="r" b="b"/>
            <a:pathLst>
              <a:path fill="none" w="468" h="76">
                <a:moveTo>
                  <a:pt x="468" y="40"/>
                </a:moveTo>
                <a:lnTo>
                  <a:pt x="0" y="0"/>
                </a:lnTo>
                <a:lnTo>
                  <a:pt x="88" y="76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77320" y="600696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72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093160" y="5811840"/>
            <a:ext cx="136800" cy="25920"/>
          </a:xfrm>
          <a:custGeom>
            <a:avLst/>
            <a:gdLst/>
            <a:ahLst/>
            <a:rect l="0" t="0" r="r" b="b"/>
            <a:pathLst>
              <a:path fill="none" w="380" h="72">
                <a:moveTo>
                  <a:pt x="380" y="72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107200" y="5616720"/>
            <a:ext cx="122760" cy="27360"/>
          </a:xfrm>
          <a:custGeom>
            <a:avLst/>
            <a:gdLst/>
            <a:ahLst/>
            <a:rect l="0" t="0" r="r" b="b"/>
            <a:pathLst>
              <a:path fill="none" w="341" h="76">
                <a:moveTo>
                  <a:pt x="341" y="76"/>
                </a:moveTo>
                <a:lnTo>
                  <a:pt x="0" y="40"/>
                </a:lnTo>
                <a:lnTo>
                  <a:pt x="83" y="76"/>
                </a:lnTo>
                <a:lnTo>
                  <a:pt x="0" y="4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123400" y="542304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153280" y="52275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169120" y="50324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169" y="72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183520" y="483876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199360" y="46432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213760" y="444816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229600" y="425448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7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229600" y="405936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0" y="0"/>
                </a:move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229600" y="386568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0" y="0"/>
                </a:move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229600" y="36576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72"/>
                </a:lnTo>
                <a:lnTo>
                  <a:pt x="129" y="0"/>
                </a:lnTo>
                <a:lnTo>
                  <a:pt x="12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229600" y="34624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229600" y="32670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29600" y="307332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0" y="72"/>
                </a:moveTo>
                <a:lnTo>
                  <a:pt x="296" y="0"/>
                </a:lnTo>
                <a:lnTo>
                  <a:pt x="212" y="0"/>
                </a:lnTo>
                <a:lnTo>
                  <a:pt x="296" y="0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29600" y="28656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36"/>
                </a:moveTo>
                <a:lnTo>
                  <a:pt x="341" y="36"/>
                </a:lnTo>
                <a:lnTo>
                  <a:pt x="257" y="0"/>
                </a:lnTo>
                <a:lnTo>
                  <a:pt x="341" y="36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229600" y="2670120"/>
            <a:ext cx="136800" cy="27360"/>
          </a:xfrm>
          <a:custGeom>
            <a:avLst/>
            <a:gdLst/>
            <a:ahLst/>
            <a:rect l="0" t="0" r="r" b="b"/>
            <a:pathLst>
              <a:path fill="none" w="380" h="76">
                <a:moveTo>
                  <a:pt x="0" y="40"/>
                </a:moveTo>
                <a:lnTo>
                  <a:pt x="380" y="40"/>
                </a:lnTo>
                <a:lnTo>
                  <a:pt x="296" y="0"/>
                </a:lnTo>
                <a:lnTo>
                  <a:pt x="380" y="40"/>
                </a:lnTo>
                <a:lnTo>
                  <a:pt x="29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229600" y="247644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0" y="36"/>
                </a:moveTo>
                <a:lnTo>
                  <a:pt x="424" y="36"/>
                </a:lnTo>
                <a:lnTo>
                  <a:pt x="340" y="0"/>
                </a:lnTo>
                <a:lnTo>
                  <a:pt x="424" y="36"/>
                </a:lnTo>
                <a:lnTo>
                  <a:pt x="34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229600" y="228132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36"/>
                </a:moveTo>
                <a:lnTo>
                  <a:pt x="468" y="0"/>
                </a:lnTo>
                <a:lnTo>
                  <a:pt x="380" y="0"/>
                </a:lnTo>
                <a:lnTo>
                  <a:pt x="468" y="0"/>
                </a:lnTo>
                <a:lnTo>
                  <a:pt x="38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290760" y="1871640"/>
            <a:ext cx="3755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éndulo simple no amortig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ntos de equili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trayectorias próximas en un instante dado, permanecen siempre próxi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trayectorias próximas en un instante dado, no lo están pos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401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trayectorias próximas en un instante dado, están cada vez más próxi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ilidad del pén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46120" y="1895400"/>
            <a:ext cx="7696080" cy="48099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295360" y="61675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295360" y="22795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295360" y="227952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8221680" y="227952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295360" y="22795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221680" y="61675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95360" y="61675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295360" y="227952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295360" y="61675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243540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3540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2222640" y="624852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41964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206880" y="624852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40532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40532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192560" y="624852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40540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40540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254560" y="62485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38964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38964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238800" y="62485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375680" y="611496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75680" y="227952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7224840" y="62485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295360" y="6167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8159760" y="6167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974960" y="595476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295360" y="55260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8159760" y="55260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974960" y="531324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95360" y="48718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8159760" y="48718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1974960" y="4659480"/>
            <a:ext cx="355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95360" y="4230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8159760" y="4230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2036880" y="401796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95360" y="35751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8159760" y="35751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2036880" y="336384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95360" y="29210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8159760" y="29210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036880" y="270828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295360" y="2279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159760" y="2279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036880" y="2066760"/>
            <a:ext cx="3016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295360" y="61675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95360" y="22795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295360" y="227952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8221680" y="227952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295360" y="61675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221680" y="22795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49480" y="6154560"/>
            <a:ext cx="246600" cy="25920"/>
          </a:xfrm>
          <a:custGeom>
            <a:avLst/>
            <a:gdLst/>
            <a:ahLst/>
            <a:rect l="0" t="0" r="r" b="b"/>
            <a:pathLst>
              <a:path fill="none" w="685" h="72">
                <a:moveTo>
                  <a:pt x="685" y="36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65320" y="5961240"/>
            <a:ext cx="230400" cy="27360"/>
          </a:xfrm>
          <a:custGeom>
            <a:avLst/>
            <a:gdLst/>
            <a:ahLst/>
            <a:rect l="0" t="0" r="r" b="b"/>
            <a:pathLst>
              <a:path fill="none" w="640" h="76">
                <a:moveTo>
                  <a:pt x="640" y="36"/>
                </a:moveTo>
                <a:lnTo>
                  <a:pt x="0" y="36"/>
                </a:lnTo>
                <a:lnTo>
                  <a:pt x="127" y="76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095560" y="57690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36"/>
                </a:moveTo>
                <a:lnTo>
                  <a:pt x="0" y="36"/>
                </a:lnTo>
                <a:lnTo>
                  <a:pt x="88" y="72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11400" y="5576760"/>
            <a:ext cx="184680" cy="25920"/>
          </a:xfrm>
          <a:custGeom>
            <a:avLst/>
            <a:gdLst/>
            <a:ahLst/>
            <a:rect l="0" t="0" r="r" b="b"/>
            <a:pathLst>
              <a:path fill="none" w="513" h="72">
                <a:moveTo>
                  <a:pt x="513" y="72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141640" y="538488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0"/>
                </a:moveTo>
                <a:lnTo>
                  <a:pt x="0" y="0"/>
                </a:lnTo>
                <a:lnTo>
                  <a:pt x="88" y="72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173320" y="51926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0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187720" y="499896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0"/>
                </a:moveTo>
                <a:lnTo>
                  <a:pt x="0" y="0"/>
                </a:lnTo>
                <a:lnTo>
                  <a:pt x="89" y="72"/>
                </a:lnTo>
                <a:lnTo>
                  <a:pt x="0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219400" y="480708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211" y="0"/>
                </a:moveTo>
                <a:lnTo>
                  <a:pt x="0" y="0"/>
                </a:lnTo>
                <a:lnTo>
                  <a:pt x="39" y="0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249640" y="461484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12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5480" y="4422600"/>
            <a:ext cx="29880" cy="0"/>
          </a:xfrm>
          <a:custGeom>
            <a:avLst/>
            <a:gdLst/>
            <a:ahLst/>
            <a:rect l="0" t="0" r="r" b="b"/>
            <a:pathLst>
              <a:path fill="none" w="83" h="0">
                <a:moveTo>
                  <a:pt x="83" y="0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95360" y="4230720"/>
            <a:ext cx="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295360" y="4024440"/>
            <a:ext cx="31680" cy="0"/>
          </a:xfrm>
          <a:custGeom>
            <a:avLst/>
            <a:gdLst/>
            <a:ahLst/>
            <a:rect l="0" t="0" r="r" b="b"/>
            <a:pathLst>
              <a:path fill="none" w="88" h="0">
                <a:moveTo>
                  <a:pt x="0" y="0"/>
                </a:moveTo>
                <a:lnTo>
                  <a:pt x="88" y="0"/>
                </a:lnTo>
                <a:lnTo>
                  <a:pt x="44" y="0"/>
                </a:lnTo>
                <a:lnTo>
                  <a:pt x="88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95360" y="383220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0" y="0"/>
                </a:moveTo>
                <a:lnTo>
                  <a:pt x="127" y="0"/>
                </a:lnTo>
                <a:lnTo>
                  <a:pt x="127" y="0"/>
                </a:lnTo>
                <a:lnTo>
                  <a:pt x="12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95360" y="363996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95360" y="343548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72"/>
                </a:moveTo>
                <a:lnTo>
                  <a:pt x="301" y="72"/>
                </a:lnTo>
                <a:lnTo>
                  <a:pt x="217" y="0"/>
                </a:lnTo>
                <a:lnTo>
                  <a:pt x="301" y="72"/>
                </a:lnTo>
                <a:lnTo>
                  <a:pt x="21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95360" y="3241800"/>
            <a:ext cx="124200" cy="25920"/>
          </a:xfrm>
          <a:custGeom>
            <a:avLst/>
            <a:gdLst/>
            <a:ahLst/>
            <a:rect l="0" t="0" r="r" b="b"/>
            <a:pathLst>
              <a:path fill="none" w="345" h="72">
                <a:moveTo>
                  <a:pt x="0" y="72"/>
                </a:moveTo>
                <a:lnTo>
                  <a:pt x="345" y="72"/>
                </a:lnTo>
                <a:lnTo>
                  <a:pt x="301" y="0"/>
                </a:lnTo>
                <a:lnTo>
                  <a:pt x="345" y="72"/>
                </a:lnTo>
                <a:lnTo>
                  <a:pt x="301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95360" y="30495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72"/>
                </a:moveTo>
                <a:lnTo>
                  <a:pt x="429" y="72"/>
                </a:lnTo>
                <a:lnTo>
                  <a:pt x="345" y="0"/>
                </a:lnTo>
                <a:lnTo>
                  <a:pt x="429" y="72"/>
                </a:lnTo>
                <a:lnTo>
                  <a:pt x="3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295360" y="2857680"/>
            <a:ext cx="186120" cy="25920"/>
          </a:xfrm>
          <a:custGeom>
            <a:avLst/>
            <a:gdLst/>
            <a:ahLst/>
            <a:rect l="0" t="0" r="r" b="b"/>
            <a:pathLst>
              <a:path fill="none" w="517" h="72">
                <a:moveTo>
                  <a:pt x="0" y="0"/>
                </a:moveTo>
                <a:lnTo>
                  <a:pt x="517" y="0"/>
                </a:lnTo>
                <a:lnTo>
                  <a:pt x="390" y="0"/>
                </a:lnTo>
                <a:lnTo>
                  <a:pt x="517" y="0"/>
                </a:lnTo>
                <a:lnTo>
                  <a:pt x="39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295360" y="265284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36"/>
                </a:moveTo>
                <a:lnTo>
                  <a:pt x="557" y="36"/>
                </a:lnTo>
                <a:lnTo>
                  <a:pt x="473" y="0"/>
                </a:lnTo>
                <a:lnTo>
                  <a:pt x="557" y="36"/>
                </a:lnTo>
                <a:lnTo>
                  <a:pt x="4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295360" y="2460600"/>
            <a:ext cx="232200" cy="25920"/>
          </a:xfrm>
          <a:custGeom>
            <a:avLst/>
            <a:gdLst/>
            <a:ahLst/>
            <a:rect l="0" t="0" r="r" b="b"/>
            <a:pathLst>
              <a:path fill="none" w="645" h="72">
                <a:moveTo>
                  <a:pt x="0" y="36"/>
                </a:moveTo>
                <a:lnTo>
                  <a:pt x="645" y="36"/>
                </a:lnTo>
                <a:lnTo>
                  <a:pt x="517" y="0"/>
                </a:lnTo>
                <a:lnTo>
                  <a:pt x="645" y="36"/>
                </a:lnTo>
                <a:lnTo>
                  <a:pt x="51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295360" y="2266920"/>
            <a:ext cx="246600" cy="25920"/>
          </a:xfrm>
          <a:custGeom>
            <a:avLst/>
            <a:gdLst/>
            <a:ahLst/>
            <a:rect l="0" t="0" r="r" b="b"/>
            <a:pathLst>
              <a:path fill="none" w="685" h="72">
                <a:moveTo>
                  <a:pt x="0" y="36"/>
                </a:moveTo>
                <a:lnTo>
                  <a:pt x="685" y="36"/>
                </a:lnTo>
                <a:lnTo>
                  <a:pt x="557" y="0"/>
                </a:lnTo>
                <a:lnTo>
                  <a:pt x="685" y="36"/>
                </a:lnTo>
                <a:lnTo>
                  <a:pt x="5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341440" y="6140520"/>
            <a:ext cx="246600" cy="27360"/>
          </a:xfrm>
          <a:custGeom>
            <a:avLst/>
            <a:gdLst/>
            <a:ahLst/>
            <a:rect l="0" t="0" r="r" b="b"/>
            <a:pathLst>
              <a:path fill="none" w="685" h="76">
                <a:moveTo>
                  <a:pt x="685" y="76"/>
                </a:moveTo>
                <a:lnTo>
                  <a:pt x="0" y="40"/>
                </a:lnTo>
                <a:lnTo>
                  <a:pt x="127" y="76"/>
                </a:lnTo>
                <a:lnTo>
                  <a:pt x="0" y="4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57280" y="5948280"/>
            <a:ext cx="230400" cy="25920"/>
          </a:xfrm>
          <a:custGeom>
            <a:avLst/>
            <a:gdLst/>
            <a:ahLst/>
            <a:rect l="0" t="0" r="r" b="b"/>
            <a:pathLst>
              <a:path fill="none" w="640" h="72">
                <a:moveTo>
                  <a:pt x="640" y="72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387520" y="57564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72"/>
                </a:moveTo>
                <a:lnTo>
                  <a:pt x="0" y="0"/>
                </a:lnTo>
                <a:lnTo>
                  <a:pt x="132" y="72"/>
                </a:lnTo>
                <a:lnTo>
                  <a:pt x="0" y="0"/>
                </a:lnTo>
                <a:lnTo>
                  <a:pt x="13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419200" y="556416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468" y="72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435400" y="5372280"/>
            <a:ext cx="152640" cy="25920"/>
          </a:xfrm>
          <a:custGeom>
            <a:avLst/>
            <a:gdLst/>
            <a:ahLst/>
            <a:rect l="0" t="0" r="r" b="b"/>
            <a:pathLst>
              <a:path fill="none" w="424" h="72">
                <a:moveTo>
                  <a:pt x="424" y="72"/>
                </a:moveTo>
                <a:lnTo>
                  <a:pt x="0" y="0"/>
                </a:lnTo>
                <a:lnTo>
                  <a:pt x="83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65280" y="51786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72"/>
                </a:moveTo>
                <a:lnTo>
                  <a:pt x="0" y="0"/>
                </a:lnTo>
                <a:lnTo>
                  <a:pt x="83" y="72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495520" y="498636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257" y="72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511360" y="47941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541600" y="460224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573280" y="43974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587680" y="4203720"/>
            <a:ext cx="0" cy="26640"/>
          </a:xfrm>
          <a:custGeom>
            <a:avLst/>
            <a:gdLst/>
            <a:ahLst/>
            <a:rect l="0" t="0" r="r" b="b"/>
            <a:pathLst>
              <a:path fill="none" w="0" h="74">
                <a:moveTo>
                  <a:pt x="0" y="74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87680" y="401148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0" y="72"/>
                </a:moveTo>
                <a:lnTo>
                  <a:pt x="89" y="0"/>
                </a:lnTo>
                <a:lnTo>
                  <a:pt x="45" y="0"/>
                </a:lnTo>
                <a:lnTo>
                  <a:pt x="89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587680" y="38196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34" y="0"/>
                </a:lnTo>
                <a:lnTo>
                  <a:pt x="173" y="0"/>
                </a:lnTo>
                <a:lnTo>
                  <a:pt x="13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87680" y="36273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587680" y="342252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72"/>
                </a:moveTo>
                <a:lnTo>
                  <a:pt x="301" y="36"/>
                </a:lnTo>
                <a:lnTo>
                  <a:pt x="217" y="0"/>
                </a:lnTo>
                <a:lnTo>
                  <a:pt x="301" y="36"/>
                </a:lnTo>
                <a:lnTo>
                  <a:pt x="26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587680" y="3228840"/>
            <a:ext cx="124200" cy="25920"/>
          </a:xfrm>
          <a:custGeom>
            <a:avLst/>
            <a:gdLst/>
            <a:ahLst/>
            <a:rect l="0" t="0" r="r" b="b"/>
            <a:pathLst>
              <a:path fill="none" w="345" h="72">
                <a:moveTo>
                  <a:pt x="0" y="72"/>
                </a:moveTo>
                <a:lnTo>
                  <a:pt x="345" y="0"/>
                </a:lnTo>
                <a:lnTo>
                  <a:pt x="301" y="0"/>
                </a:lnTo>
                <a:lnTo>
                  <a:pt x="345" y="0"/>
                </a:lnTo>
                <a:lnTo>
                  <a:pt x="301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587680" y="30369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72"/>
                </a:moveTo>
                <a:lnTo>
                  <a:pt x="429" y="0"/>
                </a:lnTo>
                <a:lnTo>
                  <a:pt x="345" y="0"/>
                </a:lnTo>
                <a:lnTo>
                  <a:pt x="429" y="0"/>
                </a:lnTo>
                <a:lnTo>
                  <a:pt x="3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87680" y="2844720"/>
            <a:ext cx="186120" cy="25920"/>
          </a:xfrm>
          <a:custGeom>
            <a:avLst/>
            <a:gdLst/>
            <a:ahLst/>
            <a:rect l="0" t="0" r="r" b="b"/>
            <a:pathLst>
              <a:path fill="none" w="517" h="72">
                <a:moveTo>
                  <a:pt x="0" y="72"/>
                </a:moveTo>
                <a:lnTo>
                  <a:pt x="517" y="0"/>
                </a:lnTo>
                <a:lnTo>
                  <a:pt x="390" y="0"/>
                </a:lnTo>
                <a:lnTo>
                  <a:pt x="517" y="0"/>
                </a:lnTo>
                <a:lnTo>
                  <a:pt x="4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587680" y="2639880"/>
            <a:ext cx="201960" cy="25920"/>
          </a:xfrm>
          <a:custGeom>
            <a:avLst/>
            <a:gdLst/>
            <a:ahLst/>
            <a:rect l="0" t="0" r="r" b="b"/>
            <a:pathLst>
              <a:path fill="none" w="561" h="72">
                <a:moveTo>
                  <a:pt x="0" y="72"/>
                </a:moveTo>
                <a:lnTo>
                  <a:pt x="561" y="36"/>
                </a:lnTo>
                <a:lnTo>
                  <a:pt x="472" y="0"/>
                </a:lnTo>
                <a:lnTo>
                  <a:pt x="561" y="36"/>
                </a:lnTo>
                <a:lnTo>
                  <a:pt x="4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87680" y="2446200"/>
            <a:ext cx="232200" cy="27360"/>
          </a:xfrm>
          <a:custGeom>
            <a:avLst/>
            <a:gdLst/>
            <a:ahLst/>
            <a:rect l="0" t="0" r="r" b="b"/>
            <a:pathLst>
              <a:path fill="none" w="645" h="76">
                <a:moveTo>
                  <a:pt x="0" y="76"/>
                </a:moveTo>
                <a:lnTo>
                  <a:pt x="645" y="40"/>
                </a:lnTo>
                <a:lnTo>
                  <a:pt x="517" y="0"/>
                </a:lnTo>
                <a:lnTo>
                  <a:pt x="645" y="40"/>
                </a:lnTo>
                <a:lnTo>
                  <a:pt x="51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587680" y="2254320"/>
            <a:ext cx="262440" cy="25920"/>
          </a:xfrm>
          <a:custGeom>
            <a:avLst/>
            <a:gdLst/>
            <a:ahLst/>
            <a:rect l="0" t="0" r="r" b="b"/>
            <a:pathLst>
              <a:path fill="none" w="729" h="72">
                <a:moveTo>
                  <a:pt x="0" y="72"/>
                </a:moveTo>
                <a:lnTo>
                  <a:pt x="729" y="36"/>
                </a:lnTo>
                <a:lnTo>
                  <a:pt x="562" y="0"/>
                </a:lnTo>
                <a:lnTo>
                  <a:pt x="729" y="36"/>
                </a:lnTo>
                <a:lnTo>
                  <a:pt x="601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635200" y="6127920"/>
            <a:ext cx="260640" cy="39960"/>
          </a:xfrm>
          <a:custGeom>
            <a:avLst/>
            <a:gdLst/>
            <a:ahLst/>
            <a:rect l="0" t="0" r="r" b="b"/>
            <a:pathLst>
              <a:path fill="none" w="724" h="111">
                <a:moveTo>
                  <a:pt x="724" y="111"/>
                </a:moveTo>
                <a:lnTo>
                  <a:pt x="0" y="35"/>
                </a:lnTo>
                <a:lnTo>
                  <a:pt x="127" y="75"/>
                </a:lnTo>
                <a:lnTo>
                  <a:pt x="0" y="35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665440" y="5935680"/>
            <a:ext cx="230400" cy="38520"/>
          </a:xfrm>
          <a:custGeom>
            <a:avLst/>
            <a:gdLst/>
            <a:ahLst/>
            <a:rect l="0" t="0" r="r" b="b"/>
            <a:pathLst>
              <a:path fill="none" w="640" h="107">
                <a:moveTo>
                  <a:pt x="640" y="107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681280" y="5743440"/>
            <a:ext cx="214560" cy="38520"/>
          </a:xfrm>
          <a:custGeom>
            <a:avLst/>
            <a:gdLst/>
            <a:ahLst/>
            <a:rect l="0" t="0" r="r" b="b"/>
            <a:pathLst>
              <a:path fill="none" w="596" h="107">
                <a:moveTo>
                  <a:pt x="596" y="107"/>
                </a:moveTo>
                <a:lnTo>
                  <a:pt x="0" y="0"/>
                </a:lnTo>
                <a:lnTo>
                  <a:pt x="127" y="71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711520" y="5551560"/>
            <a:ext cx="184680" cy="38520"/>
          </a:xfrm>
          <a:custGeom>
            <a:avLst/>
            <a:gdLst/>
            <a:ahLst/>
            <a:rect l="0" t="0" r="r" b="b"/>
            <a:pathLst>
              <a:path fill="none" w="513" h="107">
                <a:moveTo>
                  <a:pt x="513" y="107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741760" y="535932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757600" y="5165640"/>
            <a:ext cx="138600" cy="27360"/>
          </a:xfrm>
          <a:custGeom>
            <a:avLst/>
            <a:gdLst/>
            <a:ahLst/>
            <a:rect l="0" t="0" r="r" b="b"/>
            <a:pathLst>
              <a:path fill="none" w="385" h="76">
                <a:moveTo>
                  <a:pt x="385" y="76"/>
                </a:moveTo>
                <a:lnTo>
                  <a:pt x="0" y="0"/>
                </a:lnTo>
                <a:lnTo>
                  <a:pt x="88" y="36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789280" y="4973760"/>
            <a:ext cx="106560" cy="25920"/>
          </a:xfrm>
          <a:custGeom>
            <a:avLst/>
            <a:gdLst/>
            <a:ahLst/>
            <a:rect l="0" t="0" r="r" b="b"/>
            <a:pathLst>
              <a:path fill="none" w="296" h="72">
                <a:moveTo>
                  <a:pt x="296" y="72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19520" y="47815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35360" y="457668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169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865600" y="438480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881440" y="419112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72" y="111"/>
                </a:moveTo>
                <a:lnTo>
                  <a:pt x="72" y="0"/>
                </a:lnTo>
                <a:lnTo>
                  <a:pt x="0" y="35"/>
                </a:lnTo>
                <a:lnTo>
                  <a:pt x="72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895480" y="399888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72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38070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72"/>
                </a:moveTo>
                <a:lnTo>
                  <a:pt x="129" y="0"/>
                </a:lnTo>
                <a:lnTo>
                  <a:pt x="89" y="0"/>
                </a:lnTo>
                <a:lnTo>
                  <a:pt x="129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895480" y="36147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895480" y="3408480"/>
            <a:ext cx="93960" cy="39960"/>
          </a:xfrm>
          <a:custGeom>
            <a:avLst/>
            <a:gdLst/>
            <a:ahLst/>
            <a:rect l="0" t="0" r="r" b="b"/>
            <a:pathLst>
              <a:path fill="none" w="261" h="111">
                <a:moveTo>
                  <a:pt x="0" y="111"/>
                </a:moveTo>
                <a:lnTo>
                  <a:pt x="261" y="0"/>
                </a:lnTo>
                <a:lnTo>
                  <a:pt x="217" y="39"/>
                </a:lnTo>
                <a:lnTo>
                  <a:pt x="261" y="0"/>
                </a:lnTo>
                <a:lnTo>
                  <a:pt x="217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895480" y="3216240"/>
            <a:ext cx="124200" cy="38520"/>
          </a:xfrm>
          <a:custGeom>
            <a:avLst/>
            <a:gdLst/>
            <a:ahLst/>
            <a:rect l="0" t="0" r="r" b="b"/>
            <a:pathLst>
              <a:path fill="none" w="345" h="107">
                <a:moveTo>
                  <a:pt x="0" y="107"/>
                </a:moveTo>
                <a:lnTo>
                  <a:pt x="345" y="0"/>
                </a:lnTo>
                <a:lnTo>
                  <a:pt x="262" y="0"/>
                </a:lnTo>
                <a:lnTo>
                  <a:pt x="345" y="0"/>
                </a:lnTo>
                <a:lnTo>
                  <a:pt x="26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895480" y="3024360"/>
            <a:ext cx="140040" cy="38520"/>
          </a:xfrm>
          <a:custGeom>
            <a:avLst/>
            <a:gdLst/>
            <a:ahLst/>
            <a:rect l="0" t="0" r="r" b="b"/>
            <a:pathLst>
              <a:path fill="none" w="389" h="107">
                <a:moveTo>
                  <a:pt x="0" y="107"/>
                </a:moveTo>
                <a:lnTo>
                  <a:pt x="389" y="0"/>
                </a:lnTo>
                <a:lnTo>
                  <a:pt x="300" y="0"/>
                </a:lnTo>
                <a:lnTo>
                  <a:pt x="389" y="0"/>
                </a:lnTo>
                <a:lnTo>
                  <a:pt x="3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895480" y="2832120"/>
            <a:ext cx="170280" cy="25920"/>
          </a:xfrm>
          <a:custGeom>
            <a:avLst/>
            <a:gdLst/>
            <a:ahLst/>
            <a:rect l="0" t="0" r="r" b="b"/>
            <a:pathLst>
              <a:path fill="none" w="473" h="72">
                <a:moveTo>
                  <a:pt x="0" y="72"/>
                </a:moveTo>
                <a:lnTo>
                  <a:pt x="473" y="0"/>
                </a:lnTo>
                <a:lnTo>
                  <a:pt x="344" y="0"/>
                </a:lnTo>
                <a:lnTo>
                  <a:pt x="473" y="0"/>
                </a:lnTo>
                <a:lnTo>
                  <a:pt x="39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263988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72"/>
                </a:moveTo>
                <a:lnTo>
                  <a:pt x="557" y="0"/>
                </a:lnTo>
                <a:lnTo>
                  <a:pt x="429" y="0"/>
                </a:lnTo>
                <a:lnTo>
                  <a:pt x="557" y="0"/>
                </a:lnTo>
                <a:lnTo>
                  <a:pt x="4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895480" y="2433600"/>
            <a:ext cx="216360" cy="39960"/>
          </a:xfrm>
          <a:custGeom>
            <a:avLst/>
            <a:gdLst/>
            <a:ahLst/>
            <a:rect l="0" t="0" r="r" b="b"/>
            <a:pathLst>
              <a:path fill="none" w="601" h="111">
                <a:moveTo>
                  <a:pt x="0" y="111"/>
                </a:moveTo>
                <a:lnTo>
                  <a:pt x="601" y="35"/>
                </a:lnTo>
                <a:lnTo>
                  <a:pt x="473" y="0"/>
                </a:lnTo>
                <a:lnTo>
                  <a:pt x="601" y="35"/>
                </a:lnTo>
                <a:lnTo>
                  <a:pt x="517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895480" y="2241720"/>
            <a:ext cx="248040" cy="38520"/>
          </a:xfrm>
          <a:custGeom>
            <a:avLst/>
            <a:gdLst/>
            <a:ahLst/>
            <a:rect l="0" t="0" r="r" b="b"/>
            <a:pathLst>
              <a:path fill="none" w="689" h="107">
                <a:moveTo>
                  <a:pt x="0" y="107"/>
                </a:moveTo>
                <a:lnTo>
                  <a:pt x="689" y="36"/>
                </a:lnTo>
                <a:lnTo>
                  <a:pt x="516" y="0"/>
                </a:lnTo>
                <a:lnTo>
                  <a:pt x="689" y="36"/>
                </a:lnTo>
                <a:lnTo>
                  <a:pt x="55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927520" y="6114960"/>
            <a:ext cx="262440" cy="52920"/>
          </a:xfrm>
          <a:custGeom>
            <a:avLst/>
            <a:gdLst/>
            <a:ahLst/>
            <a:rect l="0" t="0" r="r" b="b"/>
            <a:pathLst>
              <a:path fill="none" w="729" h="147">
                <a:moveTo>
                  <a:pt x="729" y="147"/>
                </a:moveTo>
                <a:lnTo>
                  <a:pt x="0" y="35"/>
                </a:lnTo>
                <a:lnTo>
                  <a:pt x="127" y="71"/>
                </a:lnTo>
                <a:lnTo>
                  <a:pt x="0" y="35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57400" y="5923080"/>
            <a:ext cx="232200" cy="51120"/>
          </a:xfrm>
          <a:custGeom>
            <a:avLst/>
            <a:gdLst/>
            <a:ahLst/>
            <a:rect l="0" t="0" r="r" b="b"/>
            <a:pathLst>
              <a:path fill="none" w="645" h="142">
                <a:moveTo>
                  <a:pt x="645" y="142"/>
                </a:moveTo>
                <a:lnTo>
                  <a:pt x="0" y="0"/>
                </a:lnTo>
                <a:lnTo>
                  <a:pt x="127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89440" y="57308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557" y="142"/>
                </a:moveTo>
                <a:lnTo>
                  <a:pt x="0" y="0"/>
                </a:lnTo>
                <a:lnTo>
                  <a:pt x="83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03480" y="553896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517" y="142"/>
                </a:moveTo>
                <a:lnTo>
                  <a:pt x="0" y="0"/>
                </a:lnTo>
                <a:lnTo>
                  <a:pt x="88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035160" y="534672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107"/>
                </a:moveTo>
                <a:lnTo>
                  <a:pt x="0" y="0"/>
                </a:lnTo>
                <a:lnTo>
                  <a:pt x="83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5400" y="5153040"/>
            <a:ext cx="124200" cy="39960"/>
          </a:xfrm>
          <a:custGeom>
            <a:avLst/>
            <a:gdLst/>
            <a:ahLst/>
            <a:rect l="0" t="0" r="r" b="b"/>
            <a:pathLst>
              <a:path fill="none" w="345" h="111">
                <a:moveTo>
                  <a:pt x="345" y="111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081240" y="4960800"/>
            <a:ext cx="108360" cy="38520"/>
          </a:xfrm>
          <a:custGeom>
            <a:avLst/>
            <a:gdLst/>
            <a:ahLst/>
            <a:rect l="0" t="0" r="r" b="b"/>
            <a:pathLst>
              <a:path fill="none" w="301" h="107">
                <a:moveTo>
                  <a:pt x="301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111480" y="476892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217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127320" y="45640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173" y="142"/>
                </a:moveTo>
                <a:lnTo>
                  <a:pt x="0" y="0"/>
                </a:lnTo>
                <a:lnTo>
                  <a:pt x="45" y="35"/>
                </a:lnTo>
                <a:lnTo>
                  <a:pt x="0" y="0"/>
                </a:lnTo>
                <a:lnTo>
                  <a:pt x="4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57560" y="4370400"/>
            <a:ext cx="32040" cy="52920"/>
          </a:xfrm>
          <a:custGeom>
            <a:avLst/>
            <a:gdLst/>
            <a:ahLst/>
            <a:rect l="0" t="0" r="r" b="b"/>
            <a:pathLst>
              <a:path fill="none" w="89" h="147">
                <a:moveTo>
                  <a:pt x="89" y="147"/>
                </a:moveTo>
                <a:lnTo>
                  <a:pt x="0" y="0"/>
                </a:lnTo>
                <a:lnTo>
                  <a:pt x="0" y="40"/>
                </a:lnTo>
                <a:lnTo>
                  <a:pt x="0" y="0"/>
                </a:lnTo>
                <a:lnTo>
                  <a:pt x="45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173400" y="417816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72" y="0"/>
                </a:lnTo>
                <a:lnTo>
                  <a:pt x="0" y="35"/>
                </a:lnTo>
                <a:lnTo>
                  <a:pt x="72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189240" y="398628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72" y="36"/>
                </a:lnTo>
                <a:lnTo>
                  <a:pt x="72" y="0"/>
                </a:lnTo>
                <a:lnTo>
                  <a:pt x="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189240" y="379404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107"/>
                </a:moveTo>
                <a:lnTo>
                  <a:pt x="129" y="0"/>
                </a:lnTo>
                <a:lnTo>
                  <a:pt x="84" y="0"/>
                </a:lnTo>
                <a:lnTo>
                  <a:pt x="12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89240" y="360216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189240" y="340848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0" y="111"/>
                </a:moveTo>
                <a:lnTo>
                  <a:pt x="257" y="0"/>
                </a:lnTo>
                <a:lnTo>
                  <a:pt x="213" y="0"/>
                </a:lnTo>
                <a:lnTo>
                  <a:pt x="257" y="0"/>
                </a:lnTo>
                <a:lnTo>
                  <a:pt x="213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89240" y="320364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0" y="142"/>
                </a:moveTo>
                <a:lnTo>
                  <a:pt x="341" y="0"/>
                </a:lnTo>
                <a:lnTo>
                  <a:pt x="257" y="35"/>
                </a:lnTo>
                <a:lnTo>
                  <a:pt x="341" y="0"/>
                </a:lnTo>
                <a:lnTo>
                  <a:pt x="29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189240" y="3011400"/>
            <a:ext cx="154440" cy="51120"/>
          </a:xfrm>
          <a:custGeom>
            <a:avLst/>
            <a:gdLst/>
            <a:ahLst/>
            <a:rect l="0" t="0" r="r" b="b"/>
            <a:pathLst>
              <a:path fill="none" w="429" h="142">
                <a:moveTo>
                  <a:pt x="0" y="142"/>
                </a:moveTo>
                <a:lnTo>
                  <a:pt x="429" y="0"/>
                </a:lnTo>
                <a:lnTo>
                  <a:pt x="296" y="0"/>
                </a:lnTo>
                <a:lnTo>
                  <a:pt x="429" y="0"/>
                </a:lnTo>
                <a:lnTo>
                  <a:pt x="341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189240" y="281952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0" y="107"/>
                </a:moveTo>
                <a:lnTo>
                  <a:pt x="468" y="0"/>
                </a:lnTo>
                <a:lnTo>
                  <a:pt x="384" y="0"/>
                </a:lnTo>
                <a:lnTo>
                  <a:pt x="468" y="0"/>
                </a:lnTo>
                <a:lnTo>
                  <a:pt x="38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89240" y="262728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0" y="107"/>
                </a:moveTo>
                <a:lnTo>
                  <a:pt x="557" y="0"/>
                </a:lnTo>
                <a:lnTo>
                  <a:pt x="429" y="0"/>
                </a:lnTo>
                <a:lnTo>
                  <a:pt x="557" y="0"/>
                </a:lnTo>
                <a:lnTo>
                  <a:pt x="4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89240" y="2433600"/>
            <a:ext cx="230400" cy="39960"/>
          </a:xfrm>
          <a:custGeom>
            <a:avLst/>
            <a:gdLst/>
            <a:ahLst/>
            <a:rect l="0" t="0" r="r" b="b"/>
            <a:pathLst>
              <a:path fill="none" w="640" h="111">
                <a:moveTo>
                  <a:pt x="0" y="111"/>
                </a:moveTo>
                <a:lnTo>
                  <a:pt x="640" y="0"/>
                </a:lnTo>
                <a:lnTo>
                  <a:pt x="468" y="0"/>
                </a:lnTo>
                <a:lnTo>
                  <a:pt x="640" y="0"/>
                </a:lnTo>
                <a:lnTo>
                  <a:pt x="51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189240" y="2228760"/>
            <a:ext cx="246600" cy="51120"/>
          </a:xfrm>
          <a:custGeom>
            <a:avLst/>
            <a:gdLst/>
            <a:ahLst/>
            <a:rect l="0" t="0" r="r" b="b"/>
            <a:pathLst>
              <a:path fill="none" w="685" h="142">
                <a:moveTo>
                  <a:pt x="0" y="142"/>
                </a:moveTo>
                <a:lnTo>
                  <a:pt x="685" y="35"/>
                </a:lnTo>
                <a:lnTo>
                  <a:pt x="557" y="0"/>
                </a:lnTo>
                <a:lnTo>
                  <a:pt x="685" y="35"/>
                </a:lnTo>
                <a:lnTo>
                  <a:pt x="55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235320" y="6114960"/>
            <a:ext cx="246600" cy="52920"/>
          </a:xfrm>
          <a:custGeom>
            <a:avLst/>
            <a:gdLst/>
            <a:ahLst/>
            <a:rect l="0" t="0" r="r" b="b"/>
            <a:pathLst>
              <a:path fill="none" w="685" h="147">
                <a:moveTo>
                  <a:pt x="685" y="147"/>
                </a:moveTo>
                <a:lnTo>
                  <a:pt x="0" y="0"/>
                </a:lnTo>
                <a:lnTo>
                  <a:pt x="83" y="71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9720" y="5923080"/>
            <a:ext cx="232200" cy="51120"/>
          </a:xfrm>
          <a:custGeom>
            <a:avLst/>
            <a:gdLst/>
            <a:ahLst/>
            <a:rect l="0" t="0" r="r" b="b"/>
            <a:pathLst>
              <a:path fill="none" w="645" h="142">
                <a:moveTo>
                  <a:pt x="645" y="142"/>
                </a:moveTo>
                <a:lnTo>
                  <a:pt x="0" y="0"/>
                </a:lnTo>
                <a:lnTo>
                  <a:pt x="127" y="70"/>
                </a:lnTo>
                <a:lnTo>
                  <a:pt x="0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281400" y="57308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557" y="142"/>
                </a:moveTo>
                <a:lnTo>
                  <a:pt x="0" y="0"/>
                </a:lnTo>
                <a:lnTo>
                  <a:pt x="83" y="3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295800" y="553896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517" y="142"/>
                </a:moveTo>
                <a:lnTo>
                  <a:pt x="0" y="0"/>
                </a:lnTo>
                <a:lnTo>
                  <a:pt x="88" y="35"/>
                </a:lnTo>
                <a:lnTo>
                  <a:pt x="0" y="0"/>
                </a:lnTo>
                <a:lnTo>
                  <a:pt x="13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27480" y="5332320"/>
            <a:ext cx="154440" cy="52920"/>
          </a:xfrm>
          <a:custGeom>
            <a:avLst/>
            <a:gdLst/>
            <a:ahLst/>
            <a:rect l="0" t="0" r="r" b="b"/>
            <a:pathLst>
              <a:path fill="none" w="429" h="147">
                <a:moveTo>
                  <a:pt x="429" y="147"/>
                </a:moveTo>
                <a:lnTo>
                  <a:pt x="0" y="0"/>
                </a:lnTo>
                <a:lnTo>
                  <a:pt x="83" y="75"/>
                </a:lnTo>
                <a:lnTo>
                  <a:pt x="0" y="0"/>
                </a:lnTo>
                <a:lnTo>
                  <a:pt x="128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357720" y="5140440"/>
            <a:ext cx="124200" cy="52920"/>
          </a:xfrm>
          <a:custGeom>
            <a:avLst/>
            <a:gdLst/>
            <a:ahLst/>
            <a:rect l="0" t="0" r="r" b="b"/>
            <a:pathLst>
              <a:path fill="none" w="345" h="147">
                <a:moveTo>
                  <a:pt x="345" y="147"/>
                </a:moveTo>
                <a:lnTo>
                  <a:pt x="0" y="0"/>
                </a:lnTo>
                <a:lnTo>
                  <a:pt x="44" y="71"/>
                </a:lnTo>
                <a:lnTo>
                  <a:pt x="0" y="0"/>
                </a:lnTo>
                <a:lnTo>
                  <a:pt x="8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373560" y="4948200"/>
            <a:ext cx="108360" cy="51120"/>
          </a:xfrm>
          <a:custGeom>
            <a:avLst/>
            <a:gdLst/>
            <a:ahLst/>
            <a:rect l="0" t="0" r="r" b="b"/>
            <a:pathLst>
              <a:path fill="none" w="301" h="142">
                <a:moveTo>
                  <a:pt x="301" y="142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03440" y="47563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217" y="142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35480" y="456408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129" y="14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449520" y="4370400"/>
            <a:ext cx="32040" cy="52920"/>
          </a:xfrm>
          <a:custGeom>
            <a:avLst/>
            <a:gdLst/>
            <a:ahLst/>
            <a:rect l="0" t="0" r="r" b="b"/>
            <a:pathLst>
              <a:path fill="none" w="89" h="147">
                <a:moveTo>
                  <a:pt x="89" y="147"/>
                </a:moveTo>
                <a:lnTo>
                  <a:pt x="0" y="0"/>
                </a:lnTo>
                <a:lnTo>
                  <a:pt x="0" y="4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481560" y="4165560"/>
            <a:ext cx="0" cy="64800"/>
          </a:xfrm>
          <a:custGeom>
            <a:avLst/>
            <a:gdLst/>
            <a:ahLst/>
            <a:rect l="0" t="0" r="r" b="b"/>
            <a:pathLst>
              <a:path fill="none" w="0" h="180">
                <a:moveTo>
                  <a:pt x="0" y="180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481560" y="3973680"/>
            <a:ext cx="30600" cy="51120"/>
          </a:xfrm>
          <a:custGeom>
            <a:avLst/>
            <a:gdLst/>
            <a:ahLst/>
            <a:rect l="0" t="0" r="r" b="b"/>
            <a:pathLst>
              <a:path fill="none" w="85" h="142">
                <a:moveTo>
                  <a:pt x="0" y="142"/>
                </a:moveTo>
                <a:lnTo>
                  <a:pt x="85" y="0"/>
                </a:lnTo>
                <a:lnTo>
                  <a:pt x="45" y="35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481560" y="378144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0" y="142"/>
                </a:moveTo>
                <a:lnTo>
                  <a:pt x="129" y="0"/>
                </a:lnTo>
                <a:lnTo>
                  <a:pt x="84" y="35"/>
                </a:lnTo>
                <a:lnTo>
                  <a:pt x="129" y="0"/>
                </a:lnTo>
                <a:lnTo>
                  <a:pt x="12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81560" y="358920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73" y="35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481560" y="339552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0" y="147"/>
                </a:moveTo>
                <a:lnTo>
                  <a:pt x="301" y="0"/>
                </a:lnTo>
                <a:lnTo>
                  <a:pt x="212" y="0"/>
                </a:lnTo>
                <a:lnTo>
                  <a:pt x="301" y="0"/>
                </a:lnTo>
                <a:lnTo>
                  <a:pt x="25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81560" y="320364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0" y="142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301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481560" y="3011400"/>
            <a:ext cx="154440" cy="51120"/>
          </a:xfrm>
          <a:custGeom>
            <a:avLst/>
            <a:gdLst/>
            <a:ahLst/>
            <a:rect l="0" t="0" r="r" b="b"/>
            <a:pathLst>
              <a:path fill="none" w="429" h="142">
                <a:moveTo>
                  <a:pt x="0" y="142"/>
                </a:moveTo>
                <a:lnTo>
                  <a:pt x="429" y="0"/>
                </a:lnTo>
                <a:lnTo>
                  <a:pt x="300" y="0"/>
                </a:lnTo>
                <a:lnTo>
                  <a:pt x="429" y="0"/>
                </a:lnTo>
                <a:lnTo>
                  <a:pt x="341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481560" y="280656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0" y="142"/>
                </a:moveTo>
                <a:lnTo>
                  <a:pt x="513" y="0"/>
                </a:lnTo>
                <a:lnTo>
                  <a:pt x="384" y="35"/>
                </a:lnTo>
                <a:lnTo>
                  <a:pt x="513" y="0"/>
                </a:lnTo>
                <a:lnTo>
                  <a:pt x="429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481560" y="261288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0" y="147"/>
                </a:moveTo>
                <a:lnTo>
                  <a:pt x="557" y="0"/>
                </a:lnTo>
                <a:lnTo>
                  <a:pt x="429" y="0"/>
                </a:lnTo>
                <a:lnTo>
                  <a:pt x="557" y="0"/>
                </a:lnTo>
                <a:lnTo>
                  <a:pt x="469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481560" y="2421000"/>
            <a:ext cx="230400" cy="52920"/>
          </a:xfrm>
          <a:custGeom>
            <a:avLst/>
            <a:gdLst/>
            <a:ahLst/>
            <a:rect l="0" t="0" r="r" b="b"/>
            <a:pathLst>
              <a:path fill="none" w="640" h="147">
                <a:moveTo>
                  <a:pt x="0" y="147"/>
                </a:moveTo>
                <a:lnTo>
                  <a:pt x="640" y="0"/>
                </a:lnTo>
                <a:lnTo>
                  <a:pt x="468" y="0"/>
                </a:lnTo>
                <a:lnTo>
                  <a:pt x="640" y="0"/>
                </a:lnTo>
                <a:lnTo>
                  <a:pt x="512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481560" y="2228760"/>
            <a:ext cx="246600" cy="51120"/>
          </a:xfrm>
          <a:custGeom>
            <a:avLst/>
            <a:gdLst/>
            <a:ahLst/>
            <a:rect l="0" t="0" r="r" b="b"/>
            <a:pathLst>
              <a:path fill="none" w="685" h="142">
                <a:moveTo>
                  <a:pt x="0" y="142"/>
                </a:moveTo>
                <a:lnTo>
                  <a:pt x="685" y="0"/>
                </a:lnTo>
                <a:lnTo>
                  <a:pt x="557" y="0"/>
                </a:lnTo>
                <a:lnTo>
                  <a:pt x="685" y="0"/>
                </a:lnTo>
                <a:lnTo>
                  <a:pt x="601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27280" y="6114960"/>
            <a:ext cx="246600" cy="52920"/>
          </a:xfrm>
          <a:custGeom>
            <a:avLst/>
            <a:gdLst/>
            <a:ahLst/>
            <a:rect l="0" t="0" r="r" b="b"/>
            <a:pathLst>
              <a:path fill="none" w="685" h="147">
                <a:moveTo>
                  <a:pt x="685" y="147"/>
                </a:moveTo>
                <a:lnTo>
                  <a:pt x="0" y="0"/>
                </a:lnTo>
                <a:lnTo>
                  <a:pt x="127" y="71"/>
                </a:lnTo>
                <a:lnTo>
                  <a:pt x="0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43120" y="5910120"/>
            <a:ext cx="230400" cy="63720"/>
          </a:xfrm>
          <a:custGeom>
            <a:avLst/>
            <a:gdLst/>
            <a:ahLst/>
            <a:rect l="0" t="0" r="r" b="b"/>
            <a:pathLst>
              <a:path fill="none" w="640" h="177">
                <a:moveTo>
                  <a:pt x="640" y="177"/>
                </a:moveTo>
                <a:lnTo>
                  <a:pt x="0" y="35"/>
                </a:lnTo>
                <a:lnTo>
                  <a:pt x="127" y="70"/>
                </a:lnTo>
                <a:lnTo>
                  <a:pt x="0" y="35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573360" y="5718240"/>
            <a:ext cx="200160" cy="63720"/>
          </a:xfrm>
          <a:custGeom>
            <a:avLst/>
            <a:gdLst/>
            <a:ahLst/>
            <a:rect l="0" t="0" r="r" b="b"/>
            <a:pathLst>
              <a:path fill="none" w="556" h="177">
                <a:moveTo>
                  <a:pt x="556" y="177"/>
                </a:moveTo>
                <a:lnTo>
                  <a:pt x="0" y="0"/>
                </a:lnTo>
                <a:lnTo>
                  <a:pt x="83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603600" y="5526000"/>
            <a:ext cx="170280" cy="63720"/>
          </a:xfrm>
          <a:custGeom>
            <a:avLst/>
            <a:gdLst/>
            <a:ahLst/>
            <a:rect l="0" t="0" r="r" b="b"/>
            <a:pathLst>
              <a:path fill="none" w="473" h="177">
                <a:moveTo>
                  <a:pt x="473" y="177"/>
                </a:moveTo>
                <a:lnTo>
                  <a:pt x="0" y="0"/>
                </a:lnTo>
                <a:lnTo>
                  <a:pt x="88" y="70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619440" y="5332320"/>
            <a:ext cx="154440" cy="52920"/>
          </a:xfrm>
          <a:custGeom>
            <a:avLst/>
            <a:gdLst/>
            <a:ahLst/>
            <a:rect l="0" t="0" r="r" b="b"/>
            <a:pathLst>
              <a:path fill="none" w="429" h="147">
                <a:moveTo>
                  <a:pt x="429" y="147"/>
                </a:moveTo>
                <a:lnTo>
                  <a:pt x="0" y="0"/>
                </a:lnTo>
                <a:lnTo>
                  <a:pt x="83" y="75"/>
                </a:lnTo>
                <a:lnTo>
                  <a:pt x="0" y="0"/>
                </a:lnTo>
                <a:lnTo>
                  <a:pt x="12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649680" y="5140440"/>
            <a:ext cx="124200" cy="52920"/>
          </a:xfrm>
          <a:custGeom>
            <a:avLst/>
            <a:gdLst/>
            <a:ahLst/>
            <a:rect l="0" t="0" r="r" b="b"/>
            <a:pathLst>
              <a:path fill="none" w="345" h="147">
                <a:moveTo>
                  <a:pt x="345" y="147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8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681360" y="4948200"/>
            <a:ext cx="92520" cy="51120"/>
          </a:xfrm>
          <a:custGeom>
            <a:avLst/>
            <a:gdLst/>
            <a:ahLst/>
            <a:rect l="0" t="0" r="r" b="b"/>
            <a:pathLst>
              <a:path fill="none" w="257" h="142">
                <a:moveTo>
                  <a:pt x="257" y="142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697200" y="47563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213" y="142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727440" y="4551480"/>
            <a:ext cx="46440" cy="63720"/>
          </a:xfrm>
          <a:custGeom>
            <a:avLst/>
            <a:gdLst/>
            <a:ahLst/>
            <a:rect l="0" t="0" r="r" b="b"/>
            <a:pathLst>
              <a:path fill="none" w="129" h="177">
                <a:moveTo>
                  <a:pt x="129" y="177"/>
                </a:moveTo>
                <a:lnTo>
                  <a:pt x="0" y="0"/>
                </a:lnTo>
                <a:lnTo>
                  <a:pt x="0" y="70"/>
                </a:lnTo>
                <a:lnTo>
                  <a:pt x="0" y="0"/>
                </a:lnTo>
                <a:lnTo>
                  <a:pt x="4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43280" y="4357800"/>
            <a:ext cx="30600" cy="65520"/>
          </a:xfrm>
          <a:custGeom>
            <a:avLst/>
            <a:gdLst/>
            <a:ahLst/>
            <a:rect l="0" t="0" r="r" b="b"/>
            <a:pathLst>
              <a:path fill="none" w="85" h="182">
                <a:moveTo>
                  <a:pt x="85" y="182"/>
                </a:moveTo>
                <a:lnTo>
                  <a:pt x="40" y="0"/>
                </a:lnTo>
                <a:lnTo>
                  <a:pt x="0" y="35"/>
                </a:lnTo>
                <a:lnTo>
                  <a:pt x="40" y="0"/>
                </a:lnTo>
                <a:lnTo>
                  <a:pt x="4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773520" y="4165560"/>
            <a:ext cx="25920" cy="65520"/>
          </a:xfrm>
          <a:custGeom>
            <a:avLst/>
            <a:gdLst/>
            <a:ahLst/>
            <a:rect l="0" t="0" r="r" b="b"/>
            <a:pathLst>
              <a:path fill="none" w="72" h="182">
                <a:moveTo>
                  <a:pt x="0" y="18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773520" y="3973680"/>
            <a:ext cx="30600" cy="51120"/>
          </a:xfrm>
          <a:custGeom>
            <a:avLst/>
            <a:gdLst/>
            <a:ahLst/>
            <a:rect l="0" t="0" r="r" b="b"/>
            <a:pathLst>
              <a:path fill="none" w="85" h="142">
                <a:moveTo>
                  <a:pt x="0" y="142"/>
                </a:moveTo>
                <a:lnTo>
                  <a:pt x="85" y="0"/>
                </a:lnTo>
                <a:lnTo>
                  <a:pt x="45" y="35"/>
                </a:lnTo>
                <a:lnTo>
                  <a:pt x="85" y="0"/>
                </a:lnTo>
                <a:lnTo>
                  <a:pt x="8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773520" y="378144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28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773520" y="358920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773520" y="339552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0" y="147"/>
                </a:moveTo>
                <a:lnTo>
                  <a:pt x="301" y="0"/>
                </a:lnTo>
                <a:lnTo>
                  <a:pt x="217" y="0"/>
                </a:lnTo>
                <a:lnTo>
                  <a:pt x="301" y="0"/>
                </a:lnTo>
                <a:lnTo>
                  <a:pt x="25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773520" y="3191040"/>
            <a:ext cx="124200" cy="63720"/>
          </a:xfrm>
          <a:custGeom>
            <a:avLst/>
            <a:gdLst/>
            <a:ahLst/>
            <a:rect l="0" t="0" r="r" b="b"/>
            <a:pathLst>
              <a:path fill="none" w="345" h="177">
                <a:moveTo>
                  <a:pt x="0" y="177"/>
                </a:moveTo>
                <a:lnTo>
                  <a:pt x="345" y="0"/>
                </a:lnTo>
                <a:lnTo>
                  <a:pt x="256" y="35"/>
                </a:lnTo>
                <a:lnTo>
                  <a:pt x="345" y="0"/>
                </a:lnTo>
                <a:lnTo>
                  <a:pt x="301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773520" y="2998800"/>
            <a:ext cx="154440" cy="63720"/>
          </a:xfrm>
          <a:custGeom>
            <a:avLst/>
            <a:gdLst/>
            <a:ahLst/>
            <a:rect l="0" t="0" r="r" b="b"/>
            <a:pathLst>
              <a:path fill="none" w="429" h="177">
                <a:moveTo>
                  <a:pt x="0" y="177"/>
                </a:moveTo>
                <a:lnTo>
                  <a:pt x="429" y="0"/>
                </a:lnTo>
                <a:lnTo>
                  <a:pt x="345" y="35"/>
                </a:lnTo>
                <a:lnTo>
                  <a:pt x="429" y="0"/>
                </a:lnTo>
                <a:lnTo>
                  <a:pt x="385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773520" y="280656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0" y="142"/>
                </a:moveTo>
                <a:lnTo>
                  <a:pt x="513" y="0"/>
                </a:lnTo>
                <a:lnTo>
                  <a:pt x="384" y="0"/>
                </a:lnTo>
                <a:lnTo>
                  <a:pt x="513" y="0"/>
                </a:lnTo>
                <a:lnTo>
                  <a:pt x="429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773520" y="261288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0" y="147"/>
                </a:moveTo>
                <a:lnTo>
                  <a:pt x="557" y="0"/>
                </a:lnTo>
                <a:lnTo>
                  <a:pt x="429" y="0"/>
                </a:lnTo>
                <a:lnTo>
                  <a:pt x="557" y="0"/>
                </a:lnTo>
                <a:lnTo>
                  <a:pt x="47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73520" y="2421000"/>
            <a:ext cx="230400" cy="52920"/>
          </a:xfrm>
          <a:custGeom>
            <a:avLst/>
            <a:gdLst/>
            <a:ahLst/>
            <a:rect l="0" t="0" r="r" b="b"/>
            <a:pathLst>
              <a:path fill="none" w="640" h="147">
                <a:moveTo>
                  <a:pt x="0" y="147"/>
                </a:moveTo>
                <a:lnTo>
                  <a:pt x="640" y="0"/>
                </a:lnTo>
                <a:lnTo>
                  <a:pt x="512" y="0"/>
                </a:lnTo>
                <a:lnTo>
                  <a:pt x="640" y="0"/>
                </a:lnTo>
                <a:lnTo>
                  <a:pt x="556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773520" y="2228760"/>
            <a:ext cx="262440" cy="51120"/>
          </a:xfrm>
          <a:custGeom>
            <a:avLst/>
            <a:gdLst/>
            <a:ahLst/>
            <a:rect l="0" t="0" r="r" b="b"/>
            <a:pathLst>
              <a:path fill="none" w="729" h="142">
                <a:moveTo>
                  <a:pt x="0" y="142"/>
                </a:moveTo>
                <a:lnTo>
                  <a:pt x="729" y="0"/>
                </a:lnTo>
                <a:lnTo>
                  <a:pt x="557" y="0"/>
                </a:lnTo>
                <a:lnTo>
                  <a:pt x="729" y="0"/>
                </a:lnTo>
                <a:lnTo>
                  <a:pt x="601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19600" y="6114960"/>
            <a:ext cx="246600" cy="52920"/>
          </a:xfrm>
          <a:custGeom>
            <a:avLst/>
            <a:gdLst/>
            <a:ahLst/>
            <a:rect l="0" t="0" r="r" b="b"/>
            <a:pathLst>
              <a:path fill="none" w="685" h="147">
                <a:moveTo>
                  <a:pt x="685" y="147"/>
                </a:moveTo>
                <a:lnTo>
                  <a:pt x="0" y="0"/>
                </a:lnTo>
                <a:lnTo>
                  <a:pt x="127" y="71"/>
                </a:lnTo>
                <a:lnTo>
                  <a:pt x="0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51280" y="5923080"/>
            <a:ext cx="214560" cy="51120"/>
          </a:xfrm>
          <a:custGeom>
            <a:avLst/>
            <a:gdLst/>
            <a:ahLst/>
            <a:rect l="0" t="0" r="r" b="b"/>
            <a:pathLst>
              <a:path fill="none" w="596" h="142">
                <a:moveTo>
                  <a:pt x="596" y="142"/>
                </a:moveTo>
                <a:lnTo>
                  <a:pt x="0" y="0"/>
                </a:lnTo>
                <a:lnTo>
                  <a:pt x="83" y="3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865680" y="5718240"/>
            <a:ext cx="200520" cy="63720"/>
          </a:xfrm>
          <a:custGeom>
            <a:avLst/>
            <a:gdLst/>
            <a:ahLst/>
            <a:rect l="0" t="0" r="r" b="b"/>
            <a:pathLst>
              <a:path fill="none" w="557" h="177">
                <a:moveTo>
                  <a:pt x="557" y="177"/>
                </a:moveTo>
                <a:lnTo>
                  <a:pt x="0" y="0"/>
                </a:lnTo>
                <a:lnTo>
                  <a:pt x="127" y="70"/>
                </a:lnTo>
                <a:lnTo>
                  <a:pt x="0" y="0"/>
                </a:lnTo>
                <a:lnTo>
                  <a:pt x="12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97360" y="5526000"/>
            <a:ext cx="168480" cy="63720"/>
          </a:xfrm>
          <a:custGeom>
            <a:avLst/>
            <a:gdLst/>
            <a:ahLst/>
            <a:rect l="0" t="0" r="r" b="b"/>
            <a:pathLst>
              <a:path fill="none" w="468" h="177">
                <a:moveTo>
                  <a:pt x="468" y="177"/>
                </a:moveTo>
                <a:lnTo>
                  <a:pt x="0" y="0"/>
                </a:lnTo>
                <a:lnTo>
                  <a:pt x="83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27600" y="5332320"/>
            <a:ext cx="138600" cy="52920"/>
          </a:xfrm>
          <a:custGeom>
            <a:avLst/>
            <a:gdLst/>
            <a:ahLst/>
            <a:rect l="0" t="0" r="r" b="b"/>
            <a:pathLst>
              <a:path fill="none" w="385" h="147">
                <a:moveTo>
                  <a:pt x="385" y="147"/>
                </a:moveTo>
                <a:lnTo>
                  <a:pt x="0" y="0"/>
                </a:lnTo>
                <a:lnTo>
                  <a:pt x="44" y="7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943440" y="514044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341" y="147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973680" y="4948200"/>
            <a:ext cx="92520" cy="51120"/>
          </a:xfrm>
          <a:custGeom>
            <a:avLst/>
            <a:gdLst/>
            <a:ahLst/>
            <a:rect l="0" t="0" r="r" b="b"/>
            <a:pathLst>
              <a:path fill="none" w="257" h="142">
                <a:moveTo>
                  <a:pt x="257" y="142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8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003560" y="475632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173" y="14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019400" y="456408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129" y="14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051440" y="4357800"/>
            <a:ext cx="25920" cy="65520"/>
          </a:xfrm>
          <a:custGeom>
            <a:avLst/>
            <a:gdLst/>
            <a:ahLst/>
            <a:rect l="0" t="0" r="r" b="b"/>
            <a:pathLst>
              <a:path fill="none" w="72" h="182">
                <a:moveTo>
                  <a:pt x="72" y="18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065480" y="4165560"/>
            <a:ext cx="25920" cy="65520"/>
          </a:xfrm>
          <a:custGeom>
            <a:avLst/>
            <a:gdLst/>
            <a:ahLst/>
            <a:rect l="0" t="0" r="r" b="b"/>
            <a:pathLst>
              <a:path fill="none" w="72" h="182">
                <a:moveTo>
                  <a:pt x="0" y="18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065480" y="3973680"/>
            <a:ext cx="32040" cy="51120"/>
          </a:xfrm>
          <a:custGeom>
            <a:avLst/>
            <a:gdLst/>
            <a:ahLst/>
            <a:rect l="0" t="0" r="r" b="b"/>
            <a:pathLst>
              <a:path fill="none" w="89" h="142">
                <a:moveTo>
                  <a:pt x="0" y="142"/>
                </a:moveTo>
                <a:lnTo>
                  <a:pt x="89" y="0"/>
                </a:lnTo>
                <a:lnTo>
                  <a:pt x="45" y="35"/>
                </a:lnTo>
                <a:lnTo>
                  <a:pt x="89" y="0"/>
                </a:lnTo>
                <a:lnTo>
                  <a:pt x="8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065480" y="378144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065480" y="358920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65480" y="339552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0" y="147"/>
                </a:moveTo>
                <a:lnTo>
                  <a:pt x="301" y="0"/>
                </a:lnTo>
                <a:lnTo>
                  <a:pt x="217" y="0"/>
                </a:lnTo>
                <a:lnTo>
                  <a:pt x="301" y="0"/>
                </a:lnTo>
                <a:lnTo>
                  <a:pt x="25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065480" y="3203640"/>
            <a:ext cx="140040" cy="51120"/>
          </a:xfrm>
          <a:custGeom>
            <a:avLst/>
            <a:gdLst/>
            <a:ahLst/>
            <a:rect l="0" t="0" r="r" b="b"/>
            <a:pathLst>
              <a:path fill="none" w="389" h="142">
                <a:moveTo>
                  <a:pt x="0" y="142"/>
                </a:moveTo>
                <a:lnTo>
                  <a:pt x="389" y="0"/>
                </a:lnTo>
                <a:lnTo>
                  <a:pt x="300" y="0"/>
                </a:lnTo>
                <a:lnTo>
                  <a:pt x="389" y="0"/>
                </a:lnTo>
                <a:lnTo>
                  <a:pt x="344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065480" y="2998800"/>
            <a:ext cx="154440" cy="63720"/>
          </a:xfrm>
          <a:custGeom>
            <a:avLst/>
            <a:gdLst/>
            <a:ahLst/>
            <a:rect l="0" t="0" r="r" b="b"/>
            <a:pathLst>
              <a:path fill="none" w="429" h="177">
                <a:moveTo>
                  <a:pt x="0" y="177"/>
                </a:moveTo>
                <a:lnTo>
                  <a:pt x="429" y="0"/>
                </a:lnTo>
                <a:lnTo>
                  <a:pt x="345" y="35"/>
                </a:lnTo>
                <a:lnTo>
                  <a:pt x="429" y="0"/>
                </a:lnTo>
                <a:lnTo>
                  <a:pt x="39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065480" y="280656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0" y="142"/>
                </a:moveTo>
                <a:lnTo>
                  <a:pt x="517" y="0"/>
                </a:lnTo>
                <a:lnTo>
                  <a:pt x="390" y="0"/>
                </a:lnTo>
                <a:lnTo>
                  <a:pt x="517" y="0"/>
                </a:lnTo>
                <a:lnTo>
                  <a:pt x="429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065480" y="2612880"/>
            <a:ext cx="216360" cy="52920"/>
          </a:xfrm>
          <a:custGeom>
            <a:avLst/>
            <a:gdLst/>
            <a:ahLst/>
            <a:rect l="0" t="0" r="r" b="b"/>
            <a:pathLst>
              <a:path fill="none" w="601" h="147">
                <a:moveTo>
                  <a:pt x="0" y="147"/>
                </a:moveTo>
                <a:lnTo>
                  <a:pt x="601" y="0"/>
                </a:lnTo>
                <a:lnTo>
                  <a:pt x="473" y="0"/>
                </a:lnTo>
                <a:lnTo>
                  <a:pt x="601" y="0"/>
                </a:lnTo>
                <a:lnTo>
                  <a:pt x="47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065480" y="2421000"/>
            <a:ext cx="232200" cy="52920"/>
          </a:xfrm>
          <a:custGeom>
            <a:avLst/>
            <a:gdLst/>
            <a:ahLst/>
            <a:rect l="0" t="0" r="r" b="b"/>
            <a:pathLst>
              <a:path fill="none" w="645" h="147">
                <a:moveTo>
                  <a:pt x="0" y="147"/>
                </a:moveTo>
                <a:lnTo>
                  <a:pt x="645" y="0"/>
                </a:lnTo>
                <a:lnTo>
                  <a:pt x="517" y="0"/>
                </a:lnTo>
                <a:lnTo>
                  <a:pt x="645" y="0"/>
                </a:lnTo>
                <a:lnTo>
                  <a:pt x="55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065480" y="2228760"/>
            <a:ext cx="262440" cy="51120"/>
          </a:xfrm>
          <a:custGeom>
            <a:avLst/>
            <a:gdLst/>
            <a:ahLst/>
            <a:rect l="0" t="0" r="r" b="b"/>
            <a:pathLst>
              <a:path fill="none" w="729" h="142">
                <a:moveTo>
                  <a:pt x="0" y="142"/>
                </a:moveTo>
                <a:lnTo>
                  <a:pt x="729" y="0"/>
                </a:lnTo>
                <a:lnTo>
                  <a:pt x="557" y="0"/>
                </a:lnTo>
                <a:lnTo>
                  <a:pt x="729" y="0"/>
                </a:lnTo>
                <a:lnTo>
                  <a:pt x="601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111560" y="6114960"/>
            <a:ext cx="262440" cy="52920"/>
          </a:xfrm>
          <a:custGeom>
            <a:avLst/>
            <a:gdLst/>
            <a:ahLst/>
            <a:rect l="0" t="0" r="r" b="b"/>
            <a:pathLst>
              <a:path fill="none" w="729" h="147">
                <a:moveTo>
                  <a:pt x="729" y="147"/>
                </a:moveTo>
                <a:lnTo>
                  <a:pt x="0" y="0"/>
                </a:lnTo>
                <a:lnTo>
                  <a:pt x="127" y="71"/>
                </a:lnTo>
                <a:lnTo>
                  <a:pt x="0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143240" y="5923080"/>
            <a:ext cx="230400" cy="51120"/>
          </a:xfrm>
          <a:custGeom>
            <a:avLst/>
            <a:gdLst/>
            <a:ahLst/>
            <a:rect l="0" t="0" r="r" b="b"/>
            <a:pathLst>
              <a:path fill="none" w="640" h="142">
                <a:moveTo>
                  <a:pt x="640" y="142"/>
                </a:moveTo>
                <a:lnTo>
                  <a:pt x="0" y="0"/>
                </a:lnTo>
                <a:lnTo>
                  <a:pt x="127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173480" y="57308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557" y="142"/>
                </a:moveTo>
                <a:lnTo>
                  <a:pt x="0" y="0"/>
                </a:lnTo>
                <a:lnTo>
                  <a:pt x="88" y="70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189320" y="553896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513" y="142"/>
                </a:moveTo>
                <a:lnTo>
                  <a:pt x="0" y="0"/>
                </a:lnTo>
                <a:lnTo>
                  <a:pt x="83" y="3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219560" y="534672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107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251240" y="515304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111"/>
                </a:moveTo>
                <a:lnTo>
                  <a:pt x="0" y="0"/>
                </a:lnTo>
                <a:lnTo>
                  <a:pt x="39" y="3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265640" y="4948200"/>
            <a:ext cx="108360" cy="51120"/>
          </a:xfrm>
          <a:custGeom>
            <a:avLst/>
            <a:gdLst/>
            <a:ahLst/>
            <a:rect l="0" t="0" r="r" b="b"/>
            <a:pathLst>
              <a:path fill="none" w="301" h="142">
                <a:moveTo>
                  <a:pt x="301" y="142"/>
                </a:moveTo>
                <a:lnTo>
                  <a:pt x="0" y="0"/>
                </a:lnTo>
                <a:lnTo>
                  <a:pt x="44" y="70"/>
                </a:lnTo>
                <a:lnTo>
                  <a:pt x="0" y="0"/>
                </a:lnTo>
                <a:lnTo>
                  <a:pt x="8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297320" y="47563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213" y="142"/>
                </a:moveTo>
                <a:lnTo>
                  <a:pt x="0" y="0"/>
                </a:lnTo>
                <a:lnTo>
                  <a:pt x="0" y="35"/>
                </a:lnTo>
                <a:lnTo>
                  <a:pt x="0" y="0"/>
                </a:lnTo>
                <a:lnTo>
                  <a:pt x="3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311720" y="45640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173" y="142"/>
                </a:moveTo>
                <a:lnTo>
                  <a:pt x="0" y="0"/>
                </a:lnTo>
                <a:lnTo>
                  <a:pt x="45" y="35"/>
                </a:lnTo>
                <a:lnTo>
                  <a:pt x="0" y="0"/>
                </a:lnTo>
                <a:lnTo>
                  <a:pt x="4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343400" y="4370400"/>
            <a:ext cx="30600" cy="52920"/>
          </a:xfrm>
          <a:custGeom>
            <a:avLst/>
            <a:gdLst/>
            <a:ahLst/>
            <a:rect l="0" t="0" r="r" b="b"/>
            <a:pathLst>
              <a:path fill="none" w="85" h="147">
                <a:moveTo>
                  <a:pt x="85" y="147"/>
                </a:moveTo>
                <a:lnTo>
                  <a:pt x="0" y="0"/>
                </a:lnTo>
                <a:lnTo>
                  <a:pt x="0" y="40"/>
                </a:lnTo>
                <a:lnTo>
                  <a:pt x="0" y="0"/>
                </a:lnTo>
                <a:lnTo>
                  <a:pt x="45" y="4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359240" y="417816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72" y="147"/>
                </a:moveTo>
                <a:lnTo>
                  <a:pt x="72" y="0"/>
                </a:lnTo>
                <a:lnTo>
                  <a:pt x="0" y="35"/>
                </a:lnTo>
                <a:lnTo>
                  <a:pt x="72" y="0"/>
                </a:lnTo>
                <a:lnTo>
                  <a:pt x="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373640" y="398628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107"/>
                </a:move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373640" y="378144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0" y="142"/>
                </a:moveTo>
                <a:lnTo>
                  <a:pt x="129" y="0"/>
                </a:lnTo>
                <a:lnTo>
                  <a:pt x="89" y="35"/>
                </a:lnTo>
                <a:lnTo>
                  <a:pt x="129" y="0"/>
                </a:lnTo>
                <a:lnTo>
                  <a:pt x="12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73640" y="358920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73640" y="339552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0" y="147"/>
                </a:moveTo>
                <a:lnTo>
                  <a:pt x="257" y="0"/>
                </a:lnTo>
                <a:lnTo>
                  <a:pt x="218" y="35"/>
                </a:lnTo>
                <a:lnTo>
                  <a:pt x="257" y="0"/>
                </a:lnTo>
                <a:lnTo>
                  <a:pt x="218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373640" y="3203640"/>
            <a:ext cx="124200" cy="51120"/>
          </a:xfrm>
          <a:custGeom>
            <a:avLst/>
            <a:gdLst/>
            <a:ahLst/>
            <a:rect l="0" t="0" r="r" b="b"/>
            <a:pathLst>
              <a:path fill="none" w="345" h="142">
                <a:moveTo>
                  <a:pt x="0" y="142"/>
                </a:moveTo>
                <a:lnTo>
                  <a:pt x="345" y="0"/>
                </a:lnTo>
                <a:lnTo>
                  <a:pt x="256" y="0"/>
                </a:lnTo>
                <a:lnTo>
                  <a:pt x="345" y="0"/>
                </a:lnTo>
                <a:lnTo>
                  <a:pt x="301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373640" y="3011400"/>
            <a:ext cx="154440" cy="51120"/>
          </a:xfrm>
          <a:custGeom>
            <a:avLst/>
            <a:gdLst/>
            <a:ahLst/>
            <a:rect l="0" t="0" r="r" b="b"/>
            <a:pathLst>
              <a:path fill="none" w="429" h="142">
                <a:moveTo>
                  <a:pt x="0" y="142"/>
                </a:moveTo>
                <a:lnTo>
                  <a:pt x="429" y="0"/>
                </a:lnTo>
                <a:lnTo>
                  <a:pt x="300" y="0"/>
                </a:lnTo>
                <a:lnTo>
                  <a:pt x="429" y="0"/>
                </a:lnTo>
                <a:lnTo>
                  <a:pt x="345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373640" y="2819520"/>
            <a:ext cx="170280" cy="38520"/>
          </a:xfrm>
          <a:custGeom>
            <a:avLst/>
            <a:gdLst/>
            <a:ahLst/>
            <a:rect l="0" t="0" r="r" b="b"/>
            <a:pathLst>
              <a:path fill="none" w="473" h="107">
                <a:moveTo>
                  <a:pt x="0" y="107"/>
                </a:moveTo>
                <a:lnTo>
                  <a:pt x="473" y="0"/>
                </a:lnTo>
                <a:lnTo>
                  <a:pt x="385" y="0"/>
                </a:lnTo>
                <a:lnTo>
                  <a:pt x="473" y="0"/>
                </a:lnTo>
                <a:lnTo>
                  <a:pt x="38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73640" y="261288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0" y="147"/>
                </a:moveTo>
                <a:lnTo>
                  <a:pt x="557" y="40"/>
                </a:lnTo>
                <a:lnTo>
                  <a:pt x="429" y="0"/>
                </a:lnTo>
                <a:lnTo>
                  <a:pt x="557" y="40"/>
                </a:lnTo>
                <a:lnTo>
                  <a:pt x="47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73640" y="2421000"/>
            <a:ext cx="232200" cy="52920"/>
          </a:xfrm>
          <a:custGeom>
            <a:avLst/>
            <a:gdLst/>
            <a:ahLst/>
            <a:rect l="0" t="0" r="r" b="b"/>
            <a:pathLst>
              <a:path fill="none" w="645" h="147">
                <a:moveTo>
                  <a:pt x="0" y="147"/>
                </a:moveTo>
                <a:lnTo>
                  <a:pt x="645" y="0"/>
                </a:lnTo>
                <a:lnTo>
                  <a:pt x="472" y="0"/>
                </a:lnTo>
                <a:lnTo>
                  <a:pt x="645" y="0"/>
                </a:lnTo>
                <a:lnTo>
                  <a:pt x="5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373640" y="2228760"/>
            <a:ext cx="246600" cy="51120"/>
          </a:xfrm>
          <a:custGeom>
            <a:avLst/>
            <a:gdLst/>
            <a:ahLst/>
            <a:rect l="0" t="0" r="r" b="b"/>
            <a:pathLst>
              <a:path fill="none" w="685" h="142">
                <a:moveTo>
                  <a:pt x="0" y="142"/>
                </a:moveTo>
                <a:lnTo>
                  <a:pt x="685" y="0"/>
                </a:lnTo>
                <a:lnTo>
                  <a:pt x="557" y="0"/>
                </a:lnTo>
                <a:lnTo>
                  <a:pt x="685" y="0"/>
                </a:lnTo>
                <a:lnTo>
                  <a:pt x="55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19720" y="6127920"/>
            <a:ext cx="246600" cy="39960"/>
          </a:xfrm>
          <a:custGeom>
            <a:avLst/>
            <a:gdLst/>
            <a:ahLst/>
            <a:rect l="0" t="0" r="r" b="b"/>
            <a:pathLst>
              <a:path fill="none" w="685" h="111">
                <a:moveTo>
                  <a:pt x="685" y="111"/>
                </a:moveTo>
                <a:lnTo>
                  <a:pt x="0" y="0"/>
                </a:lnTo>
                <a:lnTo>
                  <a:pt x="127" y="75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435560" y="5935680"/>
            <a:ext cx="230400" cy="38520"/>
          </a:xfrm>
          <a:custGeom>
            <a:avLst/>
            <a:gdLst/>
            <a:ahLst/>
            <a:rect l="0" t="0" r="r" b="b"/>
            <a:pathLst>
              <a:path fill="none" w="640" h="107">
                <a:moveTo>
                  <a:pt x="640" y="107"/>
                </a:moveTo>
                <a:lnTo>
                  <a:pt x="0" y="0"/>
                </a:lnTo>
                <a:lnTo>
                  <a:pt x="127" y="36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465800" y="574344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557" y="107"/>
                </a:moveTo>
                <a:lnTo>
                  <a:pt x="0" y="0"/>
                </a:lnTo>
                <a:lnTo>
                  <a:pt x="88" y="36"/>
                </a:lnTo>
                <a:lnTo>
                  <a:pt x="0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481640" y="553896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513" y="142"/>
                </a:moveTo>
                <a:lnTo>
                  <a:pt x="0" y="35"/>
                </a:lnTo>
                <a:lnTo>
                  <a:pt x="83" y="70"/>
                </a:lnTo>
                <a:lnTo>
                  <a:pt x="0" y="35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511520" y="534672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107"/>
                </a:moveTo>
                <a:lnTo>
                  <a:pt x="0" y="0"/>
                </a:lnTo>
                <a:lnTo>
                  <a:pt x="88" y="71"/>
                </a:lnTo>
                <a:lnTo>
                  <a:pt x="0" y="0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543560" y="515304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341" y="111"/>
                </a:moveTo>
                <a:lnTo>
                  <a:pt x="0" y="0"/>
                </a:lnTo>
                <a:lnTo>
                  <a:pt x="44" y="35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559400" y="4960800"/>
            <a:ext cx="106560" cy="38520"/>
          </a:xfrm>
          <a:custGeom>
            <a:avLst/>
            <a:gdLst/>
            <a:ahLst/>
            <a:rect l="0" t="0" r="r" b="b"/>
            <a:pathLst>
              <a:path fill="none" w="296" h="107">
                <a:moveTo>
                  <a:pt x="296" y="107"/>
                </a:moveTo>
                <a:lnTo>
                  <a:pt x="0" y="0"/>
                </a:lnTo>
                <a:lnTo>
                  <a:pt x="39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589640" y="476892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107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619520" y="457668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107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635360" y="4384800"/>
            <a:ext cx="30600" cy="38520"/>
          </a:xfrm>
          <a:custGeom>
            <a:avLst/>
            <a:gdLst/>
            <a:ahLst/>
            <a:rect l="0" t="0" r="r" b="b"/>
            <a:pathLst>
              <a:path fill="none" w="85" h="107">
                <a:moveTo>
                  <a:pt x="85" y="10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65600" y="4191120"/>
            <a:ext cx="0" cy="39600"/>
          </a:xfrm>
          <a:custGeom>
            <a:avLst/>
            <a:gdLst/>
            <a:ahLst/>
            <a:rect l="0" t="0" r="r" b="b"/>
            <a:pathLst>
              <a:path fill="none" w="0" h="110">
                <a:moveTo>
                  <a:pt x="0" y="11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65600" y="3986280"/>
            <a:ext cx="32040" cy="38520"/>
          </a:xfrm>
          <a:custGeom>
            <a:avLst/>
            <a:gdLst/>
            <a:ahLst/>
            <a:rect l="0" t="0" r="r" b="b"/>
            <a:pathLst>
              <a:path fill="none" w="89" h="107">
                <a:moveTo>
                  <a:pt x="0" y="107"/>
                </a:moveTo>
                <a:lnTo>
                  <a:pt x="89" y="0"/>
                </a:lnTo>
                <a:lnTo>
                  <a:pt x="45" y="36"/>
                </a:lnTo>
                <a:lnTo>
                  <a:pt x="89" y="0"/>
                </a:lnTo>
                <a:lnTo>
                  <a:pt x="8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665600" y="3794040"/>
            <a:ext cx="47880" cy="38520"/>
          </a:xfrm>
          <a:custGeom>
            <a:avLst/>
            <a:gdLst/>
            <a:ahLst/>
            <a:rect l="0" t="0" r="r" b="b"/>
            <a:pathLst>
              <a:path fill="none" w="133" h="107">
                <a:moveTo>
                  <a:pt x="0" y="107"/>
                </a:moveTo>
                <a:lnTo>
                  <a:pt x="133" y="0"/>
                </a:lnTo>
                <a:lnTo>
                  <a:pt x="89" y="36"/>
                </a:lnTo>
                <a:lnTo>
                  <a:pt x="133" y="0"/>
                </a:lnTo>
                <a:lnTo>
                  <a:pt x="13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665600" y="360216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665600" y="3408480"/>
            <a:ext cx="108360" cy="39960"/>
          </a:xfrm>
          <a:custGeom>
            <a:avLst/>
            <a:gdLst/>
            <a:ahLst/>
            <a:rect l="0" t="0" r="r" b="b"/>
            <a:pathLst>
              <a:path fill="none" w="301" h="111">
                <a:moveTo>
                  <a:pt x="0" y="111"/>
                </a:moveTo>
                <a:lnTo>
                  <a:pt x="301" y="0"/>
                </a:lnTo>
                <a:lnTo>
                  <a:pt x="217" y="0"/>
                </a:lnTo>
                <a:lnTo>
                  <a:pt x="301" y="0"/>
                </a:lnTo>
                <a:lnTo>
                  <a:pt x="262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665600" y="3216240"/>
            <a:ext cx="124200" cy="38520"/>
          </a:xfrm>
          <a:custGeom>
            <a:avLst/>
            <a:gdLst/>
            <a:ahLst/>
            <a:rect l="0" t="0" r="r" b="b"/>
            <a:pathLst>
              <a:path fill="none" w="345" h="107">
                <a:moveTo>
                  <a:pt x="0" y="107"/>
                </a:moveTo>
                <a:lnTo>
                  <a:pt x="345" y="0"/>
                </a:lnTo>
                <a:lnTo>
                  <a:pt x="262" y="0"/>
                </a:lnTo>
                <a:lnTo>
                  <a:pt x="345" y="0"/>
                </a:lnTo>
                <a:lnTo>
                  <a:pt x="301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665600" y="302436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0" y="107"/>
                </a:moveTo>
                <a:lnTo>
                  <a:pt x="429" y="0"/>
                </a:lnTo>
                <a:lnTo>
                  <a:pt x="345" y="0"/>
                </a:lnTo>
                <a:lnTo>
                  <a:pt x="429" y="0"/>
                </a:lnTo>
                <a:lnTo>
                  <a:pt x="3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65600" y="2819520"/>
            <a:ext cx="186120" cy="38520"/>
          </a:xfrm>
          <a:custGeom>
            <a:avLst/>
            <a:gdLst/>
            <a:ahLst/>
            <a:rect l="0" t="0" r="r" b="b"/>
            <a:pathLst>
              <a:path fill="none" w="517" h="107">
                <a:moveTo>
                  <a:pt x="0" y="107"/>
                </a:moveTo>
                <a:lnTo>
                  <a:pt x="517" y="36"/>
                </a:lnTo>
                <a:lnTo>
                  <a:pt x="390" y="0"/>
                </a:lnTo>
                <a:lnTo>
                  <a:pt x="517" y="36"/>
                </a:lnTo>
                <a:lnTo>
                  <a:pt x="42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65600" y="262728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0" y="107"/>
                </a:moveTo>
                <a:lnTo>
                  <a:pt x="557" y="0"/>
                </a:lnTo>
                <a:lnTo>
                  <a:pt x="429" y="0"/>
                </a:lnTo>
                <a:lnTo>
                  <a:pt x="557" y="0"/>
                </a:lnTo>
                <a:lnTo>
                  <a:pt x="47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665600" y="2433600"/>
            <a:ext cx="232200" cy="39960"/>
          </a:xfrm>
          <a:custGeom>
            <a:avLst/>
            <a:gdLst/>
            <a:ahLst/>
            <a:rect l="0" t="0" r="r" b="b"/>
            <a:pathLst>
              <a:path fill="none" w="645" h="111">
                <a:moveTo>
                  <a:pt x="0" y="111"/>
                </a:moveTo>
                <a:lnTo>
                  <a:pt x="645" y="0"/>
                </a:lnTo>
                <a:lnTo>
                  <a:pt x="517" y="0"/>
                </a:lnTo>
                <a:lnTo>
                  <a:pt x="645" y="0"/>
                </a:lnTo>
                <a:lnTo>
                  <a:pt x="517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65600" y="2241720"/>
            <a:ext cx="248040" cy="38520"/>
          </a:xfrm>
          <a:custGeom>
            <a:avLst/>
            <a:gdLst/>
            <a:ahLst/>
            <a:rect l="0" t="0" r="r" b="b"/>
            <a:pathLst>
              <a:path fill="none" w="689" h="107">
                <a:moveTo>
                  <a:pt x="0" y="107"/>
                </a:moveTo>
                <a:lnTo>
                  <a:pt x="689" y="0"/>
                </a:lnTo>
                <a:lnTo>
                  <a:pt x="557" y="0"/>
                </a:lnTo>
                <a:lnTo>
                  <a:pt x="689" y="0"/>
                </a:lnTo>
                <a:lnTo>
                  <a:pt x="55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713120" y="6127920"/>
            <a:ext cx="246600" cy="39960"/>
          </a:xfrm>
          <a:custGeom>
            <a:avLst/>
            <a:gdLst/>
            <a:ahLst/>
            <a:rect l="0" t="0" r="r" b="b"/>
            <a:pathLst>
              <a:path fill="none" w="685" h="111">
                <a:moveTo>
                  <a:pt x="685" y="111"/>
                </a:moveTo>
                <a:lnTo>
                  <a:pt x="0" y="35"/>
                </a:lnTo>
                <a:lnTo>
                  <a:pt x="127" y="111"/>
                </a:lnTo>
                <a:lnTo>
                  <a:pt x="0" y="35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727520" y="5935680"/>
            <a:ext cx="232200" cy="38520"/>
          </a:xfrm>
          <a:custGeom>
            <a:avLst/>
            <a:gdLst/>
            <a:ahLst/>
            <a:rect l="0" t="0" r="r" b="b"/>
            <a:pathLst>
              <a:path fill="none" w="645" h="107">
                <a:moveTo>
                  <a:pt x="645" y="107"/>
                </a:moveTo>
                <a:lnTo>
                  <a:pt x="0" y="36"/>
                </a:lnTo>
                <a:lnTo>
                  <a:pt x="127" y="71"/>
                </a:lnTo>
                <a:lnTo>
                  <a:pt x="0" y="36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759200" y="574344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557" y="107"/>
                </a:moveTo>
                <a:lnTo>
                  <a:pt x="0" y="36"/>
                </a:lnTo>
                <a:lnTo>
                  <a:pt x="127" y="71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789440" y="5551560"/>
            <a:ext cx="170280" cy="38520"/>
          </a:xfrm>
          <a:custGeom>
            <a:avLst/>
            <a:gdLst/>
            <a:ahLst/>
            <a:rect l="0" t="0" r="r" b="b"/>
            <a:pathLst>
              <a:path fill="none" w="473" h="107">
                <a:moveTo>
                  <a:pt x="473" y="107"/>
                </a:moveTo>
                <a:lnTo>
                  <a:pt x="0" y="36"/>
                </a:lnTo>
                <a:lnTo>
                  <a:pt x="83" y="71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05280" y="535932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72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12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35520" y="5165640"/>
            <a:ext cx="124200" cy="27360"/>
          </a:xfrm>
          <a:custGeom>
            <a:avLst/>
            <a:gdLst/>
            <a:ahLst/>
            <a:rect l="0" t="0" r="r" b="b"/>
            <a:pathLst>
              <a:path fill="none" w="345" h="76">
                <a:moveTo>
                  <a:pt x="345" y="76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65760" y="4973760"/>
            <a:ext cx="93960" cy="25920"/>
          </a:xfrm>
          <a:custGeom>
            <a:avLst/>
            <a:gdLst/>
            <a:ahLst/>
            <a:rect l="0" t="0" r="r" b="b"/>
            <a:pathLst>
              <a:path fill="none" w="261" h="72">
                <a:moveTo>
                  <a:pt x="261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881600" y="47815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217" y="72"/>
                </a:moveTo>
                <a:lnTo>
                  <a:pt x="0" y="0"/>
                </a:lnTo>
                <a:lnTo>
                  <a:pt x="44" y="36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913280" y="458964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72"/>
                </a:moveTo>
                <a:lnTo>
                  <a:pt x="0" y="0"/>
                </a:lnTo>
                <a:lnTo>
                  <a:pt x="0" y="36"/>
                </a:lnTo>
                <a:lnTo>
                  <a:pt x="0" y="0"/>
                </a:lnTo>
                <a:lnTo>
                  <a:pt x="4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943520" y="439740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959360" y="4203720"/>
            <a:ext cx="0" cy="26640"/>
          </a:xfrm>
          <a:custGeom>
            <a:avLst/>
            <a:gdLst/>
            <a:ahLst/>
            <a:rect l="0" t="0" r="r" b="b"/>
            <a:pathLst>
              <a:path fill="none" w="0" h="74">
                <a:moveTo>
                  <a:pt x="0" y="74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959360" y="401148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72"/>
                </a:moveTo>
                <a:lnTo>
                  <a:pt x="85" y="0"/>
                </a:lnTo>
                <a:lnTo>
                  <a:pt x="40" y="0"/>
                </a:lnTo>
                <a:lnTo>
                  <a:pt x="85" y="0"/>
                </a:lnTo>
                <a:lnTo>
                  <a:pt x="8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959360" y="38070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36"/>
                </a:lnTo>
                <a:lnTo>
                  <a:pt x="169" y="0"/>
                </a:lnTo>
                <a:lnTo>
                  <a:pt x="12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959360" y="36147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959360" y="342252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72"/>
                </a:moveTo>
                <a:lnTo>
                  <a:pt x="301" y="0"/>
                </a:lnTo>
                <a:lnTo>
                  <a:pt x="212" y="0"/>
                </a:lnTo>
                <a:lnTo>
                  <a:pt x="301" y="0"/>
                </a:lnTo>
                <a:lnTo>
                  <a:pt x="257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959360" y="32288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72"/>
                </a:moveTo>
                <a:lnTo>
                  <a:pt x="341" y="0"/>
                </a:lnTo>
                <a:lnTo>
                  <a:pt x="301" y="0"/>
                </a:lnTo>
                <a:lnTo>
                  <a:pt x="341" y="0"/>
                </a:lnTo>
                <a:lnTo>
                  <a:pt x="301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959360" y="30369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72"/>
                </a:moveTo>
                <a:lnTo>
                  <a:pt x="429" y="0"/>
                </a:lnTo>
                <a:lnTo>
                  <a:pt x="341" y="0"/>
                </a:lnTo>
                <a:lnTo>
                  <a:pt x="429" y="0"/>
                </a:lnTo>
                <a:lnTo>
                  <a:pt x="341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959360" y="2832120"/>
            <a:ext cx="184680" cy="25920"/>
          </a:xfrm>
          <a:custGeom>
            <a:avLst/>
            <a:gdLst/>
            <a:ahLst/>
            <a:rect l="0" t="0" r="r" b="b"/>
            <a:pathLst>
              <a:path fill="none" w="513" h="72">
                <a:moveTo>
                  <a:pt x="0" y="72"/>
                </a:moveTo>
                <a:lnTo>
                  <a:pt x="513" y="36"/>
                </a:lnTo>
                <a:lnTo>
                  <a:pt x="384" y="0"/>
                </a:lnTo>
                <a:lnTo>
                  <a:pt x="513" y="36"/>
                </a:lnTo>
                <a:lnTo>
                  <a:pt x="4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959360" y="263988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72"/>
                </a:moveTo>
                <a:lnTo>
                  <a:pt x="557" y="0"/>
                </a:lnTo>
                <a:lnTo>
                  <a:pt x="469" y="0"/>
                </a:lnTo>
                <a:lnTo>
                  <a:pt x="557" y="0"/>
                </a:lnTo>
                <a:lnTo>
                  <a:pt x="4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959360" y="2446200"/>
            <a:ext cx="230400" cy="27360"/>
          </a:xfrm>
          <a:custGeom>
            <a:avLst/>
            <a:gdLst/>
            <a:ahLst/>
            <a:rect l="0" t="0" r="r" b="b"/>
            <a:pathLst>
              <a:path fill="none" w="640" h="76">
                <a:moveTo>
                  <a:pt x="0" y="76"/>
                </a:moveTo>
                <a:lnTo>
                  <a:pt x="640" y="0"/>
                </a:lnTo>
                <a:lnTo>
                  <a:pt x="512" y="0"/>
                </a:lnTo>
                <a:lnTo>
                  <a:pt x="640" y="0"/>
                </a:lnTo>
                <a:lnTo>
                  <a:pt x="512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959360" y="2241720"/>
            <a:ext cx="260640" cy="38520"/>
          </a:xfrm>
          <a:custGeom>
            <a:avLst/>
            <a:gdLst/>
            <a:ahLst/>
            <a:rect l="0" t="0" r="r" b="b"/>
            <a:pathLst>
              <a:path fill="none" w="724" h="107">
                <a:moveTo>
                  <a:pt x="0" y="107"/>
                </a:moveTo>
                <a:lnTo>
                  <a:pt x="724" y="36"/>
                </a:lnTo>
                <a:lnTo>
                  <a:pt x="556" y="0"/>
                </a:lnTo>
                <a:lnTo>
                  <a:pt x="724" y="36"/>
                </a:lnTo>
                <a:lnTo>
                  <a:pt x="596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005440" y="6140520"/>
            <a:ext cx="262440" cy="39960"/>
          </a:xfrm>
          <a:custGeom>
            <a:avLst/>
            <a:gdLst/>
            <a:ahLst/>
            <a:rect l="0" t="0" r="r" b="b"/>
            <a:pathLst>
              <a:path fill="none" w="729" h="111">
                <a:moveTo>
                  <a:pt x="729" y="75"/>
                </a:moveTo>
                <a:lnTo>
                  <a:pt x="0" y="39"/>
                </a:lnTo>
                <a:lnTo>
                  <a:pt x="127" y="111"/>
                </a:lnTo>
                <a:lnTo>
                  <a:pt x="0" y="39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035680" y="5948280"/>
            <a:ext cx="232200" cy="25920"/>
          </a:xfrm>
          <a:custGeom>
            <a:avLst/>
            <a:gdLst/>
            <a:ahLst/>
            <a:rect l="0" t="0" r="r" b="b"/>
            <a:pathLst>
              <a:path fill="none" w="645" h="72">
                <a:moveTo>
                  <a:pt x="645" y="72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051520" y="5756400"/>
            <a:ext cx="216360" cy="25920"/>
          </a:xfrm>
          <a:custGeom>
            <a:avLst/>
            <a:gdLst/>
            <a:ahLst/>
            <a:rect l="0" t="0" r="r" b="b"/>
            <a:pathLst>
              <a:path fill="none" w="601" h="72">
                <a:moveTo>
                  <a:pt x="601" y="72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81760" y="5564160"/>
            <a:ext cx="186120" cy="25920"/>
          </a:xfrm>
          <a:custGeom>
            <a:avLst/>
            <a:gdLst/>
            <a:ahLst/>
            <a:rect l="0" t="0" r="r" b="b"/>
            <a:pathLst>
              <a:path fill="none" w="517" h="72">
                <a:moveTo>
                  <a:pt x="517" y="72"/>
                </a:moveTo>
                <a:lnTo>
                  <a:pt x="0" y="36"/>
                </a:lnTo>
                <a:lnTo>
                  <a:pt x="88" y="72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13440" y="537228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127480" y="5178600"/>
            <a:ext cx="140040" cy="25920"/>
          </a:xfrm>
          <a:custGeom>
            <a:avLst/>
            <a:gdLst/>
            <a:ahLst/>
            <a:rect l="0" t="0" r="r" b="b"/>
            <a:pathLst>
              <a:path fill="none" w="389" h="72">
                <a:moveTo>
                  <a:pt x="389" y="72"/>
                </a:moveTo>
                <a:lnTo>
                  <a:pt x="0" y="72"/>
                </a:lnTo>
                <a:lnTo>
                  <a:pt x="88" y="72"/>
                </a:lnTo>
                <a:lnTo>
                  <a:pt x="0" y="72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159520" y="498636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72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189400" y="47941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217" y="72"/>
                </a:moveTo>
                <a:lnTo>
                  <a:pt x="0" y="0"/>
                </a:lnTo>
                <a:lnTo>
                  <a:pt x="0" y="72"/>
                </a:lnTo>
                <a:lnTo>
                  <a:pt x="0" y="0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205240" y="46022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72"/>
                </a:moveTo>
                <a:lnTo>
                  <a:pt x="0" y="0"/>
                </a:lnTo>
                <a:lnTo>
                  <a:pt x="39" y="72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235480" y="441000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89" y="7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51320" y="421632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72" y="72"/>
                </a:moveTo>
                <a:lnTo>
                  <a:pt x="72" y="0"/>
                </a:lnTo>
                <a:lnTo>
                  <a:pt x="0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267160" y="4024440"/>
            <a:ext cx="25200" cy="0"/>
          </a:xfrm>
          <a:custGeom>
            <a:avLst/>
            <a:gdLst/>
            <a:ahLst/>
            <a:rect l="0" t="0" r="r" b="b"/>
            <a:pathLst>
              <a:path fill="none" w="70" h="0">
                <a:moveTo>
                  <a:pt x="0" y="0"/>
                </a:move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267160" y="3832200"/>
            <a:ext cx="45720" cy="0"/>
          </a:xfrm>
          <a:custGeom>
            <a:avLst/>
            <a:gdLst/>
            <a:ahLst/>
            <a:rect l="0" t="0" r="r" b="b"/>
            <a:pathLst>
              <a:path fill="none" w="127" h="0">
                <a:moveTo>
                  <a:pt x="0" y="0"/>
                </a:moveTo>
                <a:lnTo>
                  <a:pt x="127" y="0"/>
                </a:lnTo>
                <a:lnTo>
                  <a:pt x="83" y="0"/>
                </a:lnTo>
                <a:lnTo>
                  <a:pt x="127" y="0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267160" y="36273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267160" y="343548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72"/>
                </a:moveTo>
                <a:lnTo>
                  <a:pt x="257" y="0"/>
                </a:lnTo>
                <a:lnTo>
                  <a:pt x="213" y="0"/>
                </a:lnTo>
                <a:lnTo>
                  <a:pt x="257" y="0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267160" y="32418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72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267160" y="3036960"/>
            <a:ext cx="138600" cy="25920"/>
          </a:xfrm>
          <a:custGeom>
            <a:avLst/>
            <a:gdLst/>
            <a:ahLst/>
            <a:rect l="0" t="0" r="r" b="b"/>
            <a:pathLst>
              <a:path fill="none" w="385" h="72">
                <a:moveTo>
                  <a:pt x="0" y="72"/>
                </a:moveTo>
                <a:lnTo>
                  <a:pt x="385" y="36"/>
                </a:lnTo>
                <a:lnTo>
                  <a:pt x="297" y="0"/>
                </a:lnTo>
                <a:lnTo>
                  <a:pt x="385" y="36"/>
                </a:lnTo>
                <a:lnTo>
                  <a:pt x="29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267160" y="284472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36"/>
                </a:moveTo>
                <a:lnTo>
                  <a:pt x="468" y="36"/>
                </a:lnTo>
                <a:lnTo>
                  <a:pt x="384" y="0"/>
                </a:lnTo>
                <a:lnTo>
                  <a:pt x="468" y="36"/>
                </a:lnTo>
                <a:lnTo>
                  <a:pt x="3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67160" y="265284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36"/>
                </a:moveTo>
                <a:lnTo>
                  <a:pt x="557" y="36"/>
                </a:lnTo>
                <a:lnTo>
                  <a:pt x="429" y="0"/>
                </a:lnTo>
                <a:lnTo>
                  <a:pt x="557" y="36"/>
                </a:lnTo>
                <a:lnTo>
                  <a:pt x="4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267160" y="2460600"/>
            <a:ext cx="214560" cy="25920"/>
          </a:xfrm>
          <a:custGeom>
            <a:avLst/>
            <a:gdLst/>
            <a:ahLst/>
            <a:rect l="0" t="0" r="r" b="b"/>
            <a:pathLst>
              <a:path fill="none" w="596" h="72">
                <a:moveTo>
                  <a:pt x="0" y="36"/>
                </a:moveTo>
                <a:lnTo>
                  <a:pt x="596" y="36"/>
                </a:lnTo>
                <a:lnTo>
                  <a:pt x="468" y="0"/>
                </a:lnTo>
                <a:lnTo>
                  <a:pt x="596" y="36"/>
                </a:lnTo>
                <a:lnTo>
                  <a:pt x="46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267160" y="2254320"/>
            <a:ext cx="246600" cy="38520"/>
          </a:xfrm>
          <a:custGeom>
            <a:avLst/>
            <a:gdLst/>
            <a:ahLst/>
            <a:rect l="0" t="0" r="r" b="b"/>
            <a:pathLst>
              <a:path fill="none" w="685" h="107">
                <a:moveTo>
                  <a:pt x="0" y="71"/>
                </a:moveTo>
                <a:lnTo>
                  <a:pt x="685" y="36"/>
                </a:lnTo>
                <a:lnTo>
                  <a:pt x="557" y="0"/>
                </a:lnTo>
                <a:lnTo>
                  <a:pt x="685" y="36"/>
                </a:lnTo>
                <a:lnTo>
                  <a:pt x="557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297400" y="6167520"/>
            <a:ext cx="262440" cy="25920"/>
          </a:xfrm>
          <a:custGeom>
            <a:avLst/>
            <a:gdLst/>
            <a:ahLst/>
            <a:rect l="0" t="0" r="r" b="b"/>
            <a:pathLst>
              <a:path fill="none" w="729" h="72">
                <a:moveTo>
                  <a:pt x="729" y="0"/>
                </a:moveTo>
                <a:lnTo>
                  <a:pt x="0" y="36"/>
                </a:lnTo>
                <a:lnTo>
                  <a:pt x="171" y="72"/>
                </a:lnTo>
                <a:lnTo>
                  <a:pt x="0" y="36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327640" y="5961240"/>
            <a:ext cx="232200" cy="27360"/>
          </a:xfrm>
          <a:custGeom>
            <a:avLst/>
            <a:gdLst/>
            <a:ahLst/>
            <a:rect l="0" t="0" r="r" b="b"/>
            <a:pathLst>
              <a:path fill="none" w="645" h="76">
                <a:moveTo>
                  <a:pt x="645" y="36"/>
                </a:moveTo>
                <a:lnTo>
                  <a:pt x="0" y="76"/>
                </a:lnTo>
                <a:lnTo>
                  <a:pt x="127" y="76"/>
                </a:lnTo>
                <a:lnTo>
                  <a:pt x="0" y="7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359320" y="57690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36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373720" y="5576760"/>
            <a:ext cx="186120" cy="25920"/>
          </a:xfrm>
          <a:custGeom>
            <a:avLst/>
            <a:gdLst/>
            <a:ahLst/>
            <a:rect l="0" t="0" r="r" b="b"/>
            <a:pathLst>
              <a:path fill="none" w="517" h="72">
                <a:moveTo>
                  <a:pt x="517" y="36"/>
                </a:moveTo>
                <a:lnTo>
                  <a:pt x="0" y="36"/>
                </a:lnTo>
                <a:lnTo>
                  <a:pt x="133" y="72"/>
                </a:lnTo>
                <a:lnTo>
                  <a:pt x="0" y="36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405400" y="538488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435640" y="5192640"/>
            <a:ext cx="124200" cy="25920"/>
          </a:xfrm>
          <a:custGeom>
            <a:avLst/>
            <a:gdLst/>
            <a:ahLst/>
            <a:rect l="0" t="0" r="r" b="b"/>
            <a:pathLst>
              <a:path fill="none" w="345" h="72">
                <a:moveTo>
                  <a:pt x="345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451480" y="499896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0"/>
                </a:moveTo>
                <a:lnTo>
                  <a:pt x="0" y="72"/>
                </a:lnTo>
                <a:lnTo>
                  <a:pt x="8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481720" y="48070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217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497560" y="46148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0"/>
                </a:moveTo>
                <a:lnTo>
                  <a:pt x="0" y="0"/>
                </a:lnTo>
                <a:lnTo>
                  <a:pt x="45" y="72"/>
                </a:lnTo>
                <a:lnTo>
                  <a:pt x="0" y="0"/>
                </a:lnTo>
                <a:lnTo>
                  <a:pt x="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527800" y="4422600"/>
            <a:ext cx="31680" cy="0"/>
          </a:xfrm>
          <a:custGeom>
            <a:avLst/>
            <a:gdLst/>
            <a:ahLst/>
            <a:rect l="0" t="0" r="r" b="b"/>
            <a:pathLst>
              <a:path fill="none" w="88" h="0">
                <a:moveTo>
                  <a:pt x="88" y="0"/>
                </a:moveTo>
                <a:lnTo>
                  <a:pt x="0" y="0"/>
                </a:lnTo>
                <a:lnTo>
                  <a:pt x="44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559480" y="4230720"/>
            <a:ext cx="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59480" y="402444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  <a:lnTo>
                  <a:pt x="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559480" y="3832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84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59480" y="363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559480" y="344808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0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559480" y="325440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0" y="0"/>
                </a:moveTo>
                <a:lnTo>
                  <a:pt x="341" y="0"/>
                </a:lnTo>
                <a:lnTo>
                  <a:pt x="257" y="0"/>
                </a:lnTo>
                <a:lnTo>
                  <a:pt x="341" y="0"/>
                </a:lnTo>
                <a:lnTo>
                  <a:pt x="25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559480" y="30621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0"/>
                </a:moveTo>
                <a:lnTo>
                  <a:pt x="429" y="0"/>
                </a:lnTo>
                <a:lnTo>
                  <a:pt x="341" y="0"/>
                </a:lnTo>
                <a:lnTo>
                  <a:pt x="429" y="0"/>
                </a:lnTo>
                <a:lnTo>
                  <a:pt x="341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559480" y="2857680"/>
            <a:ext cx="168480" cy="25920"/>
          </a:xfrm>
          <a:custGeom>
            <a:avLst/>
            <a:gdLst/>
            <a:ahLst/>
            <a:rect l="0" t="0" r="r" b="b"/>
            <a:pathLst>
              <a:path fill="none" w="468" h="72">
                <a:moveTo>
                  <a:pt x="0" y="0"/>
                </a:moveTo>
                <a:lnTo>
                  <a:pt x="468" y="36"/>
                </a:lnTo>
                <a:lnTo>
                  <a:pt x="384" y="0"/>
                </a:lnTo>
                <a:lnTo>
                  <a:pt x="468" y="36"/>
                </a:lnTo>
                <a:lnTo>
                  <a:pt x="3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59480" y="266544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0"/>
                </a:moveTo>
                <a:lnTo>
                  <a:pt x="557" y="36"/>
                </a:lnTo>
                <a:lnTo>
                  <a:pt x="429" y="0"/>
                </a:lnTo>
                <a:lnTo>
                  <a:pt x="557" y="36"/>
                </a:lnTo>
                <a:lnTo>
                  <a:pt x="4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559480" y="2473200"/>
            <a:ext cx="230400" cy="25920"/>
          </a:xfrm>
          <a:custGeom>
            <a:avLst/>
            <a:gdLst/>
            <a:ahLst/>
            <a:rect l="0" t="0" r="r" b="b"/>
            <a:pathLst>
              <a:path fill="none" w="640" h="72">
                <a:moveTo>
                  <a:pt x="0" y="0"/>
                </a:moveTo>
                <a:lnTo>
                  <a:pt x="640" y="36"/>
                </a:lnTo>
                <a:lnTo>
                  <a:pt x="512" y="0"/>
                </a:lnTo>
                <a:lnTo>
                  <a:pt x="640" y="36"/>
                </a:lnTo>
                <a:lnTo>
                  <a:pt x="5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559480" y="2279520"/>
            <a:ext cx="246600" cy="27360"/>
          </a:xfrm>
          <a:custGeom>
            <a:avLst/>
            <a:gdLst/>
            <a:ahLst/>
            <a:rect l="0" t="0" r="r" b="b"/>
            <a:pathLst>
              <a:path fill="none" w="685" h="76">
                <a:moveTo>
                  <a:pt x="0" y="0"/>
                </a:moveTo>
                <a:lnTo>
                  <a:pt x="685" y="36"/>
                </a:lnTo>
                <a:lnTo>
                  <a:pt x="557" y="0"/>
                </a:lnTo>
                <a:lnTo>
                  <a:pt x="685" y="36"/>
                </a:lnTo>
                <a:lnTo>
                  <a:pt x="55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605560" y="6167520"/>
            <a:ext cx="246600" cy="38520"/>
          </a:xfrm>
          <a:custGeom>
            <a:avLst/>
            <a:gdLst/>
            <a:ahLst/>
            <a:rect l="0" t="0" r="r" b="b"/>
            <a:pathLst>
              <a:path fill="none" w="685" h="107">
                <a:moveTo>
                  <a:pt x="685" y="0"/>
                </a:moveTo>
                <a:lnTo>
                  <a:pt x="0" y="71"/>
                </a:lnTo>
                <a:lnTo>
                  <a:pt x="127" y="107"/>
                </a:lnTo>
                <a:lnTo>
                  <a:pt x="0" y="71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621400" y="5973840"/>
            <a:ext cx="230400" cy="27360"/>
          </a:xfrm>
          <a:custGeom>
            <a:avLst/>
            <a:gdLst/>
            <a:ahLst/>
            <a:rect l="0" t="0" r="r" b="b"/>
            <a:pathLst>
              <a:path fill="none" w="640" h="76">
                <a:moveTo>
                  <a:pt x="640" y="0"/>
                </a:moveTo>
                <a:lnTo>
                  <a:pt x="0" y="76"/>
                </a:lnTo>
                <a:lnTo>
                  <a:pt x="127" y="76"/>
                </a:lnTo>
                <a:lnTo>
                  <a:pt x="0" y="7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651640" y="57816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8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667480" y="5589720"/>
            <a:ext cx="184680" cy="25920"/>
          </a:xfrm>
          <a:custGeom>
            <a:avLst/>
            <a:gdLst/>
            <a:ahLst/>
            <a:rect l="0" t="0" r="r" b="b"/>
            <a:pathLst>
              <a:path fill="none" w="513" h="72">
                <a:moveTo>
                  <a:pt x="513" y="0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697360" y="538488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0"/>
                </a:moveTo>
                <a:lnTo>
                  <a:pt x="0" y="71"/>
                </a:lnTo>
                <a:lnTo>
                  <a:pt x="83" y="107"/>
                </a:lnTo>
                <a:lnTo>
                  <a:pt x="0" y="71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727600" y="5192640"/>
            <a:ext cx="124200" cy="25920"/>
          </a:xfrm>
          <a:custGeom>
            <a:avLst/>
            <a:gdLst/>
            <a:ahLst/>
            <a:rect l="0" t="0" r="r" b="b"/>
            <a:pathLst>
              <a:path fill="none" w="345" h="72">
                <a:moveTo>
                  <a:pt x="345" y="0"/>
                </a:moveTo>
                <a:lnTo>
                  <a:pt x="0" y="72"/>
                </a:lnTo>
                <a:lnTo>
                  <a:pt x="89" y="72"/>
                </a:lnTo>
                <a:lnTo>
                  <a:pt x="0" y="72"/>
                </a:lnTo>
                <a:lnTo>
                  <a:pt x="44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743440" y="4998960"/>
            <a:ext cx="108360" cy="27360"/>
          </a:xfrm>
          <a:custGeom>
            <a:avLst/>
            <a:gdLst/>
            <a:ahLst/>
            <a:rect l="0" t="0" r="r" b="b"/>
            <a:pathLst>
              <a:path fill="none" w="301" h="76">
                <a:moveTo>
                  <a:pt x="301" y="0"/>
                </a:moveTo>
                <a:lnTo>
                  <a:pt x="0" y="76"/>
                </a:lnTo>
                <a:lnTo>
                  <a:pt x="89" y="76"/>
                </a:lnTo>
                <a:lnTo>
                  <a:pt x="0" y="76"/>
                </a:lnTo>
                <a:lnTo>
                  <a:pt x="8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775480" y="48070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805360" y="461484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821200" y="442260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0" y="36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51440" y="423072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  <a:lnTo>
                  <a:pt x="0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851440" y="402444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0" y="0"/>
                </a:moveTo>
                <a:lnTo>
                  <a:pt x="85" y="72"/>
                </a:lnTo>
                <a:lnTo>
                  <a:pt x="85" y="72"/>
                </a:lnTo>
                <a:lnTo>
                  <a:pt x="85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851440" y="3832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129" y="72"/>
                </a:lnTo>
                <a:lnTo>
                  <a:pt x="129" y="72"/>
                </a:lnTo>
                <a:lnTo>
                  <a:pt x="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51440" y="363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36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851440" y="344808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0"/>
                </a:moveTo>
                <a:lnTo>
                  <a:pt x="301" y="72"/>
                </a:lnTo>
                <a:lnTo>
                  <a:pt x="212" y="36"/>
                </a:lnTo>
                <a:lnTo>
                  <a:pt x="301" y="72"/>
                </a:lnTo>
                <a:lnTo>
                  <a:pt x="21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51440" y="3254400"/>
            <a:ext cx="124200" cy="27360"/>
          </a:xfrm>
          <a:custGeom>
            <a:avLst/>
            <a:gdLst/>
            <a:ahLst/>
            <a:rect l="0" t="0" r="r" b="b"/>
            <a:pathLst>
              <a:path fill="none" w="345" h="76">
                <a:moveTo>
                  <a:pt x="0" y="0"/>
                </a:moveTo>
                <a:lnTo>
                  <a:pt x="345" y="76"/>
                </a:lnTo>
                <a:lnTo>
                  <a:pt x="301" y="40"/>
                </a:lnTo>
                <a:lnTo>
                  <a:pt x="345" y="76"/>
                </a:lnTo>
                <a:lnTo>
                  <a:pt x="25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51440" y="30621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0"/>
                </a:moveTo>
                <a:lnTo>
                  <a:pt x="429" y="72"/>
                </a:lnTo>
                <a:lnTo>
                  <a:pt x="345" y="36"/>
                </a:lnTo>
                <a:lnTo>
                  <a:pt x="429" y="72"/>
                </a:lnTo>
                <a:lnTo>
                  <a:pt x="3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51440" y="2857680"/>
            <a:ext cx="184680" cy="38520"/>
          </a:xfrm>
          <a:custGeom>
            <a:avLst/>
            <a:gdLst/>
            <a:ahLst/>
            <a:rect l="0" t="0" r="r" b="b"/>
            <a:pathLst>
              <a:path fill="none" w="513" h="107">
                <a:moveTo>
                  <a:pt x="0" y="0"/>
                </a:moveTo>
                <a:lnTo>
                  <a:pt x="513" y="71"/>
                </a:lnTo>
                <a:lnTo>
                  <a:pt x="384" y="36"/>
                </a:lnTo>
                <a:lnTo>
                  <a:pt x="513" y="71"/>
                </a:lnTo>
                <a:lnTo>
                  <a:pt x="384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851440" y="266544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0" y="0"/>
                </a:moveTo>
                <a:lnTo>
                  <a:pt x="557" y="71"/>
                </a:lnTo>
                <a:lnTo>
                  <a:pt x="473" y="36"/>
                </a:lnTo>
                <a:lnTo>
                  <a:pt x="557" y="71"/>
                </a:lnTo>
                <a:lnTo>
                  <a:pt x="42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851440" y="2473200"/>
            <a:ext cx="230400" cy="38520"/>
          </a:xfrm>
          <a:custGeom>
            <a:avLst/>
            <a:gdLst/>
            <a:ahLst/>
            <a:rect l="0" t="0" r="r" b="b"/>
            <a:pathLst>
              <a:path fill="none" w="640" h="107">
                <a:moveTo>
                  <a:pt x="0" y="0"/>
                </a:moveTo>
                <a:lnTo>
                  <a:pt x="640" y="71"/>
                </a:lnTo>
                <a:lnTo>
                  <a:pt x="512" y="36"/>
                </a:lnTo>
                <a:lnTo>
                  <a:pt x="640" y="71"/>
                </a:lnTo>
                <a:lnTo>
                  <a:pt x="51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851440" y="2279520"/>
            <a:ext cx="246600" cy="39960"/>
          </a:xfrm>
          <a:custGeom>
            <a:avLst/>
            <a:gdLst/>
            <a:ahLst/>
            <a:rect l="0" t="0" r="r" b="b"/>
            <a:pathLst>
              <a:path fill="none" w="685" h="111">
                <a:moveTo>
                  <a:pt x="0" y="0"/>
                </a:moveTo>
                <a:lnTo>
                  <a:pt x="685" y="75"/>
                </a:lnTo>
                <a:lnTo>
                  <a:pt x="557" y="0"/>
                </a:lnTo>
                <a:lnTo>
                  <a:pt x="685" y="75"/>
                </a:lnTo>
                <a:lnTo>
                  <a:pt x="557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897520" y="6167520"/>
            <a:ext cx="246600" cy="38520"/>
          </a:xfrm>
          <a:custGeom>
            <a:avLst/>
            <a:gdLst/>
            <a:ahLst/>
            <a:rect l="0" t="0" r="r" b="b"/>
            <a:pathLst>
              <a:path fill="none" w="685" h="107">
                <a:moveTo>
                  <a:pt x="685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127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913360" y="5973840"/>
            <a:ext cx="230400" cy="39960"/>
          </a:xfrm>
          <a:custGeom>
            <a:avLst/>
            <a:gdLst/>
            <a:ahLst/>
            <a:rect l="0" t="0" r="r" b="b"/>
            <a:pathLst>
              <a:path fill="none" w="640" h="111">
                <a:moveTo>
                  <a:pt x="640" y="0"/>
                </a:moveTo>
                <a:lnTo>
                  <a:pt x="0" y="111"/>
                </a:lnTo>
                <a:lnTo>
                  <a:pt x="171" y="111"/>
                </a:lnTo>
                <a:lnTo>
                  <a:pt x="0" y="111"/>
                </a:lnTo>
                <a:lnTo>
                  <a:pt x="127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943600" y="578160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557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975280" y="558972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989680" y="538488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0"/>
                </a:moveTo>
                <a:lnTo>
                  <a:pt x="0" y="107"/>
                </a:lnTo>
                <a:lnTo>
                  <a:pt x="128" y="107"/>
                </a:lnTo>
                <a:lnTo>
                  <a:pt x="0" y="107"/>
                </a:lnTo>
                <a:lnTo>
                  <a:pt x="88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021360" y="5192640"/>
            <a:ext cx="122760" cy="38520"/>
          </a:xfrm>
          <a:custGeom>
            <a:avLst/>
            <a:gdLst/>
            <a:ahLst/>
            <a:rect l="0" t="0" r="r" b="b"/>
            <a:pathLst>
              <a:path fill="none" w="341" h="107">
                <a:moveTo>
                  <a:pt x="341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051600" y="4998960"/>
            <a:ext cx="92520" cy="39960"/>
          </a:xfrm>
          <a:custGeom>
            <a:avLst/>
            <a:gdLst/>
            <a:ahLst/>
            <a:rect l="0" t="0" r="r" b="b"/>
            <a:pathLst>
              <a:path fill="none" w="257" h="111">
                <a:moveTo>
                  <a:pt x="257" y="0"/>
                </a:moveTo>
                <a:lnTo>
                  <a:pt x="0" y="111"/>
                </a:lnTo>
                <a:lnTo>
                  <a:pt x="44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67440" y="4807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213" y="0"/>
                </a:moveTo>
                <a:lnTo>
                  <a:pt x="0" y="107"/>
                </a:lnTo>
                <a:lnTo>
                  <a:pt x="84" y="107"/>
                </a:lnTo>
                <a:lnTo>
                  <a:pt x="0" y="107"/>
                </a:lnTo>
                <a:lnTo>
                  <a:pt x="39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97680" y="461484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129" y="0"/>
                </a:moveTo>
                <a:lnTo>
                  <a:pt x="0" y="107"/>
                </a:lnTo>
                <a:lnTo>
                  <a:pt x="45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129360" y="44226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0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143760" y="4230720"/>
            <a:ext cx="25920" cy="25920"/>
          </a:xfrm>
          <a:custGeom>
            <a:avLst/>
            <a:gdLst/>
            <a:ahLst/>
            <a:rect l="0" t="0" r="r" b="b"/>
            <a:pathLst>
              <a:path fill="none" w="72" h="72">
                <a:moveTo>
                  <a:pt x="0" y="0"/>
                </a:moveTo>
                <a:lnTo>
                  <a:pt x="0" y="72"/>
                </a:lnTo>
                <a:lnTo>
                  <a:pt x="72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143760" y="4024440"/>
            <a:ext cx="32040" cy="39960"/>
          </a:xfrm>
          <a:custGeom>
            <a:avLst/>
            <a:gdLst/>
            <a:ahLst/>
            <a:rect l="0" t="0" r="r" b="b"/>
            <a:pathLst>
              <a:path fill="none" w="89" h="111">
                <a:moveTo>
                  <a:pt x="0" y="0"/>
                </a:moveTo>
                <a:lnTo>
                  <a:pt x="89" y="111"/>
                </a:lnTo>
                <a:lnTo>
                  <a:pt x="89" y="111"/>
                </a:lnTo>
                <a:lnTo>
                  <a:pt x="89" y="111"/>
                </a:lnTo>
                <a:lnTo>
                  <a:pt x="45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43760" y="383220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0"/>
                </a:moveTo>
                <a:lnTo>
                  <a:pt x="173" y="107"/>
                </a:lnTo>
                <a:lnTo>
                  <a:pt x="128" y="71"/>
                </a:lnTo>
                <a:lnTo>
                  <a:pt x="173" y="107"/>
                </a:lnTo>
                <a:lnTo>
                  <a:pt x="128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143760" y="363996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0"/>
                </a:moveTo>
                <a:lnTo>
                  <a:pt x="217" y="107"/>
                </a:lnTo>
                <a:lnTo>
                  <a:pt x="172" y="71"/>
                </a:lnTo>
                <a:lnTo>
                  <a:pt x="217" y="107"/>
                </a:lnTo>
                <a:lnTo>
                  <a:pt x="17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143760" y="3448080"/>
            <a:ext cx="108360" cy="38520"/>
          </a:xfrm>
          <a:custGeom>
            <a:avLst/>
            <a:gdLst/>
            <a:ahLst/>
            <a:rect l="0" t="0" r="r" b="b"/>
            <a:pathLst>
              <a:path fill="none" w="301" h="107">
                <a:moveTo>
                  <a:pt x="0" y="0"/>
                </a:moveTo>
                <a:lnTo>
                  <a:pt x="301" y="107"/>
                </a:lnTo>
                <a:lnTo>
                  <a:pt x="257" y="71"/>
                </a:lnTo>
                <a:lnTo>
                  <a:pt x="301" y="107"/>
                </a:lnTo>
                <a:lnTo>
                  <a:pt x="217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143760" y="3254400"/>
            <a:ext cx="124200" cy="39960"/>
          </a:xfrm>
          <a:custGeom>
            <a:avLst/>
            <a:gdLst/>
            <a:ahLst/>
            <a:rect l="0" t="0" r="r" b="b"/>
            <a:pathLst>
              <a:path fill="none" w="345" h="111">
                <a:moveTo>
                  <a:pt x="0" y="0"/>
                </a:moveTo>
                <a:lnTo>
                  <a:pt x="345" y="111"/>
                </a:lnTo>
                <a:lnTo>
                  <a:pt x="301" y="75"/>
                </a:lnTo>
                <a:lnTo>
                  <a:pt x="345" y="111"/>
                </a:lnTo>
                <a:lnTo>
                  <a:pt x="301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43760" y="3062160"/>
            <a:ext cx="154440" cy="39960"/>
          </a:xfrm>
          <a:custGeom>
            <a:avLst/>
            <a:gdLst/>
            <a:ahLst/>
            <a:rect l="0" t="0" r="r" b="b"/>
            <a:pathLst>
              <a:path fill="none" w="429" h="111">
                <a:moveTo>
                  <a:pt x="0" y="0"/>
                </a:moveTo>
                <a:lnTo>
                  <a:pt x="429" y="111"/>
                </a:lnTo>
                <a:lnTo>
                  <a:pt x="345" y="35"/>
                </a:lnTo>
                <a:lnTo>
                  <a:pt x="429" y="111"/>
                </a:lnTo>
                <a:lnTo>
                  <a:pt x="345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143760" y="285768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0" y="0"/>
                </a:moveTo>
                <a:lnTo>
                  <a:pt x="517" y="106"/>
                </a:lnTo>
                <a:lnTo>
                  <a:pt x="429" y="70"/>
                </a:lnTo>
                <a:lnTo>
                  <a:pt x="517" y="106"/>
                </a:lnTo>
                <a:lnTo>
                  <a:pt x="390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143760" y="26654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0" y="0"/>
                </a:moveTo>
                <a:lnTo>
                  <a:pt x="557" y="106"/>
                </a:lnTo>
                <a:lnTo>
                  <a:pt x="473" y="70"/>
                </a:lnTo>
                <a:lnTo>
                  <a:pt x="557" y="106"/>
                </a:lnTo>
                <a:lnTo>
                  <a:pt x="4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43760" y="2473200"/>
            <a:ext cx="232200" cy="38520"/>
          </a:xfrm>
          <a:custGeom>
            <a:avLst/>
            <a:gdLst/>
            <a:ahLst/>
            <a:rect l="0" t="0" r="r" b="b"/>
            <a:pathLst>
              <a:path fill="none" w="645" h="107">
                <a:moveTo>
                  <a:pt x="0" y="0"/>
                </a:moveTo>
                <a:lnTo>
                  <a:pt x="645" y="107"/>
                </a:lnTo>
                <a:lnTo>
                  <a:pt x="517" y="71"/>
                </a:lnTo>
                <a:lnTo>
                  <a:pt x="645" y="107"/>
                </a:lnTo>
                <a:lnTo>
                  <a:pt x="517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43760" y="2279520"/>
            <a:ext cx="262440" cy="39960"/>
          </a:xfrm>
          <a:custGeom>
            <a:avLst/>
            <a:gdLst/>
            <a:ahLst/>
            <a:rect l="0" t="0" r="r" b="b"/>
            <a:pathLst>
              <a:path fill="none" w="729" h="111">
                <a:moveTo>
                  <a:pt x="0" y="0"/>
                </a:moveTo>
                <a:lnTo>
                  <a:pt x="729" y="111"/>
                </a:lnTo>
                <a:lnTo>
                  <a:pt x="601" y="35"/>
                </a:lnTo>
                <a:lnTo>
                  <a:pt x="729" y="111"/>
                </a:lnTo>
                <a:lnTo>
                  <a:pt x="557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189840" y="6167520"/>
            <a:ext cx="246600" cy="51120"/>
          </a:xfrm>
          <a:custGeom>
            <a:avLst/>
            <a:gdLst/>
            <a:ahLst/>
            <a:rect l="0" t="0" r="r" b="b"/>
            <a:pathLst>
              <a:path fill="none" w="685" h="142">
                <a:moveTo>
                  <a:pt x="685" y="0"/>
                </a:moveTo>
                <a:lnTo>
                  <a:pt x="0" y="142"/>
                </a:lnTo>
                <a:lnTo>
                  <a:pt x="172" y="142"/>
                </a:lnTo>
                <a:lnTo>
                  <a:pt x="0" y="142"/>
                </a:lnTo>
                <a:lnTo>
                  <a:pt x="12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21520" y="5973840"/>
            <a:ext cx="214560" cy="52920"/>
          </a:xfrm>
          <a:custGeom>
            <a:avLst/>
            <a:gdLst/>
            <a:ahLst/>
            <a:rect l="0" t="0" r="r" b="b"/>
            <a:pathLst>
              <a:path fill="none" w="596" h="147">
                <a:moveTo>
                  <a:pt x="596" y="0"/>
                </a:moveTo>
                <a:lnTo>
                  <a:pt x="0" y="147"/>
                </a:lnTo>
                <a:lnTo>
                  <a:pt x="127" y="147"/>
                </a:lnTo>
                <a:lnTo>
                  <a:pt x="0" y="147"/>
                </a:lnTo>
                <a:lnTo>
                  <a:pt x="8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35560" y="578160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557" y="0"/>
                </a:moveTo>
                <a:lnTo>
                  <a:pt x="0" y="106"/>
                </a:lnTo>
                <a:lnTo>
                  <a:pt x="132" y="147"/>
                </a:lnTo>
                <a:lnTo>
                  <a:pt x="0" y="106"/>
                </a:lnTo>
                <a:lnTo>
                  <a:pt x="132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267600" y="5589720"/>
            <a:ext cx="168480" cy="38520"/>
          </a:xfrm>
          <a:custGeom>
            <a:avLst/>
            <a:gdLst/>
            <a:ahLst/>
            <a:rect l="0" t="0" r="r" b="b"/>
            <a:pathLst>
              <a:path fill="none" w="468" h="107">
                <a:moveTo>
                  <a:pt x="468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8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97480" y="5384880"/>
            <a:ext cx="138600" cy="51120"/>
          </a:xfrm>
          <a:custGeom>
            <a:avLst/>
            <a:gdLst/>
            <a:ahLst/>
            <a:rect l="0" t="0" r="r" b="b"/>
            <a:pathLst>
              <a:path fill="none" w="385" h="142">
                <a:moveTo>
                  <a:pt x="385" y="0"/>
                </a:moveTo>
                <a:lnTo>
                  <a:pt x="0" y="142"/>
                </a:lnTo>
                <a:lnTo>
                  <a:pt x="88" y="142"/>
                </a:lnTo>
                <a:lnTo>
                  <a:pt x="0" y="142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313320" y="519264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341" y="0"/>
                </a:moveTo>
                <a:lnTo>
                  <a:pt x="0" y="142"/>
                </a:lnTo>
                <a:lnTo>
                  <a:pt x="83" y="142"/>
                </a:lnTo>
                <a:lnTo>
                  <a:pt x="0" y="142"/>
                </a:lnTo>
                <a:lnTo>
                  <a:pt x="83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343560" y="499896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257" y="0"/>
                </a:moveTo>
                <a:lnTo>
                  <a:pt x="0" y="147"/>
                </a:lnTo>
                <a:lnTo>
                  <a:pt x="89" y="147"/>
                </a:lnTo>
                <a:lnTo>
                  <a:pt x="0" y="147"/>
                </a:lnTo>
                <a:lnTo>
                  <a:pt x="44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375240" y="480708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169" y="0"/>
                </a:moveTo>
                <a:lnTo>
                  <a:pt x="0" y="142"/>
                </a:lnTo>
                <a:lnTo>
                  <a:pt x="39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389640" y="461484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129" y="0"/>
                </a:moveTo>
                <a:lnTo>
                  <a:pt x="0" y="142"/>
                </a:lnTo>
                <a:lnTo>
                  <a:pt x="45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421320" y="442260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0" y="107"/>
                </a:lnTo>
                <a:lnTo>
                  <a:pt x="72" y="107"/>
                </a:lnTo>
                <a:lnTo>
                  <a:pt x="0" y="107"/>
                </a:lnTo>
                <a:lnTo>
                  <a:pt x="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435720" y="423072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0"/>
                </a:moveTo>
                <a:lnTo>
                  <a:pt x="0" y="107"/>
                </a:lnTo>
                <a:lnTo>
                  <a:pt x="72" y="107"/>
                </a:lnTo>
                <a:lnTo>
                  <a:pt x="0" y="107"/>
                </a:lnTo>
                <a:lnTo>
                  <a:pt x="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435720" y="4024440"/>
            <a:ext cx="32040" cy="52920"/>
          </a:xfrm>
          <a:custGeom>
            <a:avLst/>
            <a:gdLst/>
            <a:ahLst/>
            <a:rect l="0" t="0" r="r" b="b"/>
            <a:pathLst>
              <a:path fill="none" w="89" h="147">
                <a:moveTo>
                  <a:pt x="0" y="0"/>
                </a:moveTo>
                <a:lnTo>
                  <a:pt x="89" y="147"/>
                </a:lnTo>
                <a:lnTo>
                  <a:pt x="89" y="112"/>
                </a:lnTo>
                <a:lnTo>
                  <a:pt x="89" y="147"/>
                </a:lnTo>
                <a:lnTo>
                  <a:pt x="45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435720" y="383220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3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435720" y="36399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217" y="106"/>
                </a:lnTo>
                <a:lnTo>
                  <a:pt x="217" y="142"/>
                </a:lnTo>
                <a:lnTo>
                  <a:pt x="172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435720" y="3448080"/>
            <a:ext cx="108360" cy="51120"/>
          </a:xfrm>
          <a:custGeom>
            <a:avLst/>
            <a:gdLst/>
            <a:ahLst/>
            <a:rect l="0" t="0" r="r" b="b"/>
            <a:pathLst>
              <a:path fill="none" w="301" h="142">
                <a:moveTo>
                  <a:pt x="0" y="0"/>
                </a:moveTo>
                <a:lnTo>
                  <a:pt x="301" y="142"/>
                </a:lnTo>
                <a:lnTo>
                  <a:pt x="262" y="70"/>
                </a:lnTo>
                <a:lnTo>
                  <a:pt x="301" y="142"/>
                </a:lnTo>
                <a:lnTo>
                  <a:pt x="217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435720" y="3254400"/>
            <a:ext cx="140040" cy="52920"/>
          </a:xfrm>
          <a:custGeom>
            <a:avLst/>
            <a:gdLst/>
            <a:ahLst/>
            <a:rect l="0" t="0" r="r" b="b"/>
            <a:pathLst>
              <a:path fill="none" w="389" h="147">
                <a:moveTo>
                  <a:pt x="0" y="0"/>
                </a:moveTo>
                <a:lnTo>
                  <a:pt x="389" y="147"/>
                </a:lnTo>
                <a:lnTo>
                  <a:pt x="300" y="75"/>
                </a:lnTo>
                <a:lnTo>
                  <a:pt x="389" y="147"/>
                </a:lnTo>
                <a:lnTo>
                  <a:pt x="300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35720" y="3062160"/>
            <a:ext cx="154440" cy="39960"/>
          </a:xfrm>
          <a:custGeom>
            <a:avLst/>
            <a:gdLst/>
            <a:ahLst/>
            <a:rect l="0" t="0" r="r" b="b"/>
            <a:pathLst>
              <a:path fill="none" w="429" h="111">
                <a:moveTo>
                  <a:pt x="0" y="0"/>
                </a:moveTo>
                <a:lnTo>
                  <a:pt x="429" y="111"/>
                </a:lnTo>
                <a:lnTo>
                  <a:pt x="390" y="71"/>
                </a:lnTo>
                <a:lnTo>
                  <a:pt x="429" y="111"/>
                </a:lnTo>
                <a:lnTo>
                  <a:pt x="345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35720" y="285768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0" y="0"/>
                </a:moveTo>
                <a:lnTo>
                  <a:pt x="517" y="142"/>
                </a:lnTo>
                <a:lnTo>
                  <a:pt x="429" y="106"/>
                </a:lnTo>
                <a:lnTo>
                  <a:pt x="517" y="142"/>
                </a:lnTo>
                <a:lnTo>
                  <a:pt x="390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435720" y="2665440"/>
            <a:ext cx="216360" cy="51120"/>
          </a:xfrm>
          <a:custGeom>
            <a:avLst/>
            <a:gdLst/>
            <a:ahLst/>
            <a:rect l="0" t="0" r="r" b="b"/>
            <a:pathLst>
              <a:path fill="none" w="601" h="142">
                <a:moveTo>
                  <a:pt x="0" y="0"/>
                </a:moveTo>
                <a:lnTo>
                  <a:pt x="601" y="142"/>
                </a:lnTo>
                <a:lnTo>
                  <a:pt x="473" y="70"/>
                </a:lnTo>
                <a:lnTo>
                  <a:pt x="601" y="142"/>
                </a:lnTo>
                <a:lnTo>
                  <a:pt x="473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435720" y="2473200"/>
            <a:ext cx="232200" cy="51120"/>
          </a:xfrm>
          <a:custGeom>
            <a:avLst/>
            <a:gdLst/>
            <a:ahLst/>
            <a:rect l="0" t="0" r="r" b="b"/>
            <a:pathLst>
              <a:path fill="none" w="645" h="142">
                <a:moveTo>
                  <a:pt x="0" y="0"/>
                </a:moveTo>
                <a:lnTo>
                  <a:pt x="645" y="142"/>
                </a:lnTo>
                <a:lnTo>
                  <a:pt x="562" y="70"/>
                </a:lnTo>
                <a:lnTo>
                  <a:pt x="645" y="142"/>
                </a:lnTo>
                <a:lnTo>
                  <a:pt x="517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435720" y="2279520"/>
            <a:ext cx="262440" cy="52920"/>
          </a:xfrm>
          <a:custGeom>
            <a:avLst/>
            <a:gdLst/>
            <a:ahLst/>
            <a:rect l="0" t="0" r="r" b="b"/>
            <a:pathLst>
              <a:path fill="none" w="729" h="147">
                <a:moveTo>
                  <a:pt x="0" y="0"/>
                </a:moveTo>
                <a:lnTo>
                  <a:pt x="729" y="147"/>
                </a:lnTo>
                <a:lnTo>
                  <a:pt x="601" y="75"/>
                </a:lnTo>
                <a:lnTo>
                  <a:pt x="729" y="147"/>
                </a:lnTo>
                <a:lnTo>
                  <a:pt x="56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483240" y="6167520"/>
            <a:ext cx="260640" cy="51120"/>
          </a:xfrm>
          <a:custGeom>
            <a:avLst/>
            <a:gdLst/>
            <a:ahLst/>
            <a:rect l="0" t="0" r="r" b="b"/>
            <a:pathLst>
              <a:path fill="none" w="724" h="142">
                <a:moveTo>
                  <a:pt x="724" y="0"/>
                </a:moveTo>
                <a:lnTo>
                  <a:pt x="0" y="142"/>
                </a:lnTo>
                <a:lnTo>
                  <a:pt x="167" y="142"/>
                </a:lnTo>
                <a:lnTo>
                  <a:pt x="0" y="142"/>
                </a:lnTo>
                <a:lnTo>
                  <a:pt x="12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513480" y="5973840"/>
            <a:ext cx="230400" cy="52920"/>
          </a:xfrm>
          <a:custGeom>
            <a:avLst/>
            <a:gdLst/>
            <a:ahLst/>
            <a:rect l="0" t="0" r="r" b="b"/>
            <a:pathLst>
              <a:path fill="none" w="640" h="147">
                <a:moveTo>
                  <a:pt x="640" y="0"/>
                </a:moveTo>
                <a:lnTo>
                  <a:pt x="0" y="147"/>
                </a:lnTo>
                <a:lnTo>
                  <a:pt x="127" y="147"/>
                </a:lnTo>
                <a:lnTo>
                  <a:pt x="0" y="147"/>
                </a:lnTo>
                <a:lnTo>
                  <a:pt x="83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43720" y="578160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557" y="0"/>
                </a:moveTo>
                <a:lnTo>
                  <a:pt x="0" y="147"/>
                </a:lnTo>
                <a:lnTo>
                  <a:pt x="127" y="147"/>
                </a:lnTo>
                <a:lnTo>
                  <a:pt x="0" y="147"/>
                </a:lnTo>
                <a:lnTo>
                  <a:pt x="88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559560" y="558972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513" y="0"/>
                </a:moveTo>
                <a:lnTo>
                  <a:pt x="0" y="142"/>
                </a:lnTo>
                <a:lnTo>
                  <a:pt x="127" y="142"/>
                </a:lnTo>
                <a:lnTo>
                  <a:pt x="0" y="142"/>
                </a:lnTo>
                <a:lnTo>
                  <a:pt x="8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589800" y="5384880"/>
            <a:ext cx="154440" cy="63720"/>
          </a:xfrm>
          <a:custGeom>
            <a:avLst/>
            <a:gdLst/>
            <a:ahLst/>
            <a:rect l="0" t="0" r="r" b="b"/>
            <a:pathLst>
              <a:path fill="none" w="429" h="177">
                <a:moveTo>
                  <a:pt x="429" y="0"/>
                </a:moveTo>
                <a:lnTo>
                  <a:pt x="0" y="177"/>
                </a:lnTo>
                <a:lnTo>
                  <a:pt x="88" y="142"/>
                </a:lnTo>
                <a:lnTo>
                  <a:pt x="0" y="177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621480" y="5192640"/>
            <a:ext cx="122760" cy="51120"/>
          </a:xfrm>
          <a:custGeom>
            <a:avLst/>
            <a:gdLst/>
            <a:ahLst/>
            <a:rect l="0" t="0" r="r" b="b"/>
            <a:pathLst>
              <a:path fill="none" w="341" h="142">
                <a:moveTo>
                  <a:pt x="341" y="0"/>
                </a:moveTo>
                <a:lnTo>
                  <a:pt x="0" y="142"/>
                </a:lnTo>
                <a:lnTo>
                  <a:pt x="83" y="142"/>
                </a:lnTo>
                <a:lnTo>
                  <a:pt x="0" y="142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637320" y="4998960"/>
            <a:ext cx="106560" cy="52920"/>
          </a:xfrm>
          <a:custGeom>
            <a:avLst/>
            <a:gdLst/>
            <a:ahLst/>
            <a:rect l="0" t="0" r="r" b="b"/>
            <a:pathLst>
              <a:path fill="none" w="296" h="147">
                <a:moveTo>
                  <a:pt x="296" y="0"/>
                </a:moveTo>
                <a:lnTo>
                  <a:pt x="0" y="147"/>
                </a:lnTo>
                <a:lnTo>
                  <a:pt x="83" y="147"/>
                </a:lnTo>
                <a:lnTo>
                  <a:pt x="0" y="147"/>
                </a:lnTo>
                <a:lnTo>
                  <a:pt x="39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667560" y="48070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213" y="0"/>
                </a:moveTo>
                <a:lnTo>
                  <a:pt x="0" y="142"/>
                </a:lnTo>
                <a:lnTo>
                  <a:pt x="44" y="142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83400" y="461484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169" y="0"/>
                </a:moveTo>
                <a:lnTo>
                  <a:pt x="0" y="142"/>
                </a:lnTo>
                <a:lnTo>
                  <a:pt x="84" y="106"/>
                </a:lnTo>
                <a:lnTo>
                  <a:pt x="0" y="142"/>
                </a:lnTo>
                <a:lnTo>
                  <a:pt x="39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713640" y="4422600"/>
            <a:ext cx="30600" cy="51120"/>
          </a:xfrm>
          <a:custGeom>
            <a:avLst/>
            <a:gdLst/>
            <a:ahLst/>
            <a:rect l="0" t="0" r="r" b="b"/>
            <a:pathLst>
              <a:path fill="none" w="85" h="142">
                <a:moveTo>
                  <a:pt x="85" y="0"/>
                </a:moveTo>
                <a:lnTo>
                  <a:pt x="0" y="142"/>
                </a:lnTo>
                <a:lnTo>
                  <a:pt x="45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729480" y="4230720"/>
            <a:ext cx="25920" cy="51120"/>
          </a:xfrm>
          <a:custGeom>
            <a:avLst/>
            <a:gdLst/>
            <a:ahLst/>
            <a:rect l="0" t="0" r="r" b="b"/>
            <a:pathLst>
              <a:path fill="none" w="72" h="142">
                <a:moveTo>
                  <a:pt x="72" y="0"/>
                </a:moveTo>
                <a:lnTo>
                  <a:pt x="72" y="142"/>
                </a:lnTo>
                <a:lnTo>
                  <a:pt x="72" y="106"/>
                </a:lnTo>
                <a:lnTo>
                  <a:pt x="72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743880" y="4024440"/>
            <a:ext cx="25920" cy="65520"/>
          </a:xfrm>
          <a:custGeom>
            <a:avLst/>
            <a:gdLst/>
            <a:ahLst/>
            <a:rect l="0" t="0" r="r" b="b"/>
            <a:pathLst>
              <a:path fill="none" w="72" h="182">
                <a:moveTo>
                  <a:pt x="0" y="0"/>
                </a:moveTo>
                <a:lnTo>
                  <a:pt x="72" y="182"/>
                </a:lnTo>
                <a:lnTo>
                  <a:pt x="72" y="147"/>
                </a:lnTo>
                <a:lnTo>
                  <a:pt x="72" y="182"/>
                </a:lnTo>
                <a:lnTo>
                  <a:pt x="7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743880" y="383220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0" y="0"/>
                </a:moveTo>
                <a:lnTo>
                  <a:pt x="129" y="142"/>
                </a:lnTo>
                <a:lnTo>
                  <a:pt x="129" y="106"/>
                </a:lnTo>
                <a:lnTo>
                  <a:pt x="129" y="142"/>
                </a:lnTo>
                <a:lnTo>
                  <a:pt x="8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743880" y="36399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743880" y="3448080"/>
            <a:ext cx="93960" cy="51120"/>
          </a:xfrm>
          <a:custGeom>
            <a:avLst/>
            <a:gdLst/>
            <a:ahLst/>
            <a:rect l="0" t="0" r="r" b="b"/>
            <a:pathLst>
              <a:path fill="none" w="261" h="142">
                <a:moveTo>
                  <a:pt x="0" y="0"/>
                </a:moveTo>
                <a:lnTo>
                  <a:pt x="261" y="142"/>
                </a:lnTo>
                <a:lnTo>
                  <a:pt x="217" y="106"/>
                </a:lnTo>
                <a:lnTo>
                  <a:pt x="261" y="142"/>
                </a:lnTo>
                <a:lnTo>
                  <a:pt x="217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743880" y="3254400"/>
            <a:ext cx="124200" cy="52920"/>
          </a:xfrm>
          <a:custGeom>
            <a:avLst/>
            <a:gdLst/>
            <a:ahLst/>
            <a:rect l="0" t="0" r="r" b="b"/>
            <a:pathLst>
              <a:path fill="none" w="345" h="147">
                <a:moveTo>
                  <a:pt x="0" y="0"/>
                </a:moveTo>
                <a:lnTo>
                  <a:pt x="345" y="147"/>
                </a:lnTo>
                <a:lnTo>
                  <a:pt x="301" y="112"/>
                </a:lnTo>
                <a:lnTo>
                  <a:pt x="345" y="147"/>
                </a:lnTo>
                <a:lnTo>
                  <a:pt x="26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743880" y="3062160"/>
            <a:ext cx="154440" cy="52920"/>
          </a:xfrm>
          <a:custGeom>
            <a:avLst/>
            <a:gdLst/>
            <a:ahLst/>
            <a:rect l="0" t="0" r="r" b="b"/>
            <a:pathLst>
              <a:path fill="none" w="429" h="147">
                <a:moveTo>
                  <a:pt x="0" y="0"/>
                </a:moveTo>
                <a:lnTo>
                  <a:pt x="429" y="147"/>
                </a:lnTo>
                <a:lnTo>
                  <a:pt x="345" y="71"/>
                </a:lnTo>
                <a:lnTo>
                  <a:pt x="429" y="147"/>
                </a:lnTo>
                <a:lnTo>
                  <a:pt x="30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743880" y="2857680"/>
            <a:ext cx="170280" cy="63720"/>
          </a:xfrm>
          <a:custGeom>
            <a:avLst/>
            <a:gdLst/>
            <a:ahLst/>
            <a:rect l="0" t="0" r="r" b="b"/>
            <a:pathLst>
              <a:path fill="none" w="473" h="177">
                <a:moveTo>
                  <a:pt x="0" y="0"/>
                </a:moveTo>
                <a:lnTo>
                  <a:pt x="473" y="177"/>
                </a:lnTo>
                <a:lnTo>
                  <a:pt x="390" y="106"/>
                </a:lnTo>
                <a:lnTo>
                  <a:pt x="473" y="177"/>
                </a:lnTo>
                <a:lnTo>
                  <a:pt x="390" y="17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43880" y="2665440"/>
            <a:ext cx="200520" cy="63720"/>
          </a:xfrm>
          <a:custGeom>
            <a:avLst/>
            <a:gdLst/>
            <a:ahLst/>
            <a:rect l="0" t="0" r="r" b="b"/>
            <a:pathLst>
              <a:path fill="none" w="557" h="177">
                <a:moveTo>
                  <a:pt x="0" y="0"/>
                </a:moveTo>
                <a:lnTo>
                  <a:pt x="557" y="177"/>
                </a:lnTo>
                <a:lnTo>
                  <a:pt x="473" y="106"/>
                </a:lnTo>
                <a:lnTo>
                  <a:pt x="557" y="177"/>
                </a:lnTo>
                <a:lnTo>
                  <a:pt x="429" y="17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743880" y="2473200"/>
            <a:ext cx="232200" cy="51120"/>
          </a:xfrm>
          <a:custGeom>
            <a:avLst/>
            <a:gdLst/>
            <a:ahLst/>
            <a:rect l="0" t="0" r="r" b="b"/>
            <a:pathLst>
              <a:path fill="none" w="645" h="142">
                <a:moveTo>
                  <a:pt x="0" y="0"/>
                </a:moveTo>
                <a:lnTo>
                  <a:pt x="645" y="142"/>
                </a:lnTo>
                <a:lnTo>
                  <a:pt x="517" y="106"/>
                </a:lnTo>
                <a:lnTo>
                  <a:pt x="645" y="142"/>
                </a:lnTo>
                <a:lnTo>
                  <a:pt x="472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743880" y="2279520"/>
            <a:ext cx="248040" cy="52920"/>
          </a:xfrm>
          <a:custGeom>
            <a:avLst/>
            <a:gdLst/>
            <a:ahLst/>
            <a:rect l="0" t="0" r="r" b="b"/>
            <a:pathLst>
              <a:path fill="none" w="689" h="147">
                <a:moveTo>
                  <a:pt x="0" y="0"/>
                </a:moveTo>
                <a:lnTo>
                  <a:pt x="689" y="147"/>
                </a:lnTo>
                <a:lnTo>
                  <a:pt x="557" y="75"/>
                </a:lnTo>
                <a:lnTo>
                  <a:pt x="689" y="147"/>
                </a:lnTo>
                <a:lnTo>
                  <a:pt x="51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789600" y="6167520"/>
            <a:ext cx="248040" cy="51120"/>
          </a:xfrm>
          <a:custGeom>
            <a:avLst/>
            <a:gdLst/>
            <a:ahLst/>
            <a:rect l="0" t="0" r="r" b="b"/>
            <a:pathLst>
              <a:path fill="none" w="689" h="142">
                <a:moveTo>
                  <a:pt x="689" y="0"/>
                </a:moveTo>
                <a:lnTo>
                  <a:pt x="0" y="142"/>
                </a:lnTo>
                <a:lnTo>
                  <a:pt x="132" y="142"/>
                </a:lnTo>
                <a:lnTo>
                  <a:pt x="0" y="142"/>
                </a:lnTo>
                <a:lnTo>
                  <a:pt x="88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805440" y="5973840"/>
            <a:ext cx="232200" cy="52920"/>
          </a:xfrm>
          <a:custGeom>
            <a:avLst/>
            <a:gdLst/>
            <a:ahLst/>
            <a:rect l="0" t="0" r="r" b="b"/>
            <a:pathLst>
              <a:path fill="none" w="645" h="147">
                <a:moveTo>
                  <a:pt x="645" y="0"/>
                </a:moveTo>
                <a:lnTo>
                  <a:pt x="0" y="147"/>
                </a:lnTo>
                <a:lnTo>
                  <a:pt x="172" y="147"/>
                </a:lnTo>
                <a:lnTo>
                  <a:pt x="0" y="147"/>
                </a:lnTo>
                <a:lnTo>
                  <a:pt x="127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837480" y="578160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557" y="0"/>
                </a:moveTo>
                <a:lnTo>
                  <a:pt x="0" y="147"/>
                </a:lnTo>
                <a:lnTo>
                  <a:pt x="127" y="147"/>
                </a:lnTo>
                <a:lnTo>
                  <a:pt x="0" y="147"/>
                </a:lnTo>
                <a:lnTo>
                  <a:pt x="8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851520" y="5589720"/>
            <a:ext cx="186120" cy="51120"/>
          </a:xfrm>
          <a:custGeom>
            <a:avLst/>
            <a:gdLst/>
            <a:ahLst/>
            <a:rect l="0" t="0" r="r" b="b"/>
            <a:pathLst>
              <a:path fill="none" w="517" h="142">
                <a:moveTo>
                  <a:pt x="517" y="0"/>
                </a:moveTo>
                <a:lnTo>
                  <a:pt x="0" y="142"/>
                </a:lnTo>
                <a:lnTo>
                  <a:pt x="127" y="142"/>
                </a:lnTo>
                <a:lnTo>
                  <a:pt x="0" y="142"/>
                </a:lnTo>
                <a:lnTo>
                  <a:pt x="88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83560" y="5384880"/>
            <a:ext cx="154440" cy="63720"/>
          </a:xfrm>
          <a:custGeom>
            <a:avLst/>
            <a:gdLst/>
            <a:ahLst/>
            <a:rect l="0" t="0" r="r" b="b"/>
            <a:pathLst>
              <a:path fill="none" w="429" h="177">
                <a:moveTo>
                  <a:pt x="429" y="0"/>
                </a:moveTo>
                <a:lnTo>
                  <a:pt x="0" y="177"/>
                </a:lnTo>
                <a:lnTo>
                  <a:pt x="128" y="142"/>
                </a:lnTo>
                <a:lnTo>
                  <a:pt x="0" y="177"/>
                </a:lnTo>
                <a:lnTo>
                  <a:pt x="83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913440" y="5192640"/>
            <a:ext cx="124200" cy="63720"/>
          </a:xfrm>
          <a:custGeom>
            <a:avLst/>
            <a:gdLst/>
            <a:ahLst/>
            <a:rect l="0" t="0" r="r" b="b"/>
            <a:pathLst>
              <a:path fill="none" w="345" h="177">
                <a:moveTo>
                  <a:pt x="345" y="0"/>
                </a:moveTo>
                <a:lnTo>
                  <a:pt x="0" y="177"/>
                </a:lnTo>
                <a:lnTo>
                  <a:pt x="83" y="142"/>
                </a:lnTo>
                <a:lnTo>
                  <a:pt x="0" y="177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929280" y="4998960"/>
            <a:ext cx="108360" cy="52920"/>
          </a:xfrm>
          <a:custGeom>
            <a:avLst/>
            <a:gdLst/>
            <a:ahLst/>
            <a:rect l="0" t="0" r="r" b="b"/>
            <a:pathLst>
              <a:path fill="none" w="301" h="147">
                <a:moveTo>
                  <a:pt x="301" y="0"/>
                </a:moveTo>
                <a:lnTo>
                  <a:pt x="0" y="147"/>
                </a:lnTo>
                <a:lnTo>
                  <a:pt x="84" y="147"/>
                </a:lnTo>
                <a:lnTo>
                  <a:pt x="0" y="147"/>
                </a:lnTo>
                <a:lnTo>
                  <a:pt x="39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59520" y="48070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217" y="0"/>
                </a:moveTo>
                <a:lnTo>
                  <a:pt x="0" y="142"/>
                </a:lnTo>
                <a:lnTo>
                  <a:pt x="44" y="142"/>
                </a:lnTo>
                <a:lnTo>
                  <a:pt x="0" y="142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991200" y="461484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129" y="0"/>
                </a:moveTo>
                <a:lnTo>
                  <a:pt x="0" y="142"/>
                </a:lnTo>
                <a:lnTo>
                  <a:pt x="40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005600" y="4422600"/>
            <a:ext cx="32040" cy="51120"/>
          </a:xfrm>
          <a:custGeom>
            <a:avLst/>
            <a:gdLst/>
            <a:ahLst/>
            <a:rect l="0" t="0" r="r" b="b"/>
            <a:pathLst>
              <a:path fill="none" w="89" h="142">
                <a:moveTo>
                  <a:pt x="89" y="0"/>
                </a:moveTo>
                <a:lnTo>
                  <a:pt x="0" y="142"/>
                </a:lnTo>
                <a:lnTo>
                  <a:pt x="45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037280" y="4230720"/>
            <a:ext cx="0" cy="50760"/>
          </a:xfrm>
          <a:custGeom>
            <a:avLst/>
            <a:gdLst/>
            <a:ahLst/>
            <a:rect l="0" t="0" r="r" b="b"/>
            <a:pathLst>
              <a:path fill="none" w="0" h="141">
                <a:moveTo>
                  <a:pt x="0" y="0"/>
                </a:moveTo>
                <a:lnTo>
                  <a:pt x="0" y="141"/>
                </a:lnTo>
                <a:lnTo>
                  <a:pt x="0" y="105"/>
                </a:lnTo>
                <a:lnTo>
                  <a:pt x="0" y="141"/>
                </a:lnTo>
                <a:lnTo>
                  <a:pt x="0" y="10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37280" y="4024440"/>
            <a:ext cx="30600" cy="65520"/>
          </a:xfrm>
          <a:custGeom>
            <a:avLst/>
            <a:gdLst/>
            <a:ahLst/>
            <a:rect l="0" t="0" r="r" b="b"/>
            <a:pathLst>
              <a:path fill="none" w="85" h="182">
                <a:moveTo>
                  <a:pt x="0" y="0"/>
                </a:moveTo>
                <a:lnTo>
                  <a:pt x="85" y="182"/>
                </a:lnTo>
                <a:lnTo>
                  <a:pt x="85" y="147"/>
                </a:lnTo>
                <a:lnTo>
                  <a:pt x="85" y="182"/>
                </a:lnTo>
                <a:lnTo>
                  <a:pt x="40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037280" y="383220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0" y="0"/>
                </a:moveTo>
                <a:lnTo>
                  <a:pt x="129" y="142"/>
                </a:lnTo>
                <a:lnTo>
                  <a:pt x="129" y="106"/>
                </a:lnTo>
                <a:lnTo>
                  <a:pt x="129" y="142"/>
                </a:lnTo>
                <a:lnTo>
                  <a:pt x="84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037280" y="36399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69" y="106"/>
                </a:lnTo>
                <a:lnTo>
                  <a:pt x="213" y="142"/>
                </a:lnTo>
                <a:lnTo>
                  <a:pt x="16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037280" y="3448080"/>
            <a:ext cx="106560" cy="51120"/>
          </a:xfrm>
          <a:custGeom>
            <a:avLst/>
            <a:gdLst/>
            <a:ahLst/>
            <a:rect l="0" t="0" r="r" b="b"/>
            <a:pathLst>
              <a:path fill="none" w="296" h="142">
                <a:moveTo>
                  <a:pt x="0" y="0"/>
                </a:moveTo>
                <a:lnTo>
                  <a:pt x="296" y="142"/>
                </a:lnTo>
                <a:lnTo>
                  <a:pt x="256" y="106"/>
                </a:lnTo>
                <a:lnTo>
                  <a:pt x="296" y="142"/>
                </a:lnTo>
                <a:lnTo>
                  <a:pt x="212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037280" y="325440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0" y="0"/>
                </a:moveTo>
                <a:lnTo>
                  <a:pt x="341" y="147"/>
                </a:lnTo>
                <a:lnTo>
                  <a:pt x="297" y="112"/>
                </a:lnTo>
                <a:lnTo>
                  <a:pt x="341" y="147"/>
                </a:lnTo>
                <a:lnTo>
                  <a:pt x="257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037280" y="3062160"/>
            <a:ext cx="154440" cy="52920"/>
          </a:xfrm>
          <a:custGeom>
            <a:avLst/>
            <a:gdLst/>
            <a:ahLst/>
            <a:rect l="0" t="0" r="r" b="b"/>
            <a:pathLst>
              <a:path fill="none" w="429" h="147">
                <a:moveTo>
                  <a:pt x="0" y="0"/>
                </a:moveTo>
                <a:lnTo>
                  <a:pt x="429" y="147"/>
                </a:lnTo>
                <a:lnTo>
                  <a:pt x="341" y="71"/>
                </a:lnTo>
                <a:lnTo>
                  <a:pt x="429" y="147"/>
                </a:lnTo>
                <a:lnTo>
                  <a:pt x="296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037280" y="2857680"/>
            <a:ext cx="184680" cy="63720"/>
          </a:xfrm>
          <a:custGeom>
            <a:avLst/>
            <a:gdLst/>
            <a:ahLst/>
            <a:rect l="0" t="0" r="r" b="b"/>
            <a:pathLst>
              <a:path fill="none" w="513" h="177">
                <a:moveTo>
                  <a:pt x="0" y="0"/>
                </a:moveTo>
                <a:lnTo>
                  <a:pt x="513" y="177"/>
                </a:lnTo>
                <a:lnTo>
                  <a:pt x="429" y="106"/>
                </a:lnTo>
                <a:lnTo>
                  <a:pt x="513" y="177"/>
                </a:lnTo>
                <a:lnTo>
                  <a:pt x="384" y="17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037280" y="2665440"/>
            <a:ext cx="200520" cy="63720"/>
          </a:xfrm>
          <a:custGeom>
            <a:avLst/>
            <a:gdLst/>
            <a:ahLst/>
            <a:rect l="0" t="0" r="r" b="b"/>
            <a:pathLst>
              <a:path fill="none" w="557" h="177">
                <a:moveTo>
                  <a:pt x="0" y="0"/>
                </a:moveTo>
                <a:lnTo>
                  <a:pt x="557" y="177"/>
                </a:lnTo>
                <a:lnTo>
                  <a:pt x="469" y="106"/>
                </a:lnTo>
                <a:lnTo>
                  <a:pt x="557" y="177"/>
                </a:lnTo>
                <a:lnTo>
                  <a:pt x="429" y="17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037280" y="2473200"/>
            <a:ext cx="230400" cy="63720"/>
          </a:xfrm>
          <a:custGeom>
            <a:avLst/>
            <a:gdLst/>
            <a:ahLst/>
            <a:rect l="0" t="0" r="r" b="b"/>
            <a:pathLst>
              <a:path fill="none" w="640" h="177">
                <a:moveTo>
                  <a:pt x="0" y="0"/>
                </a:moveTo>
                <a:lnTo>
                  <a:pt x="640" y="142"/>
                </a:lnTo>
                <a:lnTo>
                  <a:pt x="512" y="106"/>
                </a:lnTo>
                <a:lnTo>
                  <a:pt x="640" y="142"/>
                </a:lnTo>
                <a:lnTo>
                  <a:pt x="468" y="17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037280" y="2279520"/>
            <a:ext cx="246600" cy="52920"/>
          </a:xfrm>
          <a:custGeom>
            <a:avLst/>
            <a:gdLst/>
            <a:ahLst/>
            <a:rect l="0" t="0" r="r" b="b"/>
            <a:pathLst>
              <a:path fill="none" w="685" h="147">
                <a:moveTo>
                  <a:pt x="0" y="0"/>
                </a:moveTo>
                <a:lnTo>
                  <a:pt x="685" y="147"/>
                </a:lnTo>
                <a:lnTo>
                  <a:pt x="597" y="75"/>
                </a:lnTo>
                <a:lnTo>
                  <a:pt x="685" y="147"/>
                </a:lnTo>
                <a:lnTo>
                  <a:pt x="557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083360" y="6167520"/>
            <a:ext cx="246600" cy="51120"/>
          </a:xfrm>
          <a:custGeom>
            <a:avLst/>
            <a:gdLst/>
            <a:ahLst/>
            <a:rect l="0" t="0" r="r" b="b"/>
            <a:pathLst>
              <a:path fill="none" w="685" h="142">
                <a:moveTo>
                  <a:pt x="685" y="0"/>
                </a:moveTo>
                <a:lnTo>
                  <a:pt x="0" y="142"/>
                </a:lnTo>
                <a:lnTo>
                  <a:pt x="167" y="142"/>
                </a:lnTo>
                <a:lnTo>
                  <a:pt x="0" y="142"/>
                </a:lnTo>
                <a:lnTo>
                  <a:pt x="12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097760" y="5973840"/>
            <a:ext cx="232200" cy="52920"/>
          </a:xfrm>
          <a:custGeom>
            <a:avLst/>
            <a:gdLst/>
            <a:ahLst/>
            <a:rect l="0" t="0" r="r" b="b"/>
            <a:pathLst>
              <a:path fill="none" w="645" h="147">
                <a:moveTo>
                  <a:pt x="645" y="0"/>
                </a:moveTo>
                <a:lnTo>
                  <a:pt x="0" y="147"/>
                </a:lnTo>
                <a:lnTo>
                  <a:pt x="172" y="147"/>
                </a:lnTo>
                <a:lnTo>
                  <a:pt x="0" y="147"/>
                </a:lnTo>
                <a:lnTo>
                  <a:pt x="127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129440" y="5781600"/>
            <a:ext cx="200520" cy="52920"/>
          </a:xfrm>
          <a:custGeom>
            <a:avLst/>
            <a:gdLst/>
            <a:ahLst/>
            <a:rect l="0" t="0" r="r" b="b"/>
            <a:pathLst>
              <a:path fill="none" w="557" h="147">
                <a:moveTo>
                  <a:pt x="557" y="0"/>
                </a:moveTo>
                <a:lnTo>
                  <a:pt x="0" y="147"/>
                </a:lnTo>
                <a:lnTo>
                  <a:pt x="127" y="147"/>
                </a:lnTo>
                <a:lnTo>
                  <a:pt x="0" y="147"/>
                </a:lnTo>
                <a:lnTo>
                  <a:pt x="8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159680" y="5589720"/>
            <a:ext cx="170280" cy="51120"/>
          </a:xfrm>
          <a:custGeom>
            <a:avLst/>
            <a:gdLst/>
            <a:ahLst/>
            <a:rect l="0" t="0" r="r" b="b"/>
            <a:pathLst>
              <a:path fill="none" w="473" h="142">
                <a:moveTo>
                  <a:pt x="473" y="0"/>
                </a:moveTo>
                <a:lnTo>
                  <a:pt x="0" y="142"/>
                </a:lnTo>
                <a:lnTo>
                  <a:pt x="88" y="106"/>
                </a:lnTo>
                <a:lnTo>
                  <a:pt x="0" y="142"/>
                </a:lnTo>
                <a:lnTo>
                  <a:pt x="88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175520" y="5384880"/>
            <a:ext cx="154440" cy="51120"/>
          </a:xfrm>
          <a:custGeom>
            <a:avLst/>
            <a:gdLst/>
            <a:ahLst/>
            <a:rect l="0" t="0" r="r" b="b"/>
            <a:pathLst>
              <a:path fill="none" w="429" h="142">
                <a:moveTo>
                  <a:pt x="429" y="0"/>
                </a:moveTo>
                <a:lnTo>
                  <a:pt x="0" y="142"/>
                </a:lnTo>
                <a:lnTo>
                  <a:pt x="128" y="142"/>
                </a:lnTo>
                <a:lnTo>
                  <a:pt x="0" y="142"/>
                </a:lnTo>
                <a:lnTo>
                  <a:pt x="83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205760" y="5192640"/>
            <a:ext cx="124200" cy="51120"/>
          </a:xfrm>
          <a:custGeom>
            <a:avLst/>
            <a:gdLst/>
            <a:ahLst/>
            <a:rect l="0" t="0" r="r" b="b"/>
            <a:pathLst>
              <a:path fill="none" w="345" h="142">
                <a:moveTo>
                  <a:pt x="345" y="0"/>
                </a:moveTo>
                <a:lnTo>
                  <a:pt x="0" y="142"/>
                </a:lnTo>
                <a:lnTo>
                  <a:pt x="89" y="142"/>
                </a:lnTo>
                <a:lnTo>
                  <a:pt x="0" y="142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237440" y="4998960"/>
            <a:ext cx="92520" cy="52920"/>
          </a:xfrm>
          <a:custGeom>
            <a:avLst/>
            <a:gdLst/>
            <a:ahLst/>
            <a:rect l="0" t="0" r="r" b="b"/>
            <a:pathLst>
              <a:path fill="none" w="257" h="147">
                <a:moveTo>
                  <a:pt x="257" y="0"/>
                </a:moveTo>
                <a:lnTo>
                  <a:pt x="0" y="147"/>
                </a:lnTo>
                <a:lnTo>
                  <a:pt x="39" y="147"/>
                </a:lnTo>
                <a:lnTo>
                  <a:pt x="0" y="147"/>
                </a:lnTo>
                <a:lnTo>
                  <a:pt x="39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251840" y="48070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217" y="0"/>
                </a:moveTo>
                <a:lnTo>
                  <a:pt x="0" y="142"/>
                </a:lnTo>
                <a:lnTo>
                  <a:pt x="88" y="106"/>
                </a:lnTo>
                <a:lnTo>
                  <a:pt x="0" y="142"/>
                </a:lnTo>
                <a:lnTo>
                  <a:pt x="4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283520" y="461484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129" y="0"/>
                </a:moveTo>
                <a:lnTo>
                  <a:pt x="0" y="142"/>
                </a:lnTo>
                <a:lnTo>
                  <a:pt x="40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313760" y="4422600"/>
            <a:ext cx="25920" cy="51120"/>
          </a:xfrm>
          <a:custGeom>
            <a:avLst/>
            <a:gdLst/>
            <a:ahLst/>
            <a:rect l="0" t="0" r="r" b="b"/>
            <a:pathLst>
              <a:path fill="none" w="72" h="142">
                <a:moveTo>
                  <a:pt x="72" y="0"/>
                </a:moveTo>
                <a:lnTo>
                  <a:pt x="0" y="142"/>
                </a:lnTo>
                <a:lnTo>
                  <a:pt x="0" y="106"/>
                </a:lnTo>
                <a:lnTo>
                  <a:pt x="0" y="142"/>
                </a:lnTo>
                <a:lnTo>
                  <a:pt x="0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329600" y="423072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0" y="0"/>
                </a:moveTo>
                <a:lnTo>
                  <a:pt x="0" y="107"/>
                </a:lnTo>
                <a:lnTo>
                  <a:pt x="72" y="107"/>
                </a:lnTo>
                <a:lnTo>
                  <a:pt x="0" y="107"/>
                </a:lnTo>
                <a:lnTo>
                  <a:pt x="0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329600" y="4024440"/>
            <a:ext cx="30600" cy="52920"/>
          </a:xfrm>
          <a:custGeom>
            <a:avLst/>
            <a:gdLst/>
            <a:ahLst/>
            <a:rect l="0" t="0" r="r" b="b"/>
            <a:pathLst>
              <a:path fill="none" w="85" h="147">
                <a:moveTo>
                  <a:pt x="0" y="0"/>
                </a:moveTo>
                <a:lnTo>
                  <a:pt x="85" y="147"/>
                </a:lnTo>
                <a:lnTo>
                  <a:pt x="85" y="112"/>
                </a:lnTo>
                <a:lnTo>
                  <a:pt x="85" y="147"/>
                </a:lnTo>
                <a:lnTo>
                  <a:pt x="45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329600" y="383220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28" y="106"/>
                </a:lnTo>
                <a:lnTo>
                  <a:pt x="173" y="142"/>
                </a:lnTo>
                <a:lnTo>
                  <a:pt x="84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329600" y="36399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73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329600" y="3448080"/>
            <a:ext cx="108360" cy="51120"/>
          </a:xfrm>
          <a:custGeom>
            <a:avLst/>
            <a:gdLst/>
            <a:ahLst/>
            <a:rect l="0" t="0" r="r" b="b"/>
            <a:pathLst>
              <a:path fill="none" w="301" h="142">
                <a:moveTo>
                  <a:pt x="0" y="0"/>
                </a:moveTo>
                <a:lnTo>
                  <a:pt x="301" y="142"/>
                </a:lnTo>
                <a:lnTo>
                  <a:pt x="257" y="106"/>
                </a:lnTo>
                <a:lnTo>
                  <a:pt x="301" y="142"/>
                </a:lnTo>
                <a:lnTo>
                  <a:pt x="212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7329600" y="3254400"/>
            <a:ext cx="122760" cy="52920"/>
          </a:xfrm>
          <a:custGeom>
            <a:avLst/>
            <a:gdLst/>
            <a:ahLst/>
            <a:rect l="0" t="0" r="r" b="b"/>
            <a:pathLst>
              <a:path fill="none" w="341" h="147">
                <a:moveTo>
                  <a:pt x="0" y="0"/>
                </a:moveTo>
                <a:lnTo>
                  <a:pt x="341" y="147"/>
                </a:lnTo>
                <a:lnTo>
                  <a:pt x="301" y="75"/>
                </a:lnTo>
                <a:lnTo>
                  <a:pt x="341" y="147"/>
                </a:lnTo>
                <a:lnTo>
                  <a:pt x="257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329600" y="3062160"/>
            <a:ext cx="154440" cy="52920"/>
          </a:xfrm>
          <a:custGeom>
            <a:avLst/>
            <a:gdLst/>
            <a:ahLst/>
            <a:rect l="0" t="0" r="r" b="b"/>
            <a:pathLst>
              <a:path fill="none" w="429" h="147">
                <a:moveTo>
                  <a:pt x="0" y="0"/>
                </a:moveTo>
                <a:lnTo>
                  <a:pt x="429" y="147"/>
                </a:lnTo>
                <a:lnTo>
                  <a:pt x="385" y="71"/>
                </a:lnTo>
                <a:lnTo>
                  <a:pt x="429" y="147"/>
                </a:lnTo>
                <a:lnTo>
                  <a:pt x="341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29600" y="2857680"/>
            <a:ext cx="184680" cy="51120"/>
          </a:xfrm>
          <a:custGeom>
            <a:avLst/>
            <a:gdLst/>
            <a:ahLst/>
            <a:rect l="0" t="0" r="r" b="b"/>
            <a:pathLst>
              <a:path fill="none" w="513" h="142">
                <a:moveTo>
                  <a:pt x="0" y="0"/>
                </a:moveTo>
                <a:lnTo>
                  <a:pt x="513" y="142"/>
                </a:lnTo>
                <a:lnTo>
                  <a:pt x="429" y="106"/>
                </a:lnTo>
                <a:lnTo>
                  <a:pt x="513" y="142"/>
                </a:lnTo>
                <a:lnTo>
                  <a:pt x="384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329600" y="26654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0" y="0"/>
                </a:moveTo>
                <a:lnTo>
                  <a:pt x="557" y="142"/>
                </a:lnTo>
                <a:lnTo>
                  <a:pt x="469" y="106"/>
                </a:lnTo>
                <a:lnTo>
                  <a:pt x="557" y="142"/>
                </a:lnTo>
                <a:lnTo>
                  <a:pt x="4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329600" y="2473200"/>
            <a:ext cx="230400" cy="51120"/>
          </a:xfrm>
          <a:custGeom>
            <a:avLst/>
            <a:gdLst/>
            <a:ahLst/>
            <a:rect l="0" t="0" r="r" b="b"/>
            <a:pathLst>
              <a:path fill="none" w="640" h="142">
                <a:moveTo>
                  <a:pt x="0" y="0"/>
                </a:moveTo>
                <a:lnTo>
                  <a:pt x="640" y="142"/>
                </a:lnTo>
                <a:lnTo>
                  <a:pt x="512" y="70"/>
                </a:lnTo>
                <a:lnTo>
                  <a:pt x="640" y="142"/>
                </a:lnTo>
                <a:lnTo>
                  <a:pt x="512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329600" y="2279520"/>
            <a:ext cx="262440" cy="52920"/>
          </a:xfrm>
          <a:custGeom>
            <a:avLst/>
            <a:gdLst/>
            <a:ahLst/>
            <a:rect l="0" t="0" r="r" b="b"/>
            <a:pathLst>
              <a:path fill="none" w="729" h="147">
                <a:moveTo>
                  <a:pt x="0" y="0"/>
                </a:moveTo>
                <a:lnTo>
                  <a:pt x="729" y="147"/>
                </a:lnTo>
                <a:lnTo>
                  <a:pt x="601" y="75"/>
                </a:lnTo>
                <a:lnTo>
                  <a:pt x="729" y="147"/>
                </a:lnTo>
                <a:lnTo>
                  <a:pt x="557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375680" y="6167520"/>
            <a:ext cx="262440" cy="51120"/>
          </a:xfrm>
          <a:custGeom>
            <a:avLst/>
            <a:gdLst/>
            <a:ahLst/>
            <a:rect l="0" t="0" r="r" b="b"/>
            <a:pathLst>
              <a:path fill="none" w="729" h="142">
                <a:moveTo>
                  <a:pt x="729" y="0"/>
                </a:moveTo>
                <a:lnTo>
                  <a:pt x="0" y="106"/>
                </a:lnTo>
                <a:lnTo>
                  <a:pt x="171" y="142"/>
                </a:lnTo>
                <a:lnTo>
                  <a:pt x="0" y="106"/>
                </a:lnTo>
                <a:lnTo>
                  <a:pt x="12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05560" y="5973840"/>
            <a:ext cx="232200" cy="39960"/>
          </a:xfrm>
          <a:custGeom>
            <a:avLst/>
            <a:gdLst/>
            <a:ahLst/>
            <a:rect l="0" t="0" r="r" b="b"/>
            <a:pathLst>
              <a:path fill="none" w="645" h="111">
                <a:moveTo>
                  <a:pt x="645" y="0"/>
                </a:moveTo>
                <a:lnTo>
                  <a:pt x="0" y="111"/>
                </a:lnTo>
                <a:lnTo>
                  <a:pt x="127" y="111"/>
                </a:lnTo>
                <a:lnTo>
                  <a:pt x="0" y="111"/>
                </a:lnTo>
                <a:lnTo>
                  <a:pt x="88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421400" y="5781600"/>
            <a:ext cx="216360" cy="38520"/>
          </a:xfrm>
          <a:custGeom>
            <a:avLst/>
            <a:gdLst/>
            <a:ahLst/>
            <a:rect l="0" t="0" r="r" b="b"/>
            <a:pathLst>
              <a:path fill="none" w="601" h="107">
                <a:moveTo>
                  <a:pt x="601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12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451640" y="5589720"/>
            <a:ext cx="186120" cy="38520"/>
          </a:xfrm>
          <a:custGeom>
            <a:avLst/>
            <a:gdLst/>
            <a:ahLst/>
            <a:rect l="0" t="0" r="r" b="b"/>
            <a:pathLst>
              <a:path fill="none" w="517" h="107">
                <a:moveTo>
                  <a:pt x="517" y="0"/>
                </a:moveTo>
                <a:lnTo>
                  <a:pt x="0" y="107"/>
                </a:lnTo>
                <a:lnTo>
                  <a:pt x="127" y="107"/>
                </a:lnTo>
                <a:lnTo>
                  <a:pt x="0" y="107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483320" y="5384880"/>
            <a:ext cx="154440" cy="51120"/>
          </a:xfrm>
          <a:custGeom>
            <a:avLst/>
            <a:gdLst/>
            <a:ahLst/>
            <a:rect l="0" t="0" r="r" b="b"/>
            <a:pathLst>
              <a:path fill="none" w="429" h="142">
                <a:moveTo>
                  <a:pt x="429" y="0"/>
                </a:moveTo>
                <a:lnTo>
                  <a:pt x="0" y="142"/>
                </a:lnTo>
                <a:lnTo>
                  <a:pt x="83" y="142"/>
                </a:lnTo>
                <a:lnTo>
                  <a:pt x="0" y="142"/>
                </a:lnTo>
                <a:lnTo>
                  <a:pt x="39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497720" y="5192640"/>
            <a:ext cx="140040" cy="51120"/>
          </a:xfrm>
          <a:custGeom>
            <a:avLst/>
            <a:gdLst/>
            <a:ahLst/>
            <a:rect l="0" t="0" r="r" b="b"/>
            <a:pathLst>
              <a:path fill="none" w="389" h="142">
                <a:moveTo>
                  <a:pt x="389" y="0"/>
                </a:moveTo>
                <a:lnTo>
                  <a:pt x="0" y="142"/>
                </a:lnTo>
                <a:lnTo>
                  <a:pt x="88" y="106"/>
                </a:lnTo>
                <a:lnTo>
                  <a:pt x="0" y="142"/>
                </a:lnTo>
                <a:lnTo>
                  <a:pt x="88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29400" y="4998960"/>
            <a:ext cx="108360" cy="39960"/>
          </a:xfrm>
          <a:custGeom>
            <a:avLst/>
            <a:gdLst/>
            <a:ahLst/>
            <a:rect l="0" t="0" r="r" b="b"/>
            <a:pathLst>
              <a:path fill="none" w="301" h="111">
                <a:moveTo>
                  <a:pt x="301" y="0"/>
                </a:moveTo>
                <a:lnTo>
                  <a:pt x="0" y="111"/>
                </a:lnTo>
                <a:lnTo>
                  <a:pt x="84" y="111"/>
                </a:lnTo>
                <a:lnTo>
                  <a:pt x="0" y="111"/>
                </a:lnTo>
                <a:lnTo>
                  <a:pt x="44" y="7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559640" y="4807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217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575480" y="46148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173" y="0"/>
                </a:moveTo>
                <a:lnTo>
                  <a:pt x="0" y="107"/>
                </a:lnTo>
                <a:lnTo>
                  <a:pt x="45" y="107"/>
                </a:lnTo>
                <a:lnTo>
                  <a:pt x="0" y="107"/>
                </a:lnTo>
                <a:lnTo>
                  <a:pt x="45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605720" y="4422600"/>
            <a:ext cx="32040" cy="38520"/>
          </a:xfrm>
          <a:custGeom>
            <a:avLst/>
            <a:gdLst/>
            <a:ahLst/>
            <a:rect l="0" t="0" r="r" b="b"/>
            <a:pathLst>
              <a:path fill="none" w="89" h="107">
                <a:moveTo>
                  <a:pt x="89" y="0"/>
                </a:moveTo>
                <a:lnTo>
                  <a:pt x="0" y="107"/>
                </a:lnTo>
                <a:lnTo>
                  <a:pt x="45" y="71"/>
                </a:lnTo>
                <a:lnTo>
                  <a:pt x="0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621560" y="4230720"/>
            <a:ext cx="25920" cy="38520"/>
          </a:xfrm>
          <a:custGeom>
            <a:avLst/>
            <a:gdLst/>
            <a:ahLst/>
            <a:rect l="0" t="0" r="r" b="b"/>
            <a:pathLst>
              <a:path fill="none" w="72" h="107">
                <a:moveTo>
                  <a:pt x="72" y="0"/>
                </a:moveTo>
                <a:lnTo>
                  <a:pt x="72" y="107"/>
                </a:lnTo>
                <a:lnTo>
                  <a:pt x="72" y="71"/>
                </a:lnTo>
                <a:lnTo>
                  <a:pt x="72" y="107"/>
                </a:lnTo>
                <a:lnTo>
                  <a:pt x="0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637400" y="4024440"/>
            <a:ext cx="25920" cy="52920"/>
          </a:xfrm>
          <a:custGeom>
            <a:avLst/>
            <a:gdLst/>
            <a:ahLst/>
            <a:rect l="0" t="0" r="r" b="b"/>
            <a:pathLst>
              <a:path fill="none" w="72" h="147">
                <a:moveTo>
                  <a:pt x="0" y="0"/>
                </a:moveTo>
                <a:lnTo>
                  <a:pt x="72" y="147"/>
                </a:lnTo>
                <a:lnTo>
                  <a:pt x="72" y="112"/>
                </a:lnTo>
                <a:lnTo>
                  <a:pt x="72" y="147"/>
                </a:lnTo>
                <a:lnTo>
                  <a:pt x="0" y="11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637400" y="3832200"/>
            <a:ext cx="46440" cy="51120"/>
          </a:xfrm>
          <a:custGeom>
            <a:avLst/>
            <a:gdLst/>
            <a:ahLst/>
            <a:rect l="0" t="0" r="r" b="b"/>
            <a:pathLst>
              <a:path fill="none" w="129" h="142">
                <a:moveTo>
                  <a:pt x="0" y="0"/>
                </a:moveTo>
                <a:lnTo>
                  <a:pt x="129" y="142"/>
                </a:lnTo>
                <a:lnTo>
                  <a:pt x="84" y="106"/>
                </a:lnTo>
                <a:lnTo>
                  <a:pt x="129" y="142"/>
                </a:lnTo>
                <a:lnTo>
                  <a:pt x="84" y="10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637400" y="363996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0"/>
                </a:moveTo>
                <a:lnTo>
                  <a:pt x="173" y="107"/>
                </a:lnTo>
                <a:lnTo>
                  <a:pt x="173" y="71"/>
                </a:lnTo>
                <a:lnTo>
                  <a:pt x="173" y="107"/>
                </a:lnTo>
                <a:lnTo>
                  <a:pt x="128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637400" y="3448080"/>
            <a:ext cx="92520" cy="38520"/>
          </a:xfrm>
          <a:custGeom>
            <a:avLst/>
            <a:gdLst/>
            <a:ahLst/>
            <a:rect l="0" t="0" r="r" b="b"/>
            <a:pathLst>
              <a:path fill="none" w="257" h="107">
                <a:moveTo>
                  <a:pt x="0" y="0"/>
                </a:moveTo>
                <a:lnTo>
                  <a:pt x="257" y="107"/>
                </a:lnTo>
                <a:lnTo>
                  <a:pt x="213" y="71"/>
                </a:lnTo>
                <a:lnTo>
                  <a:pt x="257" y="107"/>
                </a:lnTo>
                <a:lnTo>
                  <a:pt x="17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637400" y="3254400"/>
            <a:ext cx="122760" cy="39960"/>
          </a:xfrm>
          <a:custGeom>
            <a:avLst/>
            <a:gdLst/>
            <a:ahLst/>
            <a:rect l="0" t="0" r="r" b="b"/>
            <a:pathLst>
              <a:path fill="none" w="341" h="111">
                <a:moveTo>
                  <a:pt x="0" y="0"/>
                </a:moveTo>
                <a:lnTo>
                  <a:pt x="341" y="111"/>
                </a:lnTo>
                <a:lnTo>
                  <a:pt x="257" y="75"/>
                </a:lnTo>
                <a:lnTo>
                  <a:pt x="341" y="111"/>
                </a:lnTo>
                <a:lnTo>
                  <a:pt x="257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637400" y="3062160"/>
            <a:ext cx="138600" cy="39960"/>
          </a:xfrm>
          <a:custGeom>
            <a:avLst/>
            <a:gdLst/>
            <a:ahLst/>
            <a:rect l="0" t="0" r="r" b="b"/>
            <a:pathLst>
              <a:path fill="none" w="385" h="111">
                <a:moveTo>
                  <a:pt x="0" y="0"/>
                </a:moveTo>
                <a:lnTo>
                  <a:pt x="385" y="111"/>
                </a:lnTo>
                <a:lnTo>
                  <a:pt x="341" y="71"/>
                </a:lnTo>
                <a:lnTo>
                  <a:pt x="385" y="111"/>
                </a:lnTo>
                <a:lnTo>
                  <a:pt x="301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637400" y="2857680"/>
            <a:ext cx="168480" cy="51120"/>
          </a:xfrm>
          <a:custGeom>
            <a:avLst/>
            <a:gdLst/>
            <a:ahLst/>
            <a:rect l="0" t="0" r="r" b="b"/>
            <a:pathLst>
              <a:path fill="none" w="468" h="142">
                <a:moveTo>
                  <a:pt x="0" y="0"/>
                </a:moveTo>
                <a:lnTo>
                  <a:pt x="468" y="142"/>
                </a:lnTo>
                <a:lnTo>
                  <a:pt x="384" y="70"/>
                </a:lnTo>
                <a:lnTo>
                  <a:pt x="468" y="142"/>
                </a:lnTo>
                <a:lnTo>
                  <a:pt x="340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637400" y="2665440"/>
            <a:ext cx="200520" cy="51120"/>
          </a:xfrm>
          <a:custGeom>
            <a:avLst/>
            <a:gdLst/>
            <a:ahLst/>
            <a:rect l="0" t="0" r="r" b="b"/>
            <a:pathLst>
              <a:path fill="none" w="557" h="142">
                <a:moveTo>
                  <a:pt x="0" y="0"/>
                </a:moveTo>
                <a:lnTo>
                  <a:pt x="557" y="142"/>
                </a:lnTo>
                <a:lnTo>
                  <a:pt x="429" y="70"/>
                </a:lnTo>
                <a:lnTo>
                  <a:pt x="557" y="142"/>
                </a:lnTo>
                <a:lnTo>
                  <a:pt x="4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637400" y="2473200"/>
            <a:ext cx="214560" cy="51120"/>
          </a:xfrm>
          <a:custGeom>
            <a:avLst/>
            <a:gdLst/>
            <a:ahLst/>
            <a:rect l="0" t="0" r="r" b="b"/>
            <a:pathLst>
              <a:path fill="none" w="596" h="142">
                <a:moveTo>
                  <a:pt x="0" y="0"/>
                </a:moveTo>
                <a:lnTo>
                  <a:pt x="596" y="106"/>
                </a:lnTo>
                <a:lnTo>
                  <a:pt x="512" y="70"/>
                </a:lnTo>
                <a:lnTo>
                  <a:pt x="596" y="106"/>
                </a:lnTo>
                <a:lnTo>
                  <a:pt x="46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637400" y="2279520"/>
            <a:ext cx="246600" cy="52920"/>
          </a:xfrm>
          <a:custGeom>
            <a:avLst/>
            <a:gdLst/>
            <a:ahLst/>
            <a:rect l="0" t="0" r="r" b="b"/>
            <a:pathLst>
              <a:path fill="none" w="685" h="147">
                <a:moveTo>
                  <a:pt x="0" y="0"/>
                </a:moveTo>
                <a:lnTo>
                  <a:pt x="685" y="112"/>
                </a:lnTo>
                <a:lnTo>
                  <a:pt x="557" y="75"/>
                </a:lnTo>
                <a:lnTo>
                  <a:pt x="685" y="112"/>
                </a:lnTo>
                <a:lnTo>
                  <a:pt x="512" y="1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667640" y="6167520"/>
            <a:ext cx="262440" cy="38520"/>
          </a:xfrm>
          <a:custGeom>
            <a:avLst/>
            <a:gdLst/>
            <a:ahLst/>
            <a:rect l="0" t="0" r="r" b="b"/>
            <a:pathLst>
              <a:path fill="none" w="729" h="107">
                <a:moveTo>
                  <a:pt x="729" y="0"/>
                </a:moveTo>
                <a:lnTo>
                  <a:pt x="0" y="71"/>
                </a:lnTo>
                <a:lnTo>
                  <a:pt x="171" y="107"/>
                </a:lnTo>
                <a:lnTo>
                  <a:pt x="0" y="71"/>
                </a:lnTo>
                <a:lnTo>
                  <a:pt x="127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699320" y="5973840"/>
            <a:ext cx="230400" cy="39960"/>
          </a:xfrm>
          <a:custGeom>
            <a:avLst/>
            <a:gdLst/>
            <a:ahLst/>
            <a:rect l="0" t="0" r="r" b="b"/>
            <a:pathLst>
              <a:path fill="none" w="640" h="111">
                <a:moveTo>
                  <a:pt x="640" y="0"/>
                </a:moveTo>
                <a:lnTo>
                  <a:pt x="0" y="75"/>
                </a:lnTo>
                <a:lnTo>
                  <a:pt x="127" y="111"/>
                </a:lnTo>
                <a:lnTo>
                  <a:pt x="0" y="75"/>
                </a:lnTo>
                <a:lnTo>
                  <a:pt x="127" y="39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729560" y="57816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0"/>
                </a:moveTo>
                <a:lnTo>
                  <a:pt x="0" y="72"/>
                </a:lnTo>
                <a:lnTo>
                  <a:pt x="83" y="72"/>
                </a:lnTo>
                <a:lnTo>
                  <a:pt x="0" y="72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5400" y="5589720"/>
            <a:ext cx="184680" cy="25920"/>
          </a:xfrm>
          <a:custGeom>
            <a:avLst/>
            <a:gdLst/>
            <a:ahLst/>
            <a:rect l="0" t="0" r="r" b="b"/>
            <a:pathLst>
              <a:path fill="none" w="513" h="72">
                <a:moveTo>
                  <a:pt x="513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8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75640" y="5384880"/>
            <a:ext cx="154440" cy="38520"/>
          </a:xfrm>
          <a:custGeom>
            <a:avLst/>
            <a:gdLst/>
            <a:ahLst/>
            <a:rect l="0" t="0" r="r" b="b"/>
            <a:pathLst>
              <a:path fill="none" w="429" h="107">
                <a:moveTo>
                  <a:pt x="429" y="0"/>
                </a:moveTo>
                <a:lnTo>
                  <a:pt x="0" y="107"/>
                </a:lnTo>
                <a:lnTo>
                  <a:pt x="83" y="107"/>
                </a:lnTo>
                <a:lnTo>
                  <a:pt x="0" y="107"/>
                </a:lnTo>
                <a:lnTo>
                  <a:pt x="8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805880" y="5192640"/>
            <a:ext cx="124200" cy="38520"/>
          </a:xfrm>
          <a:custGeom>
            <a:avLst/>
            <a:gdLst/>
            <a:ahLst/>
            <a:rect l="0" t="0" r="r" b="b"/>
            <a:pathLst>
              <a:path fill="none" w="345" h="107">
                <a:moveTo>
                  <a:pt x="345" y="0"/>
                </a:moveTo>
                <a:lnTo>
                  <a:pt x="0" y="107"/>
                </a:lnTo>
                <a:lnTo>
                  <a:pt x="44" y="107"/>
                </a:lnTo>
                <a:lnTo>
                  <a:pt x="0" y="107"/>
                </a:lnTo>
                <a:lnTo>
                  <a:pt x="4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821720" y="4998960"/>
            <a:ext cx="108360" cy="27360"/>
          </a:xfrm>
          <a:custGeom>
            <a:avLst/>
            <a:gdLst/>
            <a:ahLst/>
            <a:rect l="0" t="0" r="r" b="b"/>
            <a:pathLst>
              <a:path fill="none" w="301" h="76">
                <a:moveTo>
                  <a:pt x="301" y="0"/>
                </a:moveTo>
                <a:lnTo>
                  <a:pt x="0" y="76"/>
                </a:lnTo>
                <a:lnTo>
                  <a:pt x="84" y="76"/>
                </a:lnTo>
                <a:lnTo>
                  <a:pt x="0" y="76"/>
                </a:lnTo>
                <a:lnTo>
                  <a:pt x="44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851600" y="48070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217" y="0"/>
                </a:moveTo>
                <a:lnTo>
                  <a:pt x="0" y="72"/>
                </a:lnTo>
                <a:lnTo>
                  <a:pt x="44" y="72"/>
                </a:lnTo>
                <a:lnTo>
                  <a:pt x="0" y="72"/>
                </a:lnTo>
                <a:lnTo>
                  <a:pt x="4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867800" y="46148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173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899480" y="442260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0" y="72"/>
                </a:lnTo>
                <a:lnTo>
                  <a:pt x="0" y="72"/>
                </a:lnTo>
                <a:lnTo>
                  <a:pt x="0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929720" y="423072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35"/>
                </a:lnTo>
                <a:lnTo>
                  <a:pt x="0" y="70"/>
                </a:lnTo>
                <a:lnTo>
                  <a:pt x="0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929720" y="4024440"/>
            <a:ext cx="25920" cy="39960"/>
          </a:xfrm>
          <a:custGeom>
            <a:avLst/>
            <a:gdLst/>
            <a:ahLst/>
            <a:rect l="0" t="0" r="r" b="b"/>
            <a:pathLst>
              <a:path fill="none" w="72" h="111">
                <a:moveTo>
                  <a:pt x="0" y="0"/>
                </a:moveTo>
                <a:lnTo>
                  <a:pt x="72" y="111"/>
                </a:lnTo>
                <a:lnTo>
                  <a:pt x="72" y="71"/>
                </a:lnTo>
                <a:lnTo>
                  <a:pt x="72" y="111"/>
                </a:lnTo>
                <a:lnTo>
                  <a:pt x="72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929720" y="3832200"/>
            <a:ext cx="46440" cy="38520"/>
          </a:xfrm>
          <a:custGeom>
            <a:avLst/>
            <a:gdLst/>
            <a:ahLst/>
            <a:rect l="0" t="0" r="r" b="b"/>
            <a:pathLst>
              <a:path fill="none" w="129" h="107">
                <a:moveTo>
                  <a:pt x="0" y="0"/>
                </a:moveTo>
                <a:lnTo>
                  <a:pt x="129" y="107"/>
                </a:lnTo>
                <a:lnTo>
                  <a:pt x="129" y="71"/>
                </a:lnTo>
                <a:lnTo>
                  <a:pt x="129" y="107"/>
                </a:lnTo>
                <a:lnTo>
                  <a:pt x="84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929720" y="363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929720" y="3448080"/>
            <a:ext cx="92520" cy="25920"/>
          </a:xfrm>
          <a:custGeom>
            <a:avLst/>
            <a:gdLst/>
            <a:ahLst/>
            <a:rect l="0" t="0" r="r" b="b"/>
            <a:pathLst>
              <a:path fill="none" w="257" h="72">
                <a:moveTo>
                  <a:pt x="0" y="0"/>
                </a:moveTo>
                <a:lnTo>
                  <a:pt x="257" y="72"/>
                </a:lnTo>
                <a:lnTo>
                  <a:pt x="213" y="36"/>
                </a:lnTo>
                <a:lnTo>
                  <a:pt x="257" y="72"/>
                </a:lnTo>
                <a:lnTo>
                  <a:pt x="21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929720" y="3254400"/>
            <a:ext cx="124200" cy="27360"/>
          </a:xfrm>
          <a:custGeom>
            <a:avLst/>
            <a:gdLst/>
            <a:ahLst/>
            <a:rect l="0" t="0" r="r" b="b"/>
            <a:pathLst>
              <a:path fill="none" w="345" h="76">
                <a:moveTo>
                  <a:pt x="0" y="0"/>
                </a:moveTo>
                <a:lnTo>
                  <a:pt x="345" y="76"/>
                </a:lnTo>
                <a:lnTo>
                  <a:pt x="301" y="40"/>
                </a:lnTo>
                <a:lnTo>
                  <a:pt x="345" y="76"/>
                </a:lnTo>
                <a:lnTo>
                  <a:pt x="256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929720" y="30621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0"/>
                </a:moveTo>
                <a:lnTo>
                  <a:pt x="429" y="72"/>
                </a:lnTo>
                <a:lnTo>
                  <a:pt x="345" y="36"/>
                </a:lnTo>
                <a:lnTo>
                  <a:pt x="429" y="72"/>
                </a:lnTo>
                <a:lnTo>
                  <a:pt x="30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929720" y="2857680"/>
            <a:ext cx="170280" cy="38520"/>
          </a:xfrm>
          <a:custGeom>
            <a:avLst/>
            <a:gdLst/>
            <a:ahLst/>
            <a:rect l="0" t="0" r="r" b="b"/>
            <a:pathLst>
              <a:path fill="none" w="473" h="107">
                <a:moveTo>
                  <a:pt x="0" y="0"/>
                </a:moveTo>
                <a:lnTo>
                  <a:pt x="473" y="107"/>
                </a:lnTo>
                <a:lnTo>
                  <a:pt x="385" y="71"/>
                </a:lnTo>
                <a:lnTo>
                  <a:pt x="473" y="107"/>
                </a:lnTo>
                <a:lnTo>
                  <a:pt x="385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929720" y="2665440"/>
            <a:ext cx="200520" cy="38520"/>
          </a:xfrm>
          <a:custGeom>
            <a:avLst/>
            <a:gdLst/>
            <a:ahLst/>
            <a:rect l="0" t="0" r="r" b="b"/>
            <a:pathLst>
              <a:path fill="none" w="557" h="107">
                <a:moveTo>
                  <a:pt x="0" y="0"/>
                </a:moveTo>
                <a:lnTo>
                  <a:pt x="557" y="107"/>
                </a:lnTo>
                <a:lnTo>
                  <a:pt x="473" y="36"/>
                </a:lnTo>
                <a:lnTo>
                  <a:pt x="557" y="107"/>
                </a:lnTo>
                <a:lnTo>
                  <a:pt x="429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929720" y="2473200"/>
            <a:ext cx="230400" cy="38520"/>
          </a:xfrm>
          <a:custGeom>
            <a:avLst/>
            <a:gdLst/>
            <a:ahLst/>
            <a:rect l="0" t="0" r="r" b="b"/>
            <a:pathLst>
              <a:path fill="none" w="640" h="107">
                <a:moveTo>
                  <a:pt x="0" y="0"/>
                </a:moveTo>
                <a:lnTo>
                  <a:pt x="640" y="107"/>
                </a:lnTo>
                <a:lnTo>
                  <a:pt x="512" y="36"/>
                </a:lnTo>
                <a:lnTo>
                  <a:pt x="640" y="107"/>
                </a:lnTo>
                <a:lnTo>
                  <a:pt x="472" y="10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929720" y="2279520"/>
            <a:ext cx="246600" cy="39960"/>
          </a:xfrm>
          <a:custGeom>
            <a:avLst/>
            <a:gdLst/>
            <a:ahLst/>
            <a:rect l="0" t="0" r="r" b="b"/>
            <a:pathLst>
              <a:path fill="none" w="685" h="111">
                <a:moveTo>
                  <a:pt x="0" y="0"/>
                </a:moveTo>
                <a:lnTo>
                  <a:pt x="685" y="75"/>
                </a:lnTo>
                <a:lnTo>
                  <a:pt x="557" y="35"/>
                </a:lnTo>
                <a:lnTo>
                  <a:pt x="685" y="75"/>
                </a:lnTo>
                <a:lnTo>
                  <a:pt x="557" y="11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975440" y="6167520"/>
            <a:ext cx="246600" cy="25920"/>
          </a:xfrm>
          <a:custGeom>
            <a:avLst/>
            <a:gdLst/>
            <a:ahLst/>
            <a:rect l="0" t="0" r="r" b="b"/>
            <a:pathLst>
              <a:path fill="none" w="685" h="72">
                <a:moveTo>
                  <a:pt x="685" y="0"/>
                </a:moveTo>
                <a:lnTo>
                  <a:pt x="0" y="36"/>
                </a:lnTo>
                <a:lnTo>
                  <a:pt x="127" y="72"/>
                </a:lnTo>
                <a:lnTo>
                  <a:pt x="0" y="36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991640" y="5973840"/>
            <a:ext cx="230400" cy="27360"/>
          </a:xfrm>
          <a:custGeom>
            <a:avLst/>
            <a:gdLst/>
            <a:ahLst/>
            <a:rect l="0" t="0" r="r" b="b"/>
            <a:pathLst>
              <a:path fill="none" w="640" h="76">
                <a:moveTo>
                  <a:pt x="640" y="0"/>
                </a:moveTo>
                <a:lnTo>
                  <a:pt x="0" y="40"/>
                </a:lnTo>
                <a:lnTo>
                  <a:pt x="127" y="76"/>
                </a:lnTo>
                <a:lnTo>
                  <a:pt x="0" y="4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8021520" y="578160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557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8037360" y="5589720"/>
            <a:ext cx="184680" cy="25920"/>
          </a:xfrm>
          <a:custGeom>
            <a:avLst/>
            <a:gdLst/>
            <a:ahLst/>
            <a:rect l="0" t="0" r="r" b="b"/>
            <a:pathLst>
              <a:path fill="none" w="513" h="72">
                <a:moveTo>
                  <a:pt x="513" y="0"/>
                </a:moveTo>
                <a:lnTo>
                  <a:pt x="0" y="72"/>
                </a:lnTo>
                <a:lnTo>
                  <a:pt x="127" y="72"/>
                </a:lnTo>
                <a:lnTo>
                  <a:pt x="0" y="72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8067600" y="538488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429" y="0"/>
                </a:moveTo>
                <a:lnTo>
                  <a:pt x="0" y="72"/>
                </a:lnTo>
                <a:lnTo>
                  <a:pt x="88" y="72"/>
                </a:lnTo>
                <a:lnTo>
                  <a:pt x="0" y="72"/>
                </a:lnTo>
                <a:lnTo>
                  <a:pt x="88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099280" y="5192640"/>
            <a:ext cx="122760" cy="25920"/>
          </a:xfrm>
          <a:custGeom>
            <a:avLst/>
            <a:gdLst/>
            <a:ahLst/>
            <a:rect l="0" t="0" r="r" b="b"/>
            <a:pathLst>
              <a:path fill="none" w="341" h="72">
                <a:moveTo>
                  <a:pt x="341" y="0"/>
                </a:moveTo>
                <a:lnTo>
                  <a:pt x="0" y="36"/>
                </a:lnTo>
                <a:lnTo>
                  <a:pt x="83" y="72"/>
                </a:lnTo>
                <a:lnTo>
                  <a:pt x="0" y="36"/>
                </a:lnTo>
                <a:lnTo>
                  <a:pt x="3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8113680" y="499896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301" y="0"/>
                </a:moveTo>
                <a:lnTo>
                  <a:pt x="0" y="72"/>
                </a:lnTo>
                <a:lnTo>
                  <a:pt x="89" y="72"/>
                </a:lnTo>
                <a:lnTo>
                  <a:pt x="0" y="72"/>
                </a:lnTo>
                <a:lnTo>
                  <a:pt x="8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8145360" y="48070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213" y="0"/>
                </a:moveTo>
                <a:lnTo>
                  <a:pt x="0" y="72"/>
                </a:lnTo>
                <a:lnTo>
                  <a:pt x="39" y="72"/>
                </a:lnTo>
                <a:lnTo>
                  <a:pt x="0" y="72"/>
                </a:lnTo>
                <a:lnTo>
                  <a:pt x="3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175600" y="461484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129" y="0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91440" y="4422600"/>
            <a:ext cx="30600" cy="25920"/>
          </a:xfrm>
          <a:custGeom>
            <a:avLst/>
            <a:gdLst/>
            <a:ahLst/>
            <a:rect l="0" t="0" r="r" b="b"/>
            <a:pathLst>
              <a:path fill="none" w="85" h="72">
                <a:moveTo>
                  <a:pt x="85" y="0"/>
                </a:moveTo>
                <a:lnTo>
                  <a:pt x="0" y="72"/>
                </a:lnTo>
                <a:lnTo>
                  <a:pt x="45" y="72"/>
                </a:lnTo>
                <a:lnTo>
                  <a:pt x="0" y="72"/>
                </a:lnTo>
                <a:lnTo>
                  <a:pt x="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21680" y="4230720"/>
            <a:ext cx="0" cy="25200"/>
          </a:xfrm>
          <a:custGeom>
            <a:avLst/>
            <a:gdLst/>
            <a:ahLst/>
            <a:rect l="0" t="0" r="r" b="b"/>
            <a:pathLst>
              <a:path fill="none" w="0" h="70">
                <a:moveTo>
                  <a:pt x="0" y="0"/>
                </a:moveTo>
                <a:lnTo>
                  <a:pt x="0" y="70"/>
                </a:lnTo>
                <a:lnTo>
                  <a:pt x="0" y="0"/>
                </a:lnTo>
                <a:lnTo>
                  <a:pt x="0" y="70"/>
                </a:lnTo>
                <a:lnTo>
                  <a:pt x="0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221680" y="4024440"/>
            <a:ext cx="32040" cy="25920"/>
          </a:xfrm>
          <a:custGeom>
            <a:avLst/>
            <a:gdLst/>
            <a:ahLst/>
            <a:rect l="0" t="0" r="r" b="b"/>
            <a:pathLst>
              <a:path fill="none" w="89" h="72">
                <a:moveTo>
                  <a:pt x="0" y="0"/>
                </a:moveTo>
                <a:lnTo>
                  <a:pt x="89" y="72"/>
                </a:lnTo>
                <a:lnTo>
                  <a:pt x="45" y="36"/>
                </a:lnTo>
                <a:lnTo>
                  <a:pt x="89" y="72"/>
                </a:lnTo>
                <a:lnTo>
                  <a:pt x="45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221680" y="3832200"/>
            <a:ext cx="46440" cy="25920"/>
          </a:xfrm>
          <a:custGeom>
            <a:avLst/>
            <a:gdLst/>
            <a:ahLst/>
            <a:rect l="0" t="0" r="r" b="b"/>
            <a:pathLst>
              <a:path fill="none" w="129" h="72">
                <a:moveTo>
                  <a:pt x="0" y="0"/>
                </a:moveTo>
                <a:lnTo>
                  <a:pt x="129" y="72"/>
                </a:lnTo>
                <a:lnTo>
                  <a:pt x="129" y="72"/>
                </a:lnTo>
                <a:lnTo>
                  <a:pt x="12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221680" y="363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221680" y="3448080"/>
            <a:ext cx="108360" cy="25920"/>
          </a:xfrm>
          <a:custGeom>
            <a:avLst/>
            <a:gdLst/>
            <a:ahLst/>
            <a:rect l="0" t="0" r="r" b="b"/>
            <a:pathLst>
              <a:path fill="none" w="301" h="72">
                <a:moveTo>
                  <a:pt x="0" y="0"/>
                </a:moveTo>
                <a:lnTo>
                  <a:pt x="301" y="72"/>
                </a:lnTo>
                <a:lnTo>
                  <a:pt x="217" y="0"/>
                </a:lnTo>
                <a:lnTo>
                  <a:pt x="301" y="72"/>
                </a:lnTo>
                <a:lnTo>
                  <a:pt x="21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8221680" y="3254400"/>
            <a:ext cx="124200" cy="25920"/>
          </a:xfrm>
          <a:custGeom>
            <a:avLst/>
            <a:gdLst/>
            <a:ahLst/>
            <a:rect l="0" t="0" r="r" b="b"/>
            <a:pathLst>
              <a:path fill="none" w="345" h="72">
                <a:moveTo>
                  <a:pt x="0" y="0"/>
                </a:moveTo>
                <a:lnTo>
                  <a:pt x="345" y="72"/>
                </a:lnTo>
                <a:lnTo>
                  <a:pt x="301" y="0"/>
                </a:lnTo>
                <a:lnTo>
                  <a:pt x="345" y="72"/>
                </a:lnTo>
                <a:lnTo>
                  <a:pt x="256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221680" y="3062160"/>
            <a:ext cx="154440" cy="25920"/>
          </a:xfrm>
          <a:custGeom>
            <a:avLst/>
            <a:gdLst/>
            <a:ahLst/>
            <a:rect l="0" t="0" r="r" b="b"/>
            <a:pathLst>
              <a:path fill="none" w="429" h="72">
                <a:moveTo>
                  <a:pt x="0" y="0"/>
                </a:moveTo>
                <a:lnTo>
                  <a:pt x="429" y="72"/>
                </a:lnTo>
                <a:lnTo>
                  <a:pt x="345" y="0"/>
                </a:lnTo>
                <a:lnTo>
                  <a:pt x="429" y="72"/>
                </a:lnTo>
                <a:lnTo>
                  <a:pt x="345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221680" y="2857680"/>
            <a:ext cx="186120" cy="25920"/>
          </a:xfrm>
          <a:custGeom>
            <a:avLst/>
            <a:gdLst/>
            <a:ahLst/>
            <a:rect l="0" t="0" r="r" b="b"/>
            <a:pathLst>
              <a:path fill="none" w="517" h="72">
                <a:moveTo>
                  <a:pt x="0" y="0"/>
                </a:moveTo>
                <a:lnTo>
                  <a:pt x="517" y="72"/>
                </a:lnTo>
                <a:lnTo>
                  <a:pt x="384" y="36"/>
                </a:lnTo>
                <a:lnTo>
                  <a:pt x="517" y="72"/>
                </a:lnTo>
                <a:lnTo>
                  <a:pt x="384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221680" y="2665440"/>
            <a:ext cx="200520" cy="25920"/>
          </a:xfrm>
          <a:custGeom>
            <a:avLst/>
            <a:gdLst/>
            <a:ahLst/>
            <a:rect l="0" t="0" r="r" b="b"/>
            <a:pathLst>
              <a:path fill="none" w="557" h="72">
                <a:moveTo>
                  <a:pt x="0" y="0"/>
                </a:moveTo>
                <a:lnTo>
                  <a:pt x="557" y="72"/>
                </a:lnTo>
                <a:lnTo>
                  <a:pt x="473" y="0"/>
                </a:lnTo>
                <a:lnTo>
                  <a:pt x="557" y="72"/>
                </a:lnTo>
                <a:lnTo>
                  <a:pt x="4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221680" y="2473200"/>
            <a:ext cx="232200" cy="25920"/>
          </a:xfrm>
          <a:custGeom>
            <a:avLst/>
            <a:gdLst/>
            <a:ahLst/>
            <a:rect l="0" t="0" r="r" b="b"/>
            <a:pathLst>
              <a:path fill="none" w="645" h="72">
                <a:moveTo>
                  <a:pt x="0" y="0"/>
                </a:moveTo>
                <a:lnTo>
                  <a:pt x="645" y="36"/>
                </a:lnTo>
                <a:lnTo>
                  <a:pt x="517" y="0"/>
                </a:lnTo>
                <a:lnTo>
                  <a:pt x="645" y="36"/>
                </a:lnTo>
                <a:lnTo>
                  <a:pt x="517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221680" y="2279520"/>
            <a:ext cx="246600" cy="27360"/>
          </a:xfrm>
          <a:custGeom>
            <a:avLst/>
            <a:gdLst/>
            <a:ahLst/>
            <a:rect l="0" t="0" r="r" b="b"/>
            <a:pathLst>
              <a:path fill="none" w="685" h="76">
                <a:moveTo>
                  <a:pt x="0" y="0"/>
                </a:moveTo>
                <a:lnTo>
                  <a:pt x="685" y="36"/>
                </a:lnTo>
                <a:lnTo>
                  <a:pt x="557" y="0"/>
                </a:lnTo>
                <a:lnTo>
                  <a:pt x="685" y="36"/>
                </a:lnTo>
                <a:lnTo>
                  <a:pt x="557" y="7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481560" y="1859040"/>
            <a:ext cx="3755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éndulo simple no amortig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297560" y="4230720"/>
            <a:ext cx="170280" cy="359280"/>
          </a:xfrm>
          <a:custGeom>
            <a:avLst/>
            <a:gdLst/>
            <a:ahLst/>
            <a:rect l="0" t="0" r="r" b="b"/>
            <a:pathLst>
              <a:path fill="none" w="473" h="998">
                <a:moveTo>
                  <a:pt x="473" y="0"/>
                </a:moveTo>
                <a:lnTo>
                  <a:pt x="473" y="0"/>
                </a:lnTo>
                <a:lnTo>
                  <a:pt x="473" y="0"/>
                </a:lnTo>
                <a:lnTo>
                  <a:pt x="473" y="35"/>
                </a:lnTo>
                <a:lnTo>
                  <a:pt x="473" y="35"/>
                </a:lnTo>
                <a:lnTo>
                  <a:pt x="473" y="70"/>
                </a:lnTo>
                <a:lnTo>
                  <a:pt x="473" y="70"/>
                </a:lnTo>
                <a:lnTo>
                  <a:pt x="473" y="105"/>
                </a:lnTo>
                <a:lnTo>
                  <a:pt x="473" y="105"/>
                </a:lnTo>
                <a:lnTo>
                  <a:pt x="473" y="105"/>
                </a:lnTo>
                <a:lnTo>
                  <a:pt x="473" y="141"/>
                </a:lnTo>
                <a:lnTo>
                  <a:pt x="473" y="141"/>
                </a:lnTo>
                <a:lnTo>
                  <a:pt x="473" y="176"/>
                </a:lnTo>
                <a:lnTo>
                  <a:pt x="473" y="176"/>
                </a:lnTo>
                <a:lnTo>
                  <a:pt x="429" y="211"/>
                </a:lnTo>
                <a:lnTo>
                  <a:pt x="429" y="211"/>
                </a:lnTo>
                <a:lnTo>
                  <a:pt x="429" y="246"/>
                </a:lnTo>
                <a:lnTo>
                  <a:pt x="429" y="246"/>
                </a:lnTo>
                <a:lnTo>
                  <a:pt x="429" y="246"/>
                </a:lnTo>
                <a:lnTo>
                  <a:pt x="429" y="283"/>
                </a:lnTo>
                <a:lnTo>
                  <a:pt x="429" y="283"/>
                </a:lnTo>
                <a:lnTo>
                  <a:pt x="429" y="318"/>
                </a:lnTo>
                <a:lnTo>
                  <a:pt x="429" y="318"/>
                </a:lnTo>
                <a:lnTo>
                  <a:pt x="429" y="353"/>
                </a:lnTo>
                <a:lnTo>
                  <a:pt x="390" y="353"/>
                </a:lnTo>
                <a:lnTo>
                  <a:pt x="390" y="353"/>
                </a:lnTo>
                <a:lnTo>
                  <a:pt x="390" y="389"/>
                </a:lnTo>
                <a:lnTo>
                  <a:pt x="390" y="389"/>
                </a:lnTo>
                <a:lnTo>
                  <a:pt x="390" y="428"/>
                </a:lnTo>
                <a:lnTo>
                  <a:pt x="390" y="428"/>
                </a:lnTo>
                <a:lnTo>
                  <a:pt x="390" y="464"/>
                </a:lnTo>
                <a:lnTo>
                  <a:pt x="344" y="464"/>
                </a:lnTo>
                <a:lnTo>
                  <a:pt x="344" y="499"/>
                </a:lnTo>
                <a:lnTo>
                  <a:pt x="344" y="499"/>
                </a:lnTo>
                <a:lnTo>
                  <a:pt x="344" y="499"/>
                </a:lnTo>
                <a:lnTo>
                  <a:pt x="344" y="534"/>
                </a:lnTo>
                <a:lnTo>
                  <a:pt x="300" y="534"/>
                </a:lnTo>
                <a:lnTo>
                  <a:pt x="300" y="569"/>
                </a:lnTo>
                <a:lnTo>
                  <a:pt x="300" y="569"/>
                </a:lnTo>
                <a:lnTo>
                  <a:pt x="300" y="605"/>
                </a:lnTo>
                <a:lnTo>
                  <a:pt x="300" y="605"/>
                </a:lnTo>
                <a:lnTo>
                  <a:pt x="261" y="640"/>
                </a:lnTo>
                <a:lnTo>
                  <a:pt x="261" y="640"/>
                </a:lnTo>
                <a:lnTo>
                  <a:pt x="261" y="675"/>
                </a:lnTo>
                <a:lnTo>
                  <a:pt x="261" y="675"/>
                </a:lnTo>
                <a:lnTo>
                  <a:pt x="217" y="675"/>
                </a:lnTo>
                <a:lnTo>
                  <a:pt x="217" y="710"/>
                </a:lnTo>
                <a:lnTo>
                  <a:pt x="217" y="710"/>
                </a:lnTo>
                <a:lnTo>
                  <a:pt x="217" y="746"/>
                </a:lnTo>
                <a:lnTo>
                  <a:pt x="172" y="746"/>
                </a:lnTo>
                <a:lnTo>
                  <a:pt x="172" y="782"/>
                </a:lnTo>
                <a:lnTo>
                  <a:pt x="172" y="782"/>
                </a:lnTo>
                <a:lnTo>
                  <a:pt x="172" y="817"/>
                </a:lnTo>
                <a:lnTo>
                  <a:pt x="133" y="817"/>
                </a:lnTo>
                <a:lnTo>
                  <a:pt x="133" y="853"/>
                </a:lnTo>
                <a:lnTo>
                  <a:pt x="133" y="853"/>
                </a:lnTo>
                <a:lnTo>
                  <a:pt x="88" y="892"/>
                </a:lnTo>
                <a:lnTo>
                  <a:pt x="88" y="892"/>
                </a:lnTo>
                <a:lnTo>
                  <a:pt x="88" y="892"/>
                </a:lnTo>
                <a:lnTo>
                  <a:pt x="44" y="928"/>
                </a:lnTo>
                <a:lnTo>
                  <a:pt x="44" y="928"/>
                </a:lnTo>
                <a:lnTo>
                  <a:pt x="44" y="963"/>
                </a:lnTo>
                <a:lnTo>
                  <a:pt x="0" y="963"/>
                </a:lnTo>
                <a:lnTo>
                  <a:pt x="0" y="998"/>
                </a:lnTo>
                <a:lnTo>
                  <a:pt x="0" y="998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743880" y="4589640"/>
            <a:ext cx="554400" cy="410040"/>
          </a:xfrm>
          <a:custGeom>
            <a:avLst/>
            <a:gdLst/>
            <a:ahLst/>
            <a:rect l="0" t="0" r="r" b="b"/>
            <a:pathLst>
              <a:path fill="none" w="1540" h="1139">
                <a:moveTo>
                  <a:pt x="1540" y="0"/>
                </a:moveTo>
                <a:lnTo>
                  <a:pt x="1501" y="35"/>
                </a:lnTo>
                <a:lnTo>
                  <a:pt x="1501" y="35"/>
                </a:lnTo>
                <a:lnTo>
                  <a:pt x="1457" y="70"/>
                </a:lnTo>
                <a:lnTo>
                  <a:pt x="1457" y="70"/>
                </a:lnTo>
                <a:lnTo>
                  <a:pt x="1457" y="105"/>
                </a:lnTo>
                <a:lnTo>
                  <a:pt x="1413" y="105"/>
                </a:lnTo>
                <a:lnTo>
                  <a:pt x="1413" y="141"/>
                </a:lnTo>
                <a:lnTo>
                  <a:pt x="1413" y="141"/>
                </a:lnTo>
                <a:lnTo>
                  <a:pt x="1373" y="176"/>
                </a:lnTo>
                <a:lnTo>
                  <a:pt x="1373" y="176"/>
                </a:lnTo>
                <a:lnTo>
                  <a:pt x="1329" y="211"/>
                </a:lnTo>
                <a:lnTo>
                  <a:pt x="1329" y="211"/>
                </a:lnTo>
                <a:lnTo>
                  <a:pt x="1285" y="246"/>
                </a:lnTo>
                <a:lnTo>
                  <a:pt x="1285" y="246"/>
                </a:lnTo>
                <a:lnTo>
                  <a:pt x="1245" y="282"/>
                </a:lnTo>
                <a:lnTo>
                  <a:pt x="1245" y="282"/>
                </a:lnTo>
                <a:lnTo>
                  <a:pt x="1245" y="322"/>
                </a:lnTo>
                <a:lnTo>
                  <a:pt x="1201" y="322"/>
                </a:lnTo>
                <a:lnTo>
                  <a:pt x="1201" y="358"/>
                </a:lnTo>
                <a:lnTo>
                  <a:pt x="1157" y="358"/>
                </a:lnTo>
                <a:lnTo>
                  <a:pt x="1157" y="358"/>
                </a:lnTo>
                <a:lnTo>
                  <a:pt x="1112" y="393"/>
                </a:lnTo>
                <a:lnTo>
                  <a:pt x="1112" y="393"/>
                </a:lnTo>
                <a:lnTo>
                  <a:pt x="1072" y="428"/>
                </a:lnTo>
                <a:lnTo>
                  <a:pt x="1072" y="428"/>
                </a:lnTo>
                <a:lnTo>
                  <a:pt x="1028" y="464"/>
                </a:lnTo>
                <a:lnTo>
                  <a:pt x="1028" y="464"/>
                </a:lnTo>
                <a:lnTo>
                  <a:pt x="984" y="499"/>
                </a:lnTo>
                <a:lnTo>
                  <a:pt x="944" y="499"/>
                </a:lnTo>
                <a:lnTo>
                  <a:pt x="944" y="534"/>
                </a:lnTo>
                <a:lnTo>
                  <a:pt x="900" y="534"/>
                </a:lnTo>
                <a:lnTo>
                  <a:pt x="900" y="569"/>
                </a:lnTo>
                <a:lnTo>
                  <a:pt x="856" y="569"/>
                </a:lnTo>
                <a:lnTo>
                  <a:pt x="856" y="605"/>
                </a:lnTo>
                <a:lnTo>
                  <a:pt x="816" y="605"/>
                </a:lnTo>
                <a:lnTo>
                  <a:pt x="816" y="640"/>
                </a:lnTo>
                <a:lnTo>
                  <a:pt x="772" y="640"/>
                </a:lnTo>
                <a:lnTo>
                  <a:pt x="728" y="675"/>
                </a:lnTo>
                <a:lnTo>
                  <a:pt x="728" y="675"/>
                </a:lnTo>
                <a:lnTo>
                  <a:pt x="688" y="710"/>
                </a:lnTo>
                <a:lnTo>
                  <a:pt x="688" y="746"/>
                </a:lnTo>
                <a:lnTo>
                  <a:pt x="644" y="746"/>
                </a:lnTo>
                <a:lnTo>
                  <a:pt x="600" y="785"/>
                </a:lnTo>
                <a:lnTo>
                  <a:pt x="600" y="785"/>
                </a:lnTo>
                <a:lnTo>
                  <a:pt x="556" y="821"/>
                </a:lnTo>
                <a:lnTo>
                  <a:pt x="516" y="821"/>
                </a:lnTo>
                <a:lnTo>
                  <a:pt x="516" y="857"/>
                </a:lnTo>
                <a:lnTo>
                  <a:pt x="472" y="857"/>
                </a:lnTo>
                <a:lnTo>
                  <a:pt x="428" y="892"/>
                </a:lnTo>
                <a:lnTo>
                  <a:pt x="428" y="892"/>
                </a:lnTo>
                <a:lnTo>
                  <a:pt x="389" y="928"/>
                </a:lnTo>
                <a:lnTo>
                  <a:pt x="343" y="928"/>
                </a:lnTo>
                <a:lnTo>
                  <a:pt x="343" y="963"/>
                </a:lnTo>
                <a:lnTo>
                  <a:pt x="299" y="963"/>
                </a:lnTo>
                <a:lnTo>
                  <a:pt x="260" y="998"/>
                </a:lnTo>
                <a:lnTo>
                  <a:pt x="260" y="998"/>
                </a:lnTo>
                <a:lnTo>
                  <a:pt x="216" y="1033"/>
                </a:lnTo>
                <a:lnTo>
                  <a:pt x="171" y="1033"/>
                </a:lnTo>
                <a:lnTo>
                  <a:pt x="127" y="1069"/>
                </a:lnTo>
                <a:lnTo>
                  <a:pt x="127" y="1069"/>
                </a:lnTo>
                <a:lnTo>
                  <a:pt x="88" y="1104"/>
                </a:lnTo>
                <a:lnTo>
                  <a:pt x="44" y="1104"/>
                </a:lnTo>
                <a:lnTo>
                  <a:pt x="0" y="1139"/>
                </a:lnTo>
                <a:lnTo>
                  <a:pt x="0" y="1139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805360" y="4998960"/>
            <a:ext cx="938520" cy="321120"/>
          </a:xfrm>
          <a:custGeom>
            <a:avLst/>
            <a:gdLst/>
            <a:ahLst/>
            <a:rect l="0" t="0" r="r" b="b"/>
            <a:pathLst>
              <a:path fill="none" w="2607" h="892">
                <a:moveTo>
                  <a:pt x="2607" y="0"/>
                </a:moveTo>
                <a:lnTo>
                  <a:pt x="2567" y="35"/>
                </a:lnTo>
                <a:lnTo>
                  <a:pt x="2523" y="35"/>
                </a:lnTo>
                <a:lnTo>
                  <a:pt x="2479" y="74"/>
                </a:lnTo>
                <a:lnTo>
                  <a:pt x="2439" y="74"/>
                </a:lnTo>
                <a:lnTo>
                  <a:pt x="2439" y="110"/>
                </a:lnTo>
                <a:lnTo>
                  <a:pt x="2395" y="110"/>
                </a:lnTo>
                <a:lnTo>
                  <a:pt x="2351" y="110"/>
                </a:lnTo>
                <a:lnTo>
                  <a:pt x="2311" y="145"/>
                </a:lnTo>
                <a:lnTo>
                  <a:pt x="2267" y="145"/>
                </a:lnTo>
                <a:lnTo>
                  <a:pt x="2267" y="180"/>
                </a:lnTo>
                <a:lnTo>
                  <a:pt x="2223" y="180"/>
                </a:lnTo>
                <a:lnTo>
                  <a:pt x="2179" y="216"/>
                </a:lnTo>
                <a:lnTo>
                  <a:pt x="2139" y="216"/>
                </a:lnTo>
                <a:lnTo>
                  <a:pt x="2095" y="252"/>
                </a:lnTo>
                <a:lnTo>
                  <a:pt x="2051" y="252"/>
                </a:lnTo>
                <a:lnTo>
                  <a:pt x="2051" y="287"/>
                </a:lnTo>
                <a:lnTo>
                  <a:pt x="2011" y="287"/>
                </a:lnTo>
                <a:lnTo>
                  <a:pt x="1967" y="322"/>
                </a:lnTo>
                <a:lnTo>
                  <a:pt x="1923" y="322"/>
                </a:lnTo>
                <a:lnTo>
                  <a:pt x="1883" y="358"/>
                </a:lnTo>
                <a:lnTo>
                  <a:pt x="1839" y="358"/>
                </a:lnTo>
                <a:lnTo>
                  <a:pt x="1795" y="358"/>
                </a:lnTo>
                <a:lnTo>
                  <a:pt x="1751" y="393"/>
                </a:lnTo>
                <a:lnTo>
                  <a:pt x="1711" y="393"/>
                </a:lnTo>
                <a:lnTo>
                  <a:pt x="1711" y="428"/>
                </a:lnTo>
                <a:lnTo>
                  <a:pt x="1667" y="428"/>
                </a:lnTo>
                <a:lnTo>
                  <a:pt x="1623" y="464"/>
                </a:lnTo>
                <a:lnTo>
                  <a:pt x="1584" y="464"/>
                </a:lnTo>
                <a:lnTo>
                  <a:pt x="1539" y="464"/>
                </a:lnTo>
                <a:lnTo>
                  <a:pt x="1495" y="499"/>
                </a:lnTo>
                <a:lnTo>
                  <a:pt x="1456" y="499"/>
                </a:lnTo>
                <a:lnTo>
                  <a:pt x="1412" y="538"/>
                </a:lnTo>
                <a:lnTo>
                  <a:pt x="1368" y="538"/>
                </a:lnTo>
                <a:lnTo>
                  <a:pt x="1328" y="574"/>
                </a:lnTo>
                <a:lnTo>
                  <a:pt x="1283" y="574"/>
                </a:lnTo>
                <a:lnTo>
                  <a:pt x="1239" y="574"/>
                </a:lnTo>
                <a:lnTo>
                  <a:pt x="1195" y="609"/>
                </a:lnTo>
                <a:lnTo>
                  <a:pt x="1155" y="609"/>
                </a:lnTo>
                <a:lnTo>
                  <a:pt x="1111" y="609"/>
                </a:lnTo>
                <a:lnTo>
                  <a:pt x="1067" y="644"/>
                </a:lnTo>
                <a:lnTo>
                  <a:pt x="1027" y="644"/>
                </a:lnTo>
                <a:lnTo>
                  <a:pt x="983" y="681"/>
                </a:lnTo>
                <a:lnTo>
                  <a:pt x="939" y="681"/>
                </a:lnTo>
                <a:lnTo>
                  <a:pt x="899" y="681"/>
                </a:lnTo>
                <a:lnTo>
                  <a:pt x="855" y="716"/>
                </a:lnTo>
                <a:lnTo>
                  <a:pt x="811" y="716"/>
                </a:lnTo>
                <a:lnTo>
                  <a:pt x="767" y="716"/>
                </a:lnTo>
                <a:lnTo>
                  <a:pt x="727" y="751"/>
                </a:lnTo>
                <a:lnTo>
                  <a:pt x="683" y="751"/>
                </a:lnTo>
                <a:lnTo>
                  <a:pt x="639" y="751"/>
                </a:lnTo>
                <a:lnTo>
                  <a:pt x="599" y="751"/>
                </a:lnTo>
                <a:lnTo>
                  <a:pt x="555" y="786"/>
                </a:lnTo>
                <a:lnTo>
                  <a:pt x="511" y="786"/>
                </a:lnTo>
                <a:lnTo>
                  <a:pt x="471" y="786"/>
                </a:lnTo>
                <a:lnTo>
                  <a:pt x="427" y="822"/>
                </a:lnTo>
                <a:lnTo>
                  <a:pt x="383" y="822"/>
                </a:lnTo>
                <a:lnTo>
                  <a:pt x="339" y="822"/>
                </a:lnTo>
                <a:lnTo>
                  <a:pt x="299" y="822"/>
                </a:lnTo>
                <a:lnTo>
                  <a:pt x="255" y="857"/>
                </a:lnTo>
                <a:lnTo>
                  <a:pt x="171" y="857"/>
                </a:lnTo>
                <a:lnTo>
                  <a:pt x="127" y="857"/>
                </a:lnTo>
                <a:lnTo>
                  <a:pt x="83" y="857"/>
                </a:lnTo>
                <a:lnTo>
                  <a:pt x="44" y="892"/>
                </a:lnTo>
                <a:lnTo>
                  <a:pt x="0" y="892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727520" y="5268960"/>
            <a:ext cx="1078200" cy="78120"/>
          </a:xfrm>
          <a:custGeom>
            <a:avLst/>
            <a:gdLst/>
            <a:ahLst/>
            <a:rect l="0" t="0" r="r" b="b"/>
            <a:pathLst>
              <a:path fill="none" w="2995" h="217">
                <a:moveTo>
                  <a:pt x="2995" y="142"/>
                </a:moveTo>
                <a:lnTo>
                  <a:pt x="2951" y="142"/>
                </a:lnTo>
                <a:lnTo>
                  <a:pt x="2911" y="142"/>
                </a:lnTo>
                <a:lnTo>
                  <a:pt x="2867" y="142"/>
                </a:lnTo>
                <a:lnTo>
                  <a:pt x="2823" y="177"/>
                </a:lnTo>
                <a:lnTo>
                  <a:pt x="2779" y="177"/>
                </a:lnTo>
                <a:lnTo>
                  <a:pt x="2739" y="177"/>
                </a:lnTo>
                <a:lnTo>
                  <a:pt x="2695" y="177"/>
                </a:lnTo>
                <a:lnTo>
                  <a:pt x="2611" y="177"/>
                </a:lnTo>
                <a:lnTo>
                  <a:pt x="2567" y="177"/>
                </a:lnTo>
                <a:lnTo>
                  <a:pt x="2523" y="177"/>
                </a:lnTo>
                <a:lnTo>
                  <a:pt x="2483" y="217"/>
                </a:lnTo>
                <a:lnTo>
                  <a:pt x="2439" y="217"/>
                </a:lnTo>
                <a:lnTo>
                  <a:pt x="2395" y="217"/>
                </a:lnTo>
                <a:lnTo>
                  <a:pt x="2351" y="217"/>
                </a:lnTo>
                <a:lnTo>
                  <a:pt x="2311" y="217"/>
                </a:lnTo>
                <a:lnTo>
                  <a:pt x="2267" y="217"/>
                </a:lnTo>
                <a:lnTo>
                  <a:pt x="2183" y="217"/>
                </a:lnTo>
                <a:lnTo>
                  <a:pt x="2139" y="217"/>
                </a:lnTo>
                <a:lnTo>
                  <a:pt x="2095" y="217"/>
                </a:lnTo>
                <a:lnTo>
                  <a:pt x="2055" y="217"/>
                </a:lnTo>
                <a:lnTo>
                  <a:pt x="2011" y="217"/>
                </a:lnTo>
                <a:lnTo>
                  <a:pt x="1967" y="217"/>
                </a:lnTo>
                <a:lnTo>
                  <a:pt x="1928" y="217"/>
                </a:lnTo>
                <a:lnTo>
                  <a:pt x="1883" y="217"/>
                </a:lnTo>
                <a:lnTo>
                  <a:pt x="1839" y="217"/>
                </a:lnTo>
                <a:lnTo>
                  <a:pt x="1756" y="217"/>
                </a:lnTo>
                <a:lnTo>
                  <a:pt x="1711" y="217"/>
                </a:lnTo>
                <a:lnTo>
                  <a:pt x="1667" y="217"/>
                </a:lnTo>
                <a:lnTo>
                  <a:pt x="1628" y="217"/>
                </a:lnTo>
                <a:lnTo>
                  <a:pt x="1584" y="217"/>
                </a:lnTo>
                <a:lnTo>
                  <a:pt x="1539" y="217"/>
                </a:lnTo>
                <a:lnTo>
                  <a:pt x="1500" y="217"/>
                </a:lnTo>
                <a:lnTo>
                  <a:pt x="1455" y="217"/>
                </a:lnTo>
                <a:lnTo>
                  <a:pt x="1411" y="217"/>
                </a:lnTo>
                <a:lnTo>
                  <a:pt x="1327" y="217"/>
                </a:lnTo>
                <a:lnTo>
                  <a:pt x="1283" y="217"/>
                </a:lnTo>
                <a:lnTo>
                  <a:pt x="1239" y="217"/>
                </a:lnTo>
                <a:lnTo>
                  <a:pt x="1199" y="217"/>
                </a:lnTo>
                <a:lnTo>
                  <a:pt x="1155" y="217"/>
                </a:lnTo>
                <a:lnTo>
                  <a:pt x="1111" y="177"/>
                </a:lnTo>
                <a:lnTo>
                  <a:pt x="1071" y="177"/>
                </a:lnTo>
                <a:lnTo>
                  <a:pt x="1027" y="177"/>
                </a:lnTo>
                <a:lnTo>
                  <a:pt x="983" y="177"/>
                </a:lnTo>
                <a:lnTo>
                  <a:pt x="899" y="177"/>
                </a:lnTo>
                <a:lnTo>
                  <a:pt x="855" y="177"/>
                </a:lnTo>
                <a:lnTo>
                  <a:pt x="811" y="142"/>
                </a:lnTo>
                <a:lnTo>
                  <a:pt x="771" y="142"/>
                </a:lnTo>
                <a:lnTo>
                  <a:pt x="727" y="142"/>
                </a:lnTo>
                <a:lnTo>
                  <a:pt x="683" y="142"/>
                </a:lnTo>
                <a:lnTo>
                  <a:pt x="643" y="142"/>
                </a:lnTo>
                <a:lnTo>
                  <a:pt x="599" y="105"/>
                </a:lnTo>
                <a:lnTo>
                  <a:pt x="555" y="105"/>
                </a:lnTo>
                <a:lnTo>
                  <a:pt x="515" y="105"/>
                </a:lnTo>
                <a:lnTo>
                  <a:pt x="471" y="105"/>
                </a:lnTo>
                <a:lnTo>
                  <a:pt x="427" y="70"/>
                </a:lnTo>
                <a:lnTo>
                  <a:pt x="343" y="70"/>
                </a:lnTo>
                <a:lnTo>
                  <a:pt x="299" y="70"/>
                </a:lnTo>
                <a:lnTo>
                  <a:pt x="255" y="70"/>
                </a:lnTo>
                <a:lnTo>
                  <a:pt x="216" y="35"/>
                </a:lnTo>
                <a:lnTo>
                  <a:pt x="171" y="35"/>
                </a:lnTo>
                <a:lnTo>
                  <a:pt x="127" y="35"/>
                </a:lnTo>
                <a:lnTo>
                  <a:pt x="88" y="35"/>
                </a:lnTo>
                <a:lnTo>
                  <a:pt x="4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865680" y="4910040"/>
            <a:ext cx="862200" cy="359280"/>
          </a:xfrm>
          <a:custGeom>
            <a:avLst/>
            <a:gdLst/>
            <a:ahLst/>
            <a:rect l="0" t="0" r="r" b="b"/>
            <a:pathLst>
              <a:path fill="none" w="2395" h="998">
                <a:moveTo>
                  <a:pt x="2395" y="998"/>
                </a:moveTo>
                <a:lnTo>
                  <a:pt x="2355" y="998"/>
                </a:lnTo>
                <a:lnTo>
                  <a:pt x="2311" y="963"/>
                </a:lnTo>
                <a:lnTo>
                  <a:pt x="2267" y="963"/>
                </a:lnTo>
                <a:lnTo>
                  <a:pt x="2223" y="963"/>
                </a:lnTo>
                <a:lnTo>
                  <a:pt x="2183" y="928"/>
                </a:lnTo>
                <a:lnTo>
                  <a:pt x="2139" y="928"/>
                </a:lnTo>
                <a:lnTo>
                  <a:pt x="2095" y="928"/>
                </a:lnTo>
                <a:lnTo>
                  <a:pt x="2055" y="892"/>
                </a:lnTo>
                <a:lnTo>
                  <a:pt x="2011" y="892"/>
                </a:lnTo>
                <a:lnTo>
                  <a:pt x="1967" y="857"/>
                </a:lnTo>
                <a:lnTo>
                  <a:pt x="1928" y="857"/>
                </a:lnTo>
                <a:lnTo>
                  <a:pt x="1883" y="857"/>
                </a:lnTo>
                <a:lnTo>
                  <a:pt x="1839" y="822"/>
                </a:lnTo>
                <a:lnTo>
                  <a:pt x="1795" y="822"/>
                </a:lnTo>
                <a:lnTo>
                  <a:pt x="1756" y="822"/>
                </a:lnTo>
                <a:lnTo>
                  <a:pt x="1711" y="786"/>
                </a:lnTo>
                <a:lnTo>
                  <a:pt x="1667" y="786"/>
                </a:lnTo>
                <a:lnTo>
                  <a:pt x="1628" y="746"/>
                </a:lnTo>
                <a:lnTo>
                  <a:pt x="1584" y="746"/>
                </a:lnTo>
                <a:lnTo>
                  <a:pt x="1539" y="746"/>
                </a:lnTo>
                <a:lnTo>
                  <a:pt x="1500" y="710"/>
                </a:lnTo>
                <a:lnTo>
                  <a:pt x="1456" y="710"/>
                </a:lnTo>
                <a:lnTo>
                  <a:pt x="1412" y="675"/>
                </a:lnTo>
                <a:lnTo>
                  <a:pt x="1372" y="675"/>
                </a:lnTo>
                <a:lnTo>
                  <a:pt x="1372" y="640"/>
                </a:lnTo>
                <a:lnTo>
                  <a:pt x="1328" y="640"/>
                </a:lnTo>
                <a:lnTo>
                  <a:pt x="1284" y="605"/>
                </a:lnTo>
                <a:lnTo>
                  <a:pt x="1240" y="605"/>
                </a:lnTo>
                <a:lnTo>
                  <a:pt x="1200" y="605"/>
                </a:lnTo>
                <a:lnTo>
                  <a:pt x="1155" y="569"/>
                </a:lnTo>
                <a:lnTo>
                  <a:pt x="1111" y="569"/>
                </a:lnTo>
                <a:lnTo>
                  <a:pt x="1071" y="534"/>
                </a:lnTo>
                <a:lnTo>
                  <a:pt x="1027" y="534"/>
                </a:lnTo>
                <a:lnTo>
                  <a:pt x="1027" y="499"/>
                </a:lnTo>
                <a:lnTo>
                  <a:pt x="983" y="499"/>
                </a:lnTo>
                <a:lnTo>
                  <a:pt x="943" y="464"/>
                </a:lnTo>
                <a:lnTo>
                  <a:pt x="899" y="464"/>
                </a:lnTo>
                <a:lnTo>
                  <a:pt x="855" y="428"/>
                </a:lnTo>
                <a:lnTo>
                  <a:pt x="811" y="428"/>
                </a:lnTo>
                <a:lnTo>
                  <a:pt x="771" y="393"/>
                </a:lnTo>
                <a:lnTo>
                  <a:pt x="771" y="393"/>
                </a:lnTo>
                <a:lnTo>
                  <a:pt x="727" y="358"/>
                </a:lnTo>
                <a:lnTo>
                  <a:pt x="683" y="358"/>
                </a:lnTo>
                <a:lnTo>
                  <a:pt x="643" y="322"/>
                </a:lnTo>
                <a:lnTo>
                  <a:pt x="599" y="322"/>
                </a:lnTo>
                <a:lnTo>
                  <a:pt x="599" y="322"/>
                </a:lnTo>
                <a:lnTo>
                  <a:pt x="555" y="283"/>
                </a:lnTo>
                <a:lnTo>
                  <a:pt x="515" y="283"/>
                </a:lnTo>
                <a:lnTo>
                  <a:pt x="471" y="246"/>
                </a:lnTo>
                <a:lnTo>
                  <a:pt x="427" y="246"/>
                </a:lnTo>
                <a:lnTo>
                  <a:pt x="427" y="211"/>
                </a:lnTo>
                <a:lnTo>
                  <a:pt x="383" y="211"/>
                </a:lnTo>
                <a:lnTo>
                  <a:pt x="343" y="176"/>
                </a:lnTo>
                <a:lnTo>
                  <a:pt x="299" y="176"/>
                </a:lnTo>
                <a:lnTo>
                  <a:pt x="299" y="141"/>
                </a:lnTo>
                <a:lnTo>
                  <a:pt x="255" y="141"/>
                </a:lnTo>
                <a:lnTo>
                  <a:pt x="216" y="105"/>
                </a:lnTo>
                <a:lnTo>
                  <a:pt x="216" y="105"/>
                </a:lnTo>
                <a:lnTo>
                  <a:pt x="171" y="70"/>
                </a:lnTo>
                <a:lnTo>
                  <a:pt x="127" y="70"/>
                </a:lnTo>
                <a:lnTo>
                  <a:pt x="88" y="35"/>
                </a:lnTo>
                <a:lnTo>
                  <a:pt x="88" y="35"/>
                </a:lnTo>
                <a:lnTo>
                  <a:pt x="4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403440" y="4498920"/>
            <a:ext cx="462240" cy="411480"/>
          </a:xfrm>
          <a:custGeom>
            <a:avLst/>
            <a:gdLst/>
            <a:ahLst/>
            <a:rect l="0" t="0" r="r" b="b"/>
            <a:pathLst>
              <a:path fill="none" w="1284" h="1143">
                <a:moveTo>
                  <a:pt x="1284" y="1143"/>
                </a:moveTo>
                <a:lnTo>
                  <a:pt x="1284" y="1107"/>
                </a:lnTo>
                <a:lnTo>
                  <a:pt x="1244" y="1107"/>
                </a:lnTo>
                <a:lnTo>
                  <a:pt x="1200" y="1072"/>
                </a:lnTo>
                <a:lnTo>
                  <a:pt x="1200" y="1072"/>
                </a:lnTo>
                <a:lnTo>
                  <a:pt x="1156" y="1037"/>
                </a:lnTo>
                <a:lnTo>
                  <a:pt x="1112" y="997"/>
                </a:lnTo>
                <a:lnTo>
                  <a:pt x="1112" y="997"/>
                </a:lnTo>
                <a:lnTo>
                  <a:pt x="1072" y="962"/>
                </a:lnTo>
                <a:lnTo>
                  <a:pt x="1072" y="962"/>
                </a:lnTo>
                <a:lnTo>
                  <a:pt x="1028" y="927"/>
                </a:lnTo>
                <a:lnTo>
                  <a:pt x="984" y="927"/>
                </a:lnTo>
                <a:lnTo>
                  <a:pt x="984" y="891"/>
                </a:lnTo>
                <a:lnTo>
                  <a:pt x="944" y="891"/>
                </a:lnTo>
                <a:lnTo>
                  <a:pt x="944" y="856"/>
                </a:lnTo>
                <a:lnTo>
                  <a:pt x="900" y="856"/>
                </a:lnTo>
                <a:lnTo>
                  <a:pt x="856" y="821"/>
                </a:lnTo>
                <a:lnTo>
                  <a:pt x="856" y="821"/>
                </a:lnTo>
                <a:lnTo>
                  <a:pt x="816" y="785"/>
                </a:lnTo>
                <a:lnTo>
                  <a:pt x="816" y="785"/>
                </a:lnTo>
                <a:lnTo>
                  <a:pt x="772" y="750"/>
                </a:lnTo>
                <a:lnTo>
                  <a:pt x="772" y="750"/>
                </a:lnTo>
                <a:lnTo>
                  <a:pt x="728" y="715"/>
                </a:lnTo>
                <a:lnTo>
                  <a:pt x="728" y="715"/>
                </a:lnTo>
                <a:lnTo>
                  <a:pt x="684" y="680"/>
                </a:lnTo>
                <a:lnTo>
                  <a:pt x="644" y="680"/>
                </a:lnTo>
                <a:lnTo>
                  <a:pt x="644" y="644"/>
                </a:lnTo>
                <a:lnTo>
                  <a:pt x="599" y="644"/>
                </a:lnTo>
                <a:lnTo>
                  <a:pt x="599" y="609"/>
                </a:lnTo>
                <a:lnTo>
                  <a:pt x="555" y="609"/>
                </a:lnTo>
                <a:lnTo>
                  <a:pt x="555" y="609"/>
                </a:lnTo>
                <a:lnTo>
                  <a:pt x="515" y="574"/>
                </a:lnTo>
                <a:lnTo>
                  <a:pt x="515" y="574"/>
                </a:lnTo>
                <a:lnTo>
                  <a:pt x="515" y="533"/>
                </a:lnTo>
                <a:lnTo>
                  <a:pt x="471" y="533"/>
                </a:lnTo>
                <a:lnTo>
                  <a:pt x="471" y="498"/>
                </a:lnTo>
                <a:lnTo>
                  <a:pt x="427" y="498"/>
                </a:lnTo>
                <a:lnTo>
                  <a:pt x="427" y="463"/>
                </a:lnTo>
                <a:lnTo>
                  <a:pt x="388" y="463"/>
                </a:lnTo>
                <a:lnTo>
                  <a:pt x="388" y="427"/>
                </a:lnTo>
                <a:lnTo>
                  <a:pt x="343" y="427"/>
                </a:lnTo>
                <a:lnTo>
                  <a:pt x="343" y="392"/>
                </a:lnTo>
                <a:lnTo>
                  <a:pt x="343" y="392"/>
                </a:lnTo>
                <a:lnTo>
                  <a:pt x="299" y="357"/>
                </a:lnTo>
                <a:lnTo>
                  <a:pt x="299" y="357"/>
                </a:lnTo>
                <a:lnTo>
                  <a:pt x="260" y="321"/>
                </a:lnTo>
                <a:lnTo>
                  <a:pt x="260" y="321"/>
                </a:lnTo>
                <a:lnTo>
                  <a:pt x="260" y="286"/>
                </a:lnTo>
                <a:lnTo>
                  <a:pt x="216" y="286"/>
                </a:lnTo>
                <a:lnTo>
                  <a:pt x="216" y="251"/>
                </a:lnTo>
                <a:lnTo>
                  <a:pt x="171" y="251"/>
                </a:lnTo>
                <a:lnTo>
                  <a:pt x="171" y="216"/>
                </a:lnTo>
                <a:lnTo>
                  <a:pt x="171" y="216"/>
                </a:lnTo>
                <a:lnTo>
                  <a:pt x="127" y="216"/>
                </a:lnTo>
                <a:lnTo>
                  <a:pt x="127" y="180"/>
                </a:lnTo>
                <a:lnTo>
                  <a:pt x="127" y="180"/>
                </a:lnTo>
                <a:lnTo>
                  <a:pt x="88" y="145"/>
                </a:lnTo>
                <a:lnTo>
                  <a:pt x="88" y="145"/>
                </a:lnTo>
                <a:lnTo>
                  <a:pt x="88" y="105"/>
                </a:lnTo>
                <a:lnTo>
                  <a:pt x="44" y="105"/>
                </a:lnTo>
                <a:lnTo>
                  <a:pt x="44" y="70"/>
                </a:lnTo>
                <a:lnTo>
                  <a:pt x="44" y="70"/>
                </a:lnTo>
                <a:lnTo>
                  <a:pt x="44" y="35"/>
                </a:lnTo>
                <a:lnTo>
                  <a:pt x="0" y="35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95800" y="4152960"/>
            <a:ext cx="108360" cy="346320"/>
          </a:xfrm>
          <a:custGeom>
            <a:avLst/>
            <a:gdLst/>
            <a:ahLst/>
            <a:rect l="0" t="0" r="r" b="b"/>
            <a:pathLst>
              <a:path fill="none" w="301" h="962">
                <a:moveTo>
                  <a:pt x="301" y="962"/>
                </a:moveTo>
                <a:lnTo>
                  <a:pt x="301" y="962"/>
                </a:lnTo>
                <a:lnTo>
                  <a:pt x="262" y="962"/>
                </a:lnTo>
                <a:lnTo>
                  <a:pt x="262" y="927"/>
                </a:lnTo>
                <a:lnTo>
                  <a:pt x="262" y="927"/>
                </a:lnTo>
                <a:lnTo>
                  <a:pt x="262" y="891"/>
                </a:lnTo>
                <a:lnTo>
                  <a:pt x="217" y="891"/>
                </a:lnTo>
                <a:lnTo>
                  <a:pt x="217" y="856"/>
                </a:lnTo>
                <a:lnTo>
                  <a:pt x="217" y="856"/>
                </a:lnTo>
                <a:lnTo>
                  <a:pt x="217" y="821"/>
                </a:lnTo>
                <a:lnTo>
                  <a:pt x="172" y="821"/>
                </a:lnTo>
                <a:lnTo>
                  <a:pt x="172" y="785"/>
                </a:lnTo>
                <a:lnTo>
                  <a:pt x="172" y="785"/>
                </a:lnTo>
                <a:lnTo>
                  <a:pt x="172" y="785"/>
                </a:lnTo>
                <a:lnTo>
                  <a:pt x="172" y="750"/>
                </a:lnTo>
                <a:lnTo>
                  <a:pt x="133" y="750"/>
                </a:lnTo>
                <a:lnTo>
                  <a:pt x="133" y="715"/>
                </a:lnTo>
                <a:lnTo>
                  <a:pt x="133" y="715"/>
                </a:lnTo>
                <a:lnTo>
                  <a:pt x="133" y="680"/>
                </a:lnTo>
                <a:lnTo>
                  <a:pt x="133" y="680"/>
                </a:lnTo>
                <a:lnTo>
                  <a:pt x="89" y="680"/>
                </a:lnTo>
                <a:lnTo>
                  <a:pt x="89" y="644"/>
                </a:lnTo>
                <a:lnTo>
                  <a:pt x="89" y="644"/>
                </a:lnTo>
                <a:lnTo>
                  <a:pt x="89" y="605"/>
                </a:lnTo>
                <a:lnTo>
                  <a:pt x="89" y="605"/>
                </a:lnTo>
                <a:lnTo>
                  <a:pt x="89" y="569"/>
                </a:lnTo>
                <a:lnTo>
                  <a:pt x="89" y="569"/>
                </a:lnTo>
                <a:lnTo>
                  <a:pt x="44" y="534"/>
                </a:lnTo>
                <a:lnTo>
                  <a:pt x="44" y="534"/>
                </a:lnTo>
                <a:lnTo>
                  <a:pt x="44" y="534"/>
                </a:lnTo>
                <a:lnTo>
                  <a:pt x="44" y="499"/>
                </a:lnTo>
                <a:lnTo>
                  <a:pt x="44" y="499"/>
                </a:lnTo>
                <a:lnTo>
                  <a:pt x="44" y="463"/>
                </a:lnTo>
                <a:lnTo>
                  <a:pt x="44" y="463"/>
                </a:lnTo>
                <a:lnTo>
                  <a:pt x="44" y="427"/>
                </a:lnTo>
                <a:lnTo>
                  <a:pt x="44" y="427"/>
                </a:lnTo>
                <a:lnTo>
                  <a:pt x="0" y="427"/>
                </a:lnTo>
                <a:lnTo>
                  <a:pt x="0" y="392"/>
                </a:lnTo>
                <a:lnTo>
                  <a:pt x="0" y="392"/>
                </a:lnTo>
                <a:lnTo>
                  <a:pt x="0" y="357"/>
                </a:lnTo>
                <a:lnTo>
                  <a:pt x="0" y="357"/>
                </a:lnTo>
                <a:lnTo>
                  <a:pt x="0" y="321"/>
                </a:lnTo>
                <a:lnTo>
                  <a:pt x="0" y="321"/>
                </a:lnTo>
                <a:lnTo>
                  <a:pt x="0" y="321"/>
                </a:lnTo>
                <a:lnTo>
                  <a:pt x="0" y="286"/>
                </a:lnTo>
                <a:lnTo>
                  <a:pt x="0" y="286"/>
                </a:lnTo>
                <a:lnTo>
                  <a:pt x="0" y="251"/>
                </a:lnTo>
                <a:lnTo>
                  <a:pt x="0" y="251"/>
                </a:lnTo>
                <a:lnTo>
                  <a:pt x="0" y="216"/>
                </a:lnTo>
                <a:lnTo>
                  <a:pt x="0" y="216"/>
                </a:lnTo>
                <a:lnTo>
                  <a:pt x="0" y="216"/>
                </a:lnTo>
                <a:lnTo>
                  <a:pt x="0" y="176"/>
                </a:lnTo>
                <a:lnTo>
                  <a:pt x="0" y="176"/>
                </a:lnTo>
                <a:lnTo>
                  <a:pt x="0" y="141"/>
                </a:lnTo>
                <a:lnTo>
                  <a:pt x="0" y="141"/>
                </a:lnTo>
                <a:lnTo>
                  <a:pt x="0" y="105"/>
                </a:lnTo>
                <a:lnTo>
                  <a:pt x="0" y="105"/>
                </a:lnTo>
                <a:lnTo>
                  <a:pt x="0" y="105"/>
                </a:lnTo>
                <a:lnTo>
                  <a:pt x="0" y="70"/>
                </a:lnTo>
                <a:lnTo>
                  <a:pt x="0" y="70"/>
                </a:lnTo>
                <a:lnTo>
                  <a:pt x="0" y="35"/>
                </a:lnTo>
                <a:lnTo>
                  <a:pt x="0" y="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95800" y="3781440"/>
            <a:ext cx="262440" cy="371880"/>
          </a:xfrm>
          <a:custGeom>
            <a:avLst/>
            <a:gdLst/>
            <a:ahLst/>
            <a:rect l="0" t="0" r="r" b="b"/>
            <a:pathLst>
              <a:path fill="none" w="729" h="1033">
                <a:moveTo>
                  <a:pt x="0" y="1033"/>
                </a:moveTo>
                <a:lnTo>
                  <a:pt x="0" y="998"/>
                </a:lnTo>
                <a:lnTo>
                  <a:pt x="44" y="998"/>
                </a:lnTo>
                <a:lnTo>
                  <a:pt x="44" y="963"/>
                </a:lnTo>
                <a:lnTo>
                  <a:pt x="44" y="963"/>
                </a:lnTo>
                <a:lnTo>
                  <a:pt x="44" y="928"/>
                </a:lnTo>
                <a:lnTo>
                  <a:pt x="44" y="928"/>
                </a:lnTo>
                <a:lnTo>
                  <a:pt x="44" y="928"/>
                </a:lnTo>
                <a:lnTo>
                  <a:pt x="44" y="892"/>
                </a:lnTo>
                <a:lnTo>
                  <a:pt x="44" y="892"/>
                </a:lnTo>
                <a:lnTo>
                  <a:pt x="44" y="857"/>
                </a:lnTo>
                <a:lnTo>
                  <a:pt x="88" y="857"/>
                </a:lnTo>
                <a:lnTo>
                  <a:pt x="88" y="822"/>
                </a:lnTo>
                <a:lnTo>
                  <a:pt x="88" y="822"/>
                </a:lnTo>
                <a:lnTo>
                  <a:pt x="88" y="786"/>
                </a:lnTo>
                <a:lnTo>
                  <a:pt x="88" y="786"/>
                </a:lnTo>
                <a:lnTo>
                  <a:pt x="88" y="786"/>
                </a:lnTo>
                <a:lnTo>
                  <a:pt x="88" y="746"/>
                </a:lnTo>
                <a:lnTo>
                  <a:pt x="132" y="746"/>
                </a:lnTo>
                <a:lnTo>
                  <a:pt x="132" y="710"/>
                </a:lnTo>
                <a:lnTo>
                  <a:pt x="132" y="710"/>
                </a:lnTo>
                <a:lnTo>
                  <a:pt x="132" y="675"/>
                </a:lnTo>
                <a:lnTo>
                  <a:pt x="132" y="675"/>
                </a:lnTo>
                <a:lnTo>
                  <a:pt x="171" y="675"/>
                </a:lnTo>
                <a:lnTo>
                  <a:pt x="171" y="640"/>
                </a:lnTo>
                <a:lnTo>
                  <a:pt x="171" y="640"/>
                </a:lnTo>
                <a:lnTo>
                  <a:pt x="171" y="605"/>
                </a:lnTo>
                <a:lnTo>
                  <a:pt x="171" y="605"/>
                </a:lnTo>
                <a:lnTo>
                  <a:pt x="217" y="569"/>
                </a:lnTo>
                <a:lnTo>
                  <a:pt x="217" y="569"/>
                </a:lnTo>
                <a:lnTo>
                  <a:pt x="217" y="534"/>
                </a:lnTo>
                <a:lnTo>
                  <a:pt x="217" y="534"/>
                </a:lnTo>
                <a:lnTo>
                  <a:pt x="261" y="534"/>
                </a:lnTo>
                <a:lnTo>
                  <a:pt x="261" y="499"/>
                </a:lnTo>
                <a:lnTo>
                  <a:pt x="261" y="499"/>
                </a:lnTo>
                <a:lnTo>
                  <a:pt x="261" y="464"/>
                </a:lnTo>
                <a:lnTo>
                  <a:pt x="300" y="464"/>
                </a:lnTo>
                <a:lnTo>
                  <a:pt x="300" y="428"/>
                </a:lnTo>
                <a:lnTo>
                  <a:pt x="300" y="428"/>
                </a:lnTo>
                <a:lnTo>
                  <a:pt x="300" y="393"/>
                </a:lnTo>
                <a:lnTo>
                  <a:pt x="344" y="393"/>
                </a:lnTo>
                <a:lnTo>
                  <a:pt x="344" y="358"/>
                </a:lnTo>
                <a:lnTo>
                  <a:pt x="344" y="358"/>
                </a:lnTo>
                <a:lnTo>
                  <a:pt x="389" y="358"/>
                </a:lnTo>
                <a:lnTo>
                  <a:pt x="389" y="318"/>
                </a:lnTo>
                <a:lnTo>
                  <a:pt x="389" y="318"/>
                </a:lnTo>
                <a:lnTo>
                  <a:pt x="428" y="283"/>
                </a:lnTo>
                <a:lnTo>
                  <a:pt x="428" y="283"/>
                </a:lnTo>
                <a:lnTo>
                  <a:pt x="428" y="246"/>
                </a:lnTo>
                <a:lnTo>
                  <a:pt x="472" y="246"/>
                </a:lnTo>
                <a:lnTo>
                  <a:pt x="472" y="211"/>
                </a:lnTo>
                <a:lnTo>
                  <a:pt x="472" y="211"/>
                </a:lnTo>
                <a:lnTo>
                  <a:pt x="516" y="176"/>
                </a:lnTo>
                <a:lnTo>
                  <a:pt x="516" y="176"/>
                </a:lnTo>
                <a:lnTo>
                  <a:pt x="516" y="141"/>
                </a:lnTo>
                <a:lnTo>
                  <a:pt x="562" y="141"/>
                </a:lnTo>
                <a:lnTo>
                  <a:pt x="562" y="105"/>
                </a:lnTo>
                <a:lnTo>
                  <a:pt x="601" y="105"/>
                </a:lnTo>
                <a:lnTo>
                  <a:pt x="601" y="105"/>
                </a:lnTo>
                <a:lnTo>
                  <a:pt x="601" y="70"/>
                </a:lnTo>
                <a:lnTo>
                  <a:pt x="645" y="70"/>
                </a:lnTo>
                <a:lnTo>
                  <a:pt x="645" y="35"/>
                </a:lnTo>
                <a:lnTo>
                  <a:pt x="689" y="35"/>
                </a:lnTo>
                <a:lnTo>
                  <a:pt x="689" y="0"/>
                </a:lnTo>
                <a:lnTo>
                  <a:pt x="729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557520" y="3370320"/>
            <a:ext cx="632160" cy="411480"/>
          </a:xfrm>
          <a:custGeom>
            <a:avLst/>
            <a:gdLst/>
            <a:ahLst/>
            <a:rect l="0" t="0" r="r" b="b"/>
            <a:pathLst>
              <a:path fill="none" w="1756" h="1143">
                <a:moveTo>
                  <a:pt x="0" y="1143"/>
                </a:moveTo>
                <a:lnTo>
                  <a:pt x="0" y="1107"/>
                </a:lnTo>
                <a:lnTo>
                  <a:pt x="0" y="1107"/>
                </a:lnTo>
                <a:lnTo>
                  <a:pt x="44" y="1072"/>
                </a:lnTo>
                <a:lnTo>
                  <a:pt x="44" y="1072"/>
                </a:lnTo>
                <a:lnTo>
                  <a:pt x="88" y="1037"/>
                </a:lnTo>
                <a:lnTo>
                  <a:pt x="88" y="1037"/>
                </a:lnTo>
                <a:lnTo>
                  <a:pt x="127" y="997"/>
                </a:lnTo>
                <a:lnTo>
                  <a:pt x="127" y="997"/>
                </a:lnTo>
                <a:lnTo>
                  <a:pt x="171" y="962"/>
                </a:lnTo>
                <a:lnTo>
                  <a:pt x="171" y="962"/>
                </a:lnTo>
                <a:lnTo>
                  <a:pt x="216" y="927"/>
                </a:lnTo>
                <a:lnTo>
                  <a:pt x="216" y="927"/>
                </a:lnTo>
                <a:lnTo>
                  <a:pt x="255" y="891"/>
                </a:lnTo>
                <a:lnTo>
                  <a:pt x="255" y="891"/>
                </a:lnTo>
                <a:lnTo>
                  <a:pt x="299" y="856"/>
                </a:lnTo>
                <a:lnTo>
                  <a:pt x="299" y="856"/>
                </a:lnTo>
                <a:lnTo>
                  <a:pt x="343" y="821"/>
                </a:lnTo>
                <a:lnTo>
                  <a:pt x="343" y="821"/>
                </a:lnTo>
                <a:lnTo>
                  <a:pt x="388" y="785"/>
                </a:lnTo>
                <a:lnTo>
                  <a:pt x="427" y="785"/>
                </a:lnTo>
                <a:lnTo>
                  <a:pt x="427" y="750"/>
                </a:lnTo>
                <a:lnTo>
                  <a:pt x="471" y="750"/>
                </a:lnTo>
                <a:lnTo>
                  <a:pt x="471" y="715"/>
                </a:lnTo>
                <a:lnTo>
                  <a:pt x="515" y="715"/>
                </a:lnTo>
                <a:lnTo>
                  <a:pt x="555" y="680"/>
                </a:lnTo>
                <a:lnTo>
                  <a:pt x="555" y="680"/>
                </a:lnTo>
                <a:lnTo>
                  <a:pt x="599" y="644"/>
                </a:lnTo>
                <a:lnTo>
                  <a:pt x="599" y="644"/>
                </a:lnTo>
                <a:lnTo>
                  <a:pt x="643" y="609"/>
                </a:lnTo>
                <a:lnTo>
                  <a:pt x="683" y="609"/>
                </a:lnTo>
                <a:lnTo>
                  <a:pt x="683" y="568"/>
                </a:lnTo>
                <a:lnTo>
                  <a:pt x="727" y="568"/>
                </a:lnTo>
                <a:lnTo>
                  <a:pt x="727" y="533"/>
                </a:lnTo>
                <a:lnTo>
                  <a:pt x="771" y="533"/>
                </a:lnTo>
                <a:lnTo>
                  <a:pt x="815" y="498"/>
                </a:lnTo>
                <a:lnTo>
                  <a:pt x="815" y="498"/>
                </a:lnTo>
                <a:lnTo>
                  <a:pt x="855" y="463"/>
                </a:lnTo>
                <a:lnTo>
                  <a:pt x="900" y="463"/>
                </a:lnTo>
                <a:lnTo>
                  <a:pt x="900" y="427"/>
                </a:lnTo>
                <a:lnTo>
                  <a:pt x="944" y="427"/>
                </a:lnTo>
                <a:lnTo>
                  <a:pt x="984" y="392"/>
                </a:lnTo>
                <a:lnTo>
                  <a:pt x="1028" y="392"/>
                </a:lnTo>
                <a:lnTo>
                  <a:pt x="1028" y="357"/>
                </a:lnTo>
                <a:lnTo>
                  <a:pt x="1072" y="357"/>
                </a:lnTo>
                <a:lnTo>
                  <a:pt x="1112" y="321"/>
                </a:lnTo>
                <a:lnTo>
                  <a:pt x="1112" y="321"/>
                </a:lnTo>
                <a:lnTo>
                  <a:pt x="1156" y="286"/>
                </a:lnTo>
                <a:lnTo>
                  <a:pt x="1200" y="286"/>
                </a:lnTo>
                <a:lnTo>
                  <a:pt x="1240" y="251"/>
                </a:lnTo>
                <a:lnTo>
                  <a:pt x="1240" y="251"/>
                </a:lnTo>
                <a:lnTo>
                  <a:pt x="1284" y="216"/>
                </a:lnTo>
                <a:lnTo>
                  <a:pt x="1328" y="216"/>
                </a:lnTo>
                <a:lnTo>
                  <a:pt x="1372" y="180"/>
                </a:lnTo>
                <a:lnTo>
                  <a:pt x="1372" y="180"/>
                </a:lnTo>
                <a:lnTo>
                  <a:pt x="1412" y="145"/>
                </a:lnTo>
                <a:lnTo>
                  <a:pt x="1456" y="145"/>
                </a:lnTo>
                <a:lnTo>
                  <a:pt x="1500" y="105"/>
                </a:lnTo>
                <a:lnTo>
                  <a:pt x="1539" y="105"/>
                </a:lnTo>
                <a:lnTo>
                  <a:pt x="1539" y="70"/>
                </a:lnTo>
                <a:lnTo>
                  <a:pt x="1584" y="70"/>
                </a:lnTo>
                <a:lnTo>
                  <a:pt x="1628" y="35"/>
                </a:lnTo>
                <a:lnTo>
                  <a:pt x="1667" y="35"/>
                </a:lnTo>
                <a:lnTo>
                  <a:pt x="1711" y="0"/>
                </a:lnTo>
                <a:lnTo>
                  <a:pt x="1756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189320" y="3102120"/>
            <a:ext cx="984600" cy="268560"/>
          </a:xfrm>
          <a:custGeom>
            <a:avLst/>
            <a:gdLst/>
            <a:ahLst/>
            <a:rect l="0" t="0" r="r" b="b"/>
            <a:pathLst>
              <a:path fill="none" w="2735" h="746">
                <a:moveTo>
                  <a:pt x="0" y="746"/>
                </a:moveTo>
                <a:lnTo>
                  <a:pt x="0" y="710"/>
                </a:lnTo>
                <a:lnTo>
                  <a:pt x="44" y="710"/>
                </a:lnTo>
                <a:lnTo>
                  <a:pt x="83" y="675"/>
                </a:lnTo>
                <a:lnTo>
                  <a:pt x="127" y="675"/>
                </a:lnTo>
                <a:lnTo>
                  <a:pt x="171" y="675"/>
                </a:lnTo>
                <a:lnTo>
                  <a:pt x="211" y="640"/>
                </a:lnTo>
                <a:lnTo>
                  <a:pt x="255" y="640"/>
                </a:lnTo>
                <a:lnTo>
                  <a:pt x="299" y="605"/>
                </a:lnTo>
                <a:lnTo>
                  <a:pt x="299" y="605"/>
                </a:lnTo>
                <a:lnTo>
                  <a:pt x="339" y="569"/>
                </a:lnTo>
                <a:lnTo>
                  <a:pt x="383" y="569"/>
                </a:lnTo>
                <a:lnTo>
                  <a:pt x="427" y="534"/>
                </a:lnTo>
                <a:lnTo>
                  <a:pt x="471" y="534"/>
                </a:lnTo>
                <a:lnTo>
                  <a:pt x="511" y="499"/>
                </a:lnTo>
                <a:lnTo>
                  <a:pt x="555" y="499"/>
                </a:lnTo>
                <a:lnTo>
                  <a:pt x="599" y="499"/>
                </a:lnTo>
                <a:lnTo>
                  <a:pt x="639" y="464"/>
                </a:lnTo>
                <a:lnTo>
                  <a:pt x="683" y="464"/>
                </a:lnTo>
                <a:lnTo>
                  <a:pt x="727" y="424"/>
                </a:lnTo>
                <a:lnTo>
                  <a:pt x="767" y="424"/>
                </a:lnTo>
                <a:lnTo>
                  <a:pt x="811" y="389"/>
                </a:lnTo>
                <a:lnTo>
                  <a:pt x="855" y="389"/>
                </a:lnTo>
                <a:lnTo>
                  <a:pt x="895" y="389"/>
                </a:lnTo>
                <a:lnTo>
                  <a:pt x="939" y="352"/>
                </a:lnTo>
                <a:lnTo>
                  <a:pt x="983" y="352"/>
                </a:lnTo>
                <a:lnTo>
                  <a:pt x="983" y="352"/>
                </a:lnTo>
                <a:lnTo>
                  <a:pt x="1027" y="317"/>
                </a:lnTo>
                <a:lnTo>
                  <a:pt x="1067" y="317"/>
                </a:lnTo>
                <a:lnTo>
                  <a:pt x="1111" y="282"/>
                </a:lnTo>
                <a:lnTo>
                  <a:pt x="1155" y="282"/>
                </a:lnTo>
                <a:lnTo>
                  <a:pt x="1239" y="282"/>
                </a:lnTo>
                <a:lnTo>
                  <a:pt x="1283" y="246"/>
                </a:lnTo>
                <a:lnTo>
                  <a:pt x="1322" y="246"/>
                </a:lnTo>
                <a:lnTo>
                  <a:pt x="1368" y="246"/>
                </a:lnTo>
                <a:lnTo>
                  <a:pt x="1412" y="211"/>
                </a:lnTo>
                <a:lnTo>
                  <a:pt x="1456" y="211"/>
                </a:lnTo>
                <a:lnTo>
                  <a:pt x="1495" y="211"/>
                </a:lnTo>
                <a:lnTo>
                  <a:pt x="1539" y="176"/>
                </a:lnTo>
                <a:lnTo>
                  <a:pt x="1584" y="176"/>
                </a:lnTo>
                <a:lnTo>
                  <a:pt x="1623" y="176"/>
                </a:lnTo>
                <a:lnTo>
                  <a:pt x="1667" y="141"/>
                </a:lnTo>
                <a:lnTo>
                  <a:pt x="1711" y="141"/>
                </a:lnTo>
                <a:lnTo>
                  <a:pt x="1751" y="141"/>
                </a:lnTo>
                <a:lnTo>
                  <a:pt x="1795" y="141"/>
                </a:lnTo>
                <a:lnTo>
                  <a:pt x="1839" y="105"/>
                </a:lnTo>
                <a:lnTo>
                  <a:pt x="1879" y="105"/>
                </a:lnTo>
                <a:lnTo>
                  <a:pt x="1923" y="105"/>
                </a:lnTo>
                <a:lnTo>
                  <a:pt x="1967" y="70"/>
                </a:lnTo>
                <a:lnTo>
                  <a:pt x="2011" y="70"/>
                </a:lnTo>
                <a:lnTo>
                  <a:pt x="2051" y="70"/>
                </a:lnTo>
                <a:lnTo>
                  <a:pt x="2139" y="70"/>
                </a:lnTo>
                <a:lnTo>
                  <a:pt x="2179" y="70"/>
                </a:lnTo>
                <a:lnTo>
                  <a:pt x="2223" y="35"/>
                </a:lnTo>
                <a:lnTo>
                  <a:pt x="2267" y="35"/>
                </a:lnTo>
                <a:lnTo>
                  <a:pt x="2307" y="35"/>
                </a:lnTo>
                <a:lnTo>
                  <a:pt x="2351" y="35"/>
                </a:lnTo>
                <a:lnTo>
                  <a:pt x="2395" y="35"/>
                </a:lnTo>
                <a:lnTo>
                  <a:pt x="2439" y="0"/>
                </a:lnTo>
                <a:lnTo>
                  <a:pt x="2479" y="0"/>
                </a:lnTo>
                <a:lnTo>
                  <a:pt x="2523" y="0"/>
                </a:lnTo>
                <a:lnTo>
                  <a:pt x="2607" y="0"/>
                </a:lnTo>
                <a:lnTo>
                  <a:pt x="2651" y="0"/>
                </a:lnTo>
                <a:lnTo>
                  <a:pt x="2695" y="0"/>
                </a:lnTo>
                <a:lnTo>
                  <a:pt x="2735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173560" y="3087720"/>
            <a:ext cx="1078200" cy="128880"/>
          </a:xfrm>
          <a:custGeom>
            <a:avLst/>
            <a:gdLst/>
            <a:ahLst/>
            <a:rect l="0" t="0" r="r" b="b"/>
            <a:pathLst>
              <a:path fill="none" w="2995" h="358">
                <a:moveTo>
                  <a:pt x="0" y="39"/>
                </a:moveTo>
                <a:lnTo>
                  <a:pt x="44" y="0"/>
                </a:lnTo>
                <a:lnTo>
                  <a:pt x="88" y="0"/>
                </a:lnTo>
                <a:lnTo>
                  <a:pt x="127" y="0"/>
                </a:lnTo>
                <a:lnTo>
                  <a:pt x="171" y="0"/>
                </a:lnTo>
                <a:lnTo>
                  <a:pt x="260" y="0"/>
                </a:lnTo>
                <a:lnTo>
                  <a:pt x="299" y="0"/>
                </a:lnTo>
                <a:lnTo>
                  <a:pt x="343" y="0"/>
                </a:lnTo>
                <a:lnTo>
                  <a:pt x="388" y="0"/>
                </a:lnTo>
                <a:lnTo>
                  <a:pt x="427" y="0"/>
                </a:lnTo>
                <a:lnTo>
                  <a:pt x="471" y="0"/>
                </a:lnTo>
                <a:lnTo>
                  <a:pt x="515" y="0"/>
                </a:lnTo>
                <a:lnTo>
                  <a:pt x="555" y="0"/>
                </a:lnTo>
                <a:lnTo>
                  <a:pt x="643" y="0"/>
                </a:lnTo>
                <a:lnTo>
                  <a:pt x="687" y="0"/>
                </a:lnTo>
                <a:lnTo>
                  <a:pt x="727" y="0"/>
                </a:lnTo>
                <a:lnTo>
                  <a:pt x="771" y="0"/>
                </a:lnTo>
                <a:lnTo>
                  <a:pt x="815" y="0"/>
                </a:lnTo>
                <a:lnTo>
                  <a:pt x="855" y="0"/>
                </a:lnTo>
                <a:lnTo>
                  <a:pt x="899" y="0"/>
                </a:lnTo>
                <a:lnTo>
                  <a:pt x="943" y="0"/>
                </a:lnTo>
                <a:lnTo>
                  <a:pt x="1027" y="0"/>
                </a:lnTo>
                <a:lnTo>
                  <a:pt x="1071" y="0"/>
                </a:lnTo>
                <a:lnTo>
                  <a:pt x="1111" y="0"/>
                </a:lnTo>
                <a:lnTo>
                  <a:pt x="1155" y="0"/>
                </a:lnTo>
                <a:lnTo>
                  <a:pt x="1199" y="0"/>
                </a:lnTo>
                <a:lnTo>
                  <a:pt x="1243" y="0"/>
                </a:lnTo>
                <a:lnTo>
                  <a:pt x="1283" y="0"/>
                </a:lnTo>
                <a:lnTo>
                  <a:pt x="1327" y="39"/>
                </a:lnTo>
                <a:lnTo>
                  <a:pt x="1411" y="39"/>
                </a:lnTo>
                <a:lnTo>
                  <a:pt x="1455" y="39"/>
                </a:lnTo>
                <a:lnTo>
                  <a:pt x="1500" y="39"/>
                </a:lnTo>
                <a:lnTo>
                  <a:pt x="1539" y="39"/>
                </a:lnTo>
                <a:lnTo>
                  <a:pt x="1584" y="39"/>
                </a:lnTo>
                <a:lnTo>
                  <a:pt x="1628" y="74"/>
                </a:lnTo>
                <a:lnTo>
                  <a:pt x="1672" y="74"/>
                </a:lnTo>
                <a:lnTo>
                  <a:pt x="1711" y="74"/>
                </a:lnTo>
                <a:lnTo>
                  <a:pt x="1756" y="74"/>
                </a:lnTo>
                <a:lnTo>
                  <a:pt x="1800" y="74"/>
                </a:lnTo>
                <a:lnTo>
                  <a:pt x="1883" y="110"/>
                </a:lnTo>
                <a:lnTo>
                  <a:pt x="1928" y="110"/>
                </a:lnTo>
                <a:lnTo>
                  <a:pt x="1967" y="110"/>
                </a:lnTo>
                <a:lnTo>
                  <a:pt x="2011" y="110"/>
                </a:lnTo>
                <a:lnTo>
                  <a:pt x="2055" y="110"/>
                </a:lnTo>
                <a:lnTo>
                  <a:pt x="2095" y="145"/>
                </a:lnTo>
                <a:lnTo>
                  <a:pt x="2139" y="145"/>
                </a:lnTo>
                <a:lnTo>
                  <a:pt x="2183" y="145"/>
                </a:lnTo>
                <a:lnTo>
                  <a:pt x="2227" y="145"/>
                </a:lnTo>
                <a:lnTo>
                  <a:pt x="2267" y="181"/>
                </a:lnTo>
                <a:lnTo>
                  <a:pt x="2311" y="181"/>
                </a:lnTo>
                <a:lnTo>
                  <a:pt x="2355" y="181"/>
                </a:lnTo>
                <a:lnTo>
                  <a:pt x="2395" y="217"/>
                </a:lnTo>
                <a:lnTo>
                  <a:pt x="2483" y="217"/>
                </a:lnTo>
                <a:lnTo>
                  <a:pt x="2523" y="217"/>
                </a:lnTo>
                <a:lnTo>
                  <a:pt x="2567" y="252"/>
                </a:lnTo>
                <a:lnTo>
                  <a:pt x="2611" y="252"/>
                </a:lnTo>
                <a:lnTo>
                  <a:pt x="2655" y="252"/>
                </a:lnTo>
                <a:lnTo>
                  <a:pt x="2695" y="287"/>
                </a:lnTo>
                <a:lnTo>
                  <a:pt x="2739" y="287"/>
                </a:lnTo>
                <a:lnTo>
                  <a:pt x="2783" y="287"/>
                </a:lnTo>
                <a:lnTo>
                  <a:pt x="2823" y="322"/>
                </a:lnTo>
                <a:lnTo>
                  <a:pt x="2867" y="322"/>
                </a:lnTo>
                <a:lnTo>
                  <a:pt x="2911" y="322"/>
                </a:lnTo>
                <a:lnTo>
                  <a:pt x="2951" y="358"/>
                </a:lnTo>
                <a:lnTo>
                  <a:pt x="2995" y="358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251400" y="3216240"/>
            <a:ext cx="800640" cy="386280"/>
          </a:xfrm>
          <a:custGeom>
            <a:avLst/>
            <a:gdLst/>
            <a:ahLst/>
            <a:rect l="0" t="0" r="r" b="b"/>
            <a:pathLst>
              <a:path fill="none" w="2224" h="1073">
                <a:moveTo>
                  <a:pt x="0" y="0"/>
                </a:moveTo>
                <a:lnTo>
                  <a:pt x="44" y="35"/>
                </a:lnTo>
                <a:lnTo>
                  <a:pt x="88" y="35"/>
                </a:lnTo>
                <a:lnTo>
                  <a:pt x="127" y="35"/>
                </a:lnTo>
                <a:lnTo>
                  <a:pt x="171" y="70"/>
                </a:lnTo>
                <a:lnTo>
                  <a:pt x="216" y="70"/>
                </a:lnTo>
                <a:lnTo>
                  <a:pt x="255" y="70"/>
                </a:lnTo>
                <a:lnTo>
                  <a:pt x="299" y="105"/>
                </a:lnTo>
                <a:lnTo>
                  <a:pt x="343" y="105"/>
                </a:lnTo>
                <a:lnTo>
                  <a:pt x="383" y="145"/>
                </a:lnTo>
                <a:lnTo>
                  <a:pt x="427" y="145"/>
                </a:lnTo>
                <a:lnTo>
                  <a:pt x="471" y="180"/>
                </a:lnTo>
                <a:lnTo>
                  <a:pt x="471" y="180"/>
                </a:lnTo>
                <a:lnTo>
                  <a:pt x="511" y="180"/>
                </a:lnTo>
                <a:lnTo>
                  <a:pt x="555" y="216"/>
                </a:lnTo>
                <a:lnTo>
                  <a:pt x="600" y="216"/>
                </a:lnTo>
                <a:lnTo>
                  <a:pt x="644" y="251"/>
                </a:lnTo>
                <a:lnTo>
                  <a:pt x="684" y="251"/>
                </a:lnTo>
                <a:lnTo>
                  <a:pt x="728" y="287"/>
                </a:lnTo>
                <a:lnTo>
                  <a:pt x="772" y="287"/>
                </a:lnTo>
                <a:lnTo>
                  <a:pt x="812" y="322"/>
                </a:lnTo>
                <a:lnTo>
                  <a:pt x="856" y="322"/>
                </a:lnTo>
                <a:lnTo>
                  <a:pt x="900" y="358"/>
                </a:lnTo>
                <a:lnTo>
                  <a:pt x="900" y="358"/>
                </a:lnTo>
                <a:lnTo>
                  <a:pt x="940" y="358"/>
                </a:lnTo>
                <a:lnTo>
                  <a:pt x="984" y="393"/>
                </a:lnTo>
                <a:lnTo>
                  <a:pt x="1028" y="393"/>
                </a:lnTo>
                <a:lnTo>
                  <a:pt x="1072" y="428"/>
                </a:lnTo>
                <a:lnTo>
                  <a:pt x="1112" y="428"/>
                </a:lnTo>
                <a:lnTo>
                  <a:pt x="1156" y="464"/>
                </a:lnTo>
                <a:lnTo>
                  <a:pt x="1156" y="464"/>
                </a:lnTo>
                <a:lnTo>
                  <a:pt x="1200" y="499"/>
                </a:lnTo>
                <a:lnTo>
                  <a:pt x="1240" y="499"/>
                </a:lnTo>
                <a:lnTo>
                  <a:pt x="1284" y="534"/>
                </a:lnTo>
                <a:lnTo>
                  <a:pt x="1328" y="534"/>
                </a:lnTo>
                <a:lnTo>
                  <a:pt x="1328" y="574"/>
                </a:lnTo>
                <a:lnTo>
                  <a:pt x="1368" y="574"/>
                </a:lnTo>
                <a:lnTo>
                  <a:pt x="1412" y="609"/>
                </a:lnTo>
                <a:lnTo>
                  <a:pt x="1456" y="609"/>
                </a:lnTo>
                <a:lnTo>
                  <a:pt x="1495" y="644"/>
                </a:lnTo>
                <a:lnTo>
                  <a:pt x="1495" y="644"/>
                </a:lnTo>
                <a:lnTo>
                  <a:pt x="1539" y="680"/>
                </a:lnTo>
                <a:lnTo>
                  <a:pt x="1584" y="680"/>
                </a:lnTo>
                <a:lnTo>
                  <a:pt x="1628" y="715"/>
                </a:lnTo>
                <a:lnTo>
                  <a:pt x="1628" y="715"/>
                </a:lnTo>
                <a:lnTo>
                  <a:pt x="1667" y="750"/>
                </a:lnTo>
                <a:lnTo>
                  <a:pt x="1712" y="750"/>
                </a:lnTo>
                <a:lnTo>
                  <a:pt x="1757" y="785"/>
                </a:lnTo>
                <a:lnTo>
                  <a:pt x="1757" y="785"/>
                </a:lnTo>
                <a:lnTo>
                  <a:pt x="1796" y="822"/>
                </a:lnTo>
                <a:lnTo>
                  <a:pt x="1840" y="822"/>
                </a:lnTo>
                <a:lnTo>
                  <a:pt x="1840" y="857"/>
                </a:lnTo>
                <a:lnTo>
                  <a:pt x="1884" y="857"/>
                </a:lnTo>
                <a:lnTo>
                  <a:pt x="1924" y="892"/>
                </a:lnTo>
                <a:lnTo>
                  <a:pt x="1968" y="892"/>
                </a:lnTo>
                <a:lnTo>
                  <a:pt x="1968" y="928"/>
                </a:lnTo>
                <a:lnTo>
                  <a:pt x="2012" y="928"/>
                </a:lnTo>
                <a:lnTo>
                  <a:pt x="2056" y="963"/>
                </a:lnTo>
                <a:lnTo>
                  <a:pt x="2056" y="963"/>
                </a:lnTo>
                <a:lnTo>
                  <a:pt x="2096" y="998"/>
                </a:lnTo>
                <a:lnTo>
                  <a:pt x="2096" y="998"/>
                </a:lnTo>
                <a:lnTo>
                  <a:pt x="2140" y="1038"/>
                </a:lnTo>
                <a:lnTo>
                  <a:pt x="2184" y="1038"/>
                </a:lnTo>
                <a:lnTo>
                  <a:pt x="2184" y="1073"/>
                </a:lnTo>
                <a:lnTo>
                  <a:pt x="2224" y="1073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7051680" y="3602160"/>
            <a:ext cx="416160" cy="397080"/>
          </a:xfrm>
          <a:custGeom>
            <a:avLst/>
            <a:gdLst/>
            <a:ahLst/>
            <a:rect l="0" t="0" r="r" b="b"/>
            <a:pathLst>
              <a:path fill="none" w="1156" h="1103">
                <a:moveTo>
                  <a:pt x="0" y="0"/>
                </a:moveTo>
                <a:lnTo>
                  <a:pt x="44" y="35"/>
                </a:lnTo>
                <a:lnTo>
                  <a:pt x="44" y="35"/>
                </a:lnTo>
                <a:lnTo>
                  <a:pt x="88" y="70"/>
                </a:lnTo>
                <a:lnTo>
                  <a:pt x="88" y="70"/>
                </a:lnTo>
                <a:lnTo>
                  <a:pt x="127" y="105"/>
                </a:lnTo>
                <a:lnTo>
                  <a:pt x="171" y="105"/>
                </a:lnTo>
                <a:lnTo>
                  <a:pt x="171" y="141"/>
                </a:lnTo>
                <a:lnTo>
                  <a:pt x="216" y="141"/>
                </a:lnTo>
                <a:lnTo>
                  <a:pt x="216" y="176"/>
                </a:lnTo>
                <a:lnTo>
                  <a:pt x="255" y="176"/>
                </a:lnTo>
                <a:lnTo>
                  <a:pt x="255" y="211"/>
                </a:lnTo>
                <a:lnTo>
                  <a:pt x="299" y="211"/>
                </a:lnTo>
                <a:lnTo>
                  <a:pt x="299" y="246"/>
                </a:lnTo>
                <a:lnTo>
                  <a:pt x="343" y="246"/>
                </a:lnTo>
                <a:lnTo>
                  <a:pt x="343" y="282"/>
                </a:lnTo>
                <a:lnTo>
                  <a:pt x="388" y="282"/>
                </a:lnTo>
                <a:lnTo>
                  <a:pt x="427" y="317"/>
                </a:lnTo>
                <a:lnTo>
                  <a:pt x="427" y="317"/>
                </a:lnTo>
                <a:lnTo>
                  <a:pt x="471" y="352"/>
                </a:lnTo>
                <a:lnTo>
                  <a:pt x="471" y="352"/>
                </a:lnTo>
                <a:lnTo>
                  <a:pt x="515" y="392"/>
                </a:lnTo>
                <a:lnTo>
                  <a:pt x="515" y="392"/>
                </a:lnTo>
                <a:lnTo>
                  <a:pt x="515" y="427"/>
                </a:lnTo>
                <a:lnTo>
                  <a:pt x="555" y="427"/>
                </a:lnTo>
                <a:lnTo>
                  <a:pt x="555" y="463"/>
                </a:lnTo>
                <a:lnTo>
                  <a:pt x="600" y="463"/>
                </a:lnTo>
                <a:lnTo>
                  <a:pt x="600" y="498"/>
                </a:lnTo>
                <a:lnTo>
                  <a:pt x="644" y="498"/>
                </a:lnTo>
                <a:lnTo>
                  <a:pt x="644" y="533"/>
                </a:lnTo>
                <a:lnTo>
                  <a:pt x="684" y="533"/>
                </a:lnTo>
                <a:lnTo>
                  <a:pt x="684" y="569"/>
                </a:lnTo>
                <a:lnTo>
                  <a:pt x="684" y="569"/>
                </a:lnTo>
                <a:lnTo>
                  <a:pt x="728" y="569"/>
                </a:lnTo>
                <a:lnTo>
                  <a:pt x="728" y="605"/>
                </a:lnTo>
                <a:lnTo>
                  <a:pt x="772" y="605"/>
                </a:lnTo>
                <a:lnTo>
                  <a:pt x="772" y="640"/>
                </a:lnTo>
                <a:lnTo>
                  <a:pt x="772" y="640"/>
                </a:lnTo>
                <a:lnTo>
                  <a:pt x="816" y="675"/>
                </a:lnTo>
                <a:lnTo>
                  <a:pt x="816" y="675"/>
                </a:lnTo>
                <a:lnTo>
                  <a:pt x="856" y="710"/>
                </a:lnTo>
                <a:lnTo>
                  <a:pt x="856" y="710"/>
                </a:lnTo>
                <a:lnTo>
                  <a:pt x="856" y="746"/>
                </a:lnTo>
                <a:lnTo>
                  <a:pt x="900" y="746"/>
                </a:lnTo>
                <a:lnTo>
                  <a:pt x="900" y="781"/>
                </a:lnTo>
                <a:lnTo>
                  <a:pt x="900" y="781"/>
                </a:lnTo>
                <a:lnTo>
                  <a:pt x="944" y="816"/>
                </a:lnTo>
                <a:lnTo>
                  <a:pt x="944" y="816"/>
                </a:lnTo>
                <a:lnTo>
                  <a:pt x="944" y="816"/>
                </a:lnTo>
                <a:lnTo>
                  <a:pt x="984" y="856"/>
                </a:lnTo>
                <a:lnTo>
                  <a:pt x="984" y="856"/>
                </a:lnTo>
                <a:lnTo>
                  <a:pt x="984" y="891"/>
                </a:lnTo>
                <a:lnTo>
                  <a:pt x="1028" y="891"/>
                </a:lnTo>
                <a:lnTo>
                  <a:pt x="1028" y="927"/>
                </a:lnTo>
                <a:lnTo>
                  <a:pt x="1028" y="927"/>
                </a:lnTo>
                <a:lnTo>
                  <a:pt x="1028" y="962"/>
                </a:lnTo>
                <a:lnTo>
                  <a:pt x="1072" y="962"/>
                </a:lnTo>
                <a:lnTo>
                  <a:pt x="1072" y="962"/>
                </a:lnTo>
                <a:lnTo>
                  <a:pt x="1072" y="997"/>
                </a:lnTo>
                <a:lnTo>
                  <a:pt x="1112" y="997"/>
                </a:lnTo>
                <a:lnTo>
                  <a:pt x="1112" y="1032"/>
                </a:lnTo>
                <a:lnTo>
                  <a:pt x="1112" y="1032"/>
                </a:lnTo>
                <a:lnTo>
                  <a:pt x="1112" y="1068"/>
                </a:lnTo>
                <a:lnTo>
                  <a:pt x="1156" y="1068"/>
                </a:lnTo>
                <a:lnTo>
                  <a:pt x="1156" y="1103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467480" y="3998880"/>
            <a:ext cx="78120" cy="346320"/>
          </a:xfrm>
          <a:custGeom>
            <a:avLst/>
            <a:gdLst/>
            <a:ahLst/>
            <a:rect l="0" t="0" r="r" b="b"/>
            <a:pathLst>
              <a:path fill="none" w="217" h="96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35"/>
                </a:lnTo>
                <a:lnTo>
                  <a:pt x="44" y="35"/>
                </a:lnTo>
                <a:lnTo>
                  <a:pt x="44" y="70"/>
                </a:lnTo>
                <a:lnTo>
                  <a:pt x="44" y="70"/>
                </a:lnTo>
                <a:lnTo>
                  <a:pt x="44" y="105"/>
                </a:lnTo>
                <a:lnTo>
                  <a:pt x="44" y="105"/>
                </a:lnTo>
                <a:lnTo>
                  <a:pt x="83" y="105"/>
                </a:lnTo>
                <a:lnTo>
                  <a:pt x="83" y="141"/>
                </a:lnTo>
                <a:lnTo>
                  <a:pt x="83" y="141"/>
                </a:lnTo>
                <a:lnTo>
                  <a:pt x="83" y="180"/>
                </a:lnTo>
                <a:lnTo>
                  <a:pt x="83" y="180"/>
                </a:lnTo>
                <a:lnTo>
                  <a:pt x="83" y="216"/>
                </a:lnTo>
                <a:lnTo>
                  <a:pt x="128" y="216"/>
                </a:lnTo>
                <a:lnTo>
                  <a:pt x="128" y="216"/>
                </a:lnTo>
                <a:lnTo>
                  <a:pt x="128" y="251"/>
                </a:lnTo>
                <a:lnTo>
                  <a:pt x="128" y="251"/>
                </a:lnTo>
                <a:lnTo>
                  <a:pt x="128" y="286"/>
                </a:lnTo>
                <a:lnTo>
                  <a:pt x="128" y="286"/>
                </a:lnTo>
                <a:lnTo>
                  <a:pt x="128" y="321"/>
                </a:lnTo>
                <a:lnTo>
                  <a:pt x="128" y="321"/>
                </a:lnTo>
                <a:lnTo>
                  <a:pt x="172" y="321"/>
                </a:lnTo>
                <a:lnTo>
                  <a:pt x="172" y="357"/>
                </a:lnTo>
                <a:lnTo>
                  <a:pt x="172" y="357"/>
                </a:lnTo>
                <a:lnTo>
                  <a:pt x="172" y="392"/>
                </a:lnTo>
                <a:lnTo>
                  <a:pt x="172" y="392"/>
                </a:lnTo>
                <a:lnTo>
                  <a:pt x="172" y="427"/>
                </a:lnTo>
                <a:lnTo>
                  <a:pt x="172" y="427"/>
                </a:lnTo>
                <a:lnTo>
                  <a:pt x="172" y="427"/>
                </a:lnTo>
                <a:lnTo>
                  <a:pt x="172" y="463"/>
                </a:lnTo>
                <a:lnTo>
                  <a:pt x="172" y="463"/>
                </a:lnTo>
                <a:lnTo>
                  <a:pt x="172" y="499"/>
                </a:lnTo>
                <a:lnTo>
                  <a:pt x="172" y="499"/>
                </a:lnTo>
                <a:lnTo>
                  <a:pt x="172" y="534"/>
                </a:lnTo>
                <a:lnTo>
                  <a:pt x="217" y="534"/>
                </a:lnTo>
                <a:lnTo>
                  <a:pt x="217" y="534"/>
                </a:lnTo>
                <a:lnTo>
                  <a:pt x="217" y="569"/>
                </a:lnTo>
                <a:lnTo>
                  <a:pt x="217" y="569"/>
                </a:lnTo>
                <a:lnTo>
                  <a:pt x="217" y="605"/>
                </a:lnTo>
                <a:lnTo>
                  <a:pt x="217" y="605"/>
                </a:lnTo>
                <a:lnTo>
                  <a:pt x="217" y="605"/>
                </a:lnTo>
                <a:lnTo>
                  <a:pt x="217" y="644"/>
                </a:lnTo>
                <a:lnTo>
                  <a:pt x="217" y="644"/>
                </a:lnTo>
                <a:lnTo>
                  <a:pt x="217" y="680"/>
                </a:lnTo>
                <a:lnTo>
                  <a:pt x="217" y="680"/>
                </a:lnTo>
                <a:lnTo>
                  <a:pt x="217" y="715"/>
                </a:lnTo>
                <a:lnTo>
                  <a:pt x="217" y="715"/>
                </a:lnTo>
                <a:lnTo>
                  <a:pt x="217" y="715"/>
                </a:lnTo>
                <a:lnTo>
                  <a:pt x="172" y="750"/>
                </a:lnTo>
                <a:lnTo>
                  <a:pt x="172" y="750"/>
                </a:lnTo>
                <a:lnTo>
                  <a:pt x="172" y="785"/>
                </a:lnTo>
                <a:lnTo>
                  <a:pt x="172" y="785"/>
                </a:lnTo>
                <a:lnTo>
                  <a:pt x="172" y="785"/>
                </a:lnTo>
                <a:lnTo>
                  <a:pt x="172" y="821"/>
                </a:lnTo>
                <a:lnTo>
                  <a:pt x="172" y="821"/>
                </a:lnTo>
                <a:lnTo>
                  <a:pt x="172" y="856"/>
                </a:lnTo>
                <a:lnTo>
                  <a:pt x="172" y="856"/>
                </a:lnTo>
                <a:lnTo>
                  <a:pt x="172" y="891"/>
                </a:lnTo>
                <a:lnTo>
                  <a:pt x="172" y="891"/>
                </a:lnTo>
                <a:lnTo>
                  <a:pt x="172" y="891"/>
                </a:lnTo>
                <a:lnTo>
                  <a:pt x="172" y="927"/>
                </a:lnTo>
                <a:lnTo>
                  <a:pt x="172" y="927"/>
                </a:lnTo>
                <a:lnTo>
                  <a:pt x="128" y="962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237440" y="4344840"/>
            <a:ext cx="276480" cy="360720"/>
          </a:xfrm>
          <a:custGeom>
            <a:avLst/>
            <a:gdLst/>
            <a:ahLst/>
            <a:rect l="0" t="0" r="r" b="b"/>
            <a:pathLst>
              <a:path fill="none" w="768" h="1002">
                <a:moveTo>
                  <a:pt x="768" y="0"/>
                </a:moveTo>
                <a:lnTo>
                  <a:pt x="768" y="0"/>
                </a:lnTo>
                <a:lnTo>
                  <a:pt x="768" y="35"/>
                </a:lnTo>
                <a:lnTo>
                  <a:pt x="768" y="35"/>
                </a:lnTo>
                <a:lnTo>
                  <a:pt x="768" y="35"/>
                </a:lnTo>
                <a:lnTo>
                  <a:pt x="768" y="70"/>
                </a:lnTo>
                <a:lnTo>
                  <a:pt x="768" y="70"/>
                </a:lnTo>
                <a:lnTo>
                  <a:pt x="724" y="110"/>
                </a:lnTo>
                <a:lnTo>
                  <a:pt x="724" y="110"/>
                </a:lnTo>
                <a:lnTo>
                  <a:pt x="724" y="145"/>
                </a:lnTo>
                <a:lnTo>
                  <a:pt x="724" y="145"/>
                </a:lnTo>
                <a:lnTo>
                  <a:pt x="724" y="145"/>
                </a:lnTo>
                <a:lnTo>
                  <a:pt x="724" y="180"/>
                </a:lnTo>
                <a:lnTo>
                  <a:pt x="684" y="180"/>
                </a:lnTo>
                <a:lnTo>
                  <a:pt x="684" y="216"/>
                </a:lnTo>
                <a:lnTo>
                  <a:pt x="684" y="216"/>
                </a:lnTo>
                <a:lnTo>
                  <a:pt x="684" y="251"/>
                </a:lnTo>
                <a:lnTo>
                  <a:pt x="684" y="251"/>
                </a:lnTo>
                <a:lnTo>
                  <a:pt x="640" y="251"/>
                </a:lnTo>
                <a:lnTo>
                  <a:pt x="640" y="286"/>
                </a:lnTo>
                <a:lnTo>
                  <a:pt x="640" y="286"/>
                </a:lnTo>
                <a:lnTo>
                  <a:pt x="640" y="321"/>
                </a:lnTo>
                <a:lnTo>
                  <a:pt x="640" y="321"/>
                </a:lnTo>
                <a:lnTo>
                  <a:pt x="596" y="357"/>
                </a:lnTo>
                <a:lnTo>
                  <a:pt x="596" y="357"/>
                </a:lnTo>
                <a:lnTo>
                  <a:pt x="596" y="357"/>
                </a:lnTo>
                <a:lnTo>
                  <a:pt x="596" y="392"/>
                </a:lnTo>
                <a:lnTo>
                  <a:pt x="556" y="392"/>
                </a:lnTo>
                <a:lnTo>
                  <a:pt x="556" y="427"/>
                </a:lnTo>
                <a:lnTo>
                  <a:pt x="556" y="427"/>
                </a:lnTo>
                <a:lnTo>
                  <a:pt x="556" y="463"/>
                </a:lnTo>
                <a:lnTo>
                  <a:pt x="512" y="463"/>
                </a:lnTo>
                <a:lnTo>
                  <a:pt x="512" y="498"/>
                </a:lnTo>
                <a:lnTo>
                  <a:pt x="512" y="498"/>
                </a:lnTo>
                <a:lnTo>
                  <a:pt x="468" y="498"/>
                </a:lnTo>
                <a:lnTo>
                  <a:pt x="468" y="534"/>
                </a:lnTo>
                <a:lnTo>
                  <a:pt x="468" y="534"/>
                </a:lnTo>
                <a:lnTo>
                  <a:pt x="428" y="574"/>
                </a:lnTo>
                <a:lnTo>
                  <a:pt x="428" y="574"/>
                </a:lnTo>
                <a:lnTo>
                  <a:pt x="428" y="609"/>
                </a:lnTo>
                <a:lnTo>
                  <a:pt x="383" y="609"/>
                </a:lnTo>
                <a:lnTo>
                  <a:pt x="383" y="644"/>
                </a:lnTo>
                <a:lnTo>
                  <a:pt x="383" y="644"/>
                </a:lnTo>
                <a:lnTo>
                  <a:pt x="339" y="680"/>
                </a:lnTo>
                <a:lnTo>
                  <a:pt x="339" y="680"/>
                </a:lnTo>
                <a:lnTo>
                  <a:pt x="339" y="680"/>
                </a:lnTo>
                <a:lnTo>
                  <a:pt x="299" y="715"/>
                </a:lnTo>
                <a:lnTo>
                  <a:pt x="299" y="715"/>
                </a:lnTo>
                <a:lnTo>
                  <a:pt x="299" y="750"/>
                </a:lnTo>
                <a:lnTo>
                  <a:pt x="255" y="750"/>
                </a:lnTo>
                <a:lnTo>
                  <a:pt x="255" y="785"/>
                </a:lnTo>
                <a:lnTo>
                  <a:pt x="211" y="785"/>
                </a:lnTo>
                <a:lnTo>
                  <a:pt x="211" y="821"/>
                </a:lnTo>
                <a:lnTo>
                  <a:pt x="211" y="821"/>
                </a:lnTo>
                <a:lnTo>
                  <a:pt x="167" y="856"/>
                </a:lnTo>
                <a:lnTo>
                  <a:pt x="167" y="856"/>
                </a:lnTo>
                <a:lnTo>
                  <a:pt x="127" y="891"/>
                </a:lnTo>
                <a:lnTo>
                  <a:pt x="127" y="891"/>
                </a:lnTo>
                <a:lnTo>
                  <a:pt x="83" y="927"/>
                </a:lnTo>
                <a:lnTo>
                  <a:pt x="83" y="927"/>
                </a:lnTo>
                <a:lnTo>
                  <a:pt x="83" y="962"/>
                </a:lnTo>
                <a:lnTo>
                  <a:pt x="39" y="962"/>
                </a:lnTo>
                <a:lnTo>
                  <a:pt x="39" y="1002"/>
                </a:lnTo>
                <a:lnTo>
                  <a:pt x="0" y="1002"/>
                </a:lnTo>
                <a:lnTo>
                  <a:pt x="0" y="1002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851520" y="4705200"/>
            <a:ext cx="386280" cy="255960"/>
          </a:xfrm>
          <a:custGeom>
            <a:avLst/>
            <a:gdLst/>
            <a:ahLst/>
            <a:rect l="0" t="0" r="r" b="b"/>
            <a:pathLst>
              <a:path fill="none" w="1073" h="711">
                <a:moveTo>
                  <a:pt x="1073" y="0"/>
                </a:moveTo>
                <a:lnTo>
                  <a:pt x="1029" y="35"/>
                </a:lnTo>
                <a:lnTo>
                  <a:pt x="1029" y="35"/>
                </a:lnTo>
                <a:lnTo>
                  <a:pt x="985" y="70"/>
                </a:lnTo>
                <a:lnTo>
                  <a:pt x="985" y="70"/>
                </a:lnTo>
                <a:lnTo>
                  <a:pt x="945" y="105"/>
                </a:lnTo>
                <a:lnTo>
                  <a:pt x="945" y="105"/>
                </a:lnTo>
                <a:lnTo>
                  <a:pt x="901" y="141"/>
                </a:lnTo>
                <a:lnTo>
                  <a:pt x="901" y="141"/>
                </a:lnTo>
                <a:lnTo>
                  <a:pt x="857" y="176"/>
                </a:lnTo>
                <a:lnTo>
                  <a:pt x="857" y="176"/>
                </a:lnTo>
                <a:lnTo>
                  <a:pt x="813" y="212"/>
                </a:lnTo>
                <a:lnTo>
                  <a:pt x="772" y="212"/>
                </a:lnTo>
                <a:lnTo>
                  <a:pt x="772" y="247"/>
                </a:lnTo>
                <a:lnTo>
                  <a:pt x="728" y="247"/>
                </a:lnTo>
                <a:lnTo>
                  <a:pt x="728" y="283"/>
                </a:lnTo>
                <a:lnTo>
                  <a:pt x="684" y="283"/>
                </a:lnTo>
                <a:lnTo>
                  <a:pt x="684" y="318"/>
                </a:lnTo>
                <a:lnTo>
                  <a:pt x="644" y="318"/>
                </a:lnTo>
                <a:lnTo>
                  <a:pt x="600" y="353"/>
                </a:lnTo>
                <a:lnTo>
                  <a:pt x="600" y="353"/>
                </a:lnTo>
                <a:lnTo>
                  <a:pt x="556" y="389"/>
                </a:lnTo>
                <a:lnTo>
                  <a:pt x="556" y="389"/>
                </a:lnTo>
                <a:lnTo>
                  <a:pt x="516" y="424"/>
                </a:lnTo>
                <a:lnTo>
                  <a:pt x="472" y="424"/>
                </a:lnTo>
                <a:lnTo>
                  <a:pt x="472" y="464"/>
                </a:lnTo>
                <a:lnTo>
                  <a:pt x="428" y="464"/>
                </a:lnTo>
                <a:lnTo>
                  <a:pt x="389" y="499"/>
                </a:lnTo>
                <a:lnTo>
                  <a:pt x="389" y="499"/>
                </a:lnTo>
                <a:lnTo>
                  <a:pt x="344" y="535"/>
                </a:lnTo>
                <a:lnTo>
                  <a:pt x="300" y="535"/>
                </a:lnTo>
                <a:lnTo>
                  <a:pt x="300" y="570"/>
                </a:lnTo>
                <a:lnTo>
                  <a:pt x="255" y="570"/>
                </a:lnTo>
                <a:lnTo>
                  <a:pt x="216" y="606"/>
                </a:lnTo>
                <a:lnTo>
                  <a:pt x="216" y="606"/>
                </a:lnTo>
                <a:lnTo>
                  <a:pt x="171" y="641"/>
                </a:lnTo>
                <a:lnTo>
                  <a:pt x="127" y="641"/>
                </a:lnTo>
                <a:lnTo>
                  <a:pt x="127" y="676"/>
                </a:lnTo>
                <a:lnTo>
                  <a:pt x="88" y="676"/>
                </a:lnTo>
                <a:lnTo>
                  <a:pt x="44" y="711"/>
                </a:lnTo>
                <a:lnTo>
                  <a:pt x="0" y="711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775480" y="4230720"/>
            <a:ext cx="614880" cy="576720"/>
          </a:xfrm>
          <a:custGeom>
            <a:avLst/>
            <a:gdLst/>
            <a:ahLst/>
            <a:rect l="0" t="0" r="r" b="b"/>
            <a:pathLst>
              <a:path fill="none" w="1708" h="1602">
                <a:moveTo>
                  <a:pt x="1708" y="0"/>
                </a:moveTo>
                <a:lnTo>
                  <a:pt x="1708" y="0"/>
                </a:lnTo>
                <a:lnTo>
                  <a:pt x="1708" y="35"/>
                </a:lnTo>
                <a:lnTo>
                  <a:pt x="1708" y="70"/>
                </a:lnTo>
                <a:lnTo>
                  <a:pt x="1708" y="105"/>
                </a:lnTo>
                <a:lnTo>
                  <a:pt x="1708" y="141"/>
                </a:lnTo>
                <a:lnTo>
                  <a:pt x="1668" y="176"/>
                </a:lnTo>
                <a:lnTo>
                  <a:pt x="1668" y="176"/>
                </a:lnTo>
                <a:lnTo>
                  <a:pt x="1668" y="211"/>
                </a:lnTo>
                <a:lnTo>
                  <a:pt x="1668" y="246"/>
                </a:lnTo>
                <a:lnTo>
                  <a:pt x="1668" y="282"/>
                </a:lnTo>
                <a:lnTo>
                  <a:pt x="1668" y="317"/>
                </a:lnTo>
                <a:lnTo>
                  <a:pt x="1624" y="352"/>
                </a:lnTo>
                <a:lnTo>
                  <a:pt x="1624" y="352"/>
                </a:lnTo>
                <a:lnTo>
                  <a:pt x="1624" y="388"/>
                </a:lnTo>
                <a:lnTo>
                  <a:pt x="1580" y="428"/>
                </a:lnTo>
                <a:lnTo>
                  <a:pt x="1580" y="464"/>
                </a:lnTo>
                <a:lnTo>
                  <a:pt x="1580" y="499"/>
                </a:lnTo>
                <a:lnTo>
                  <a:pt x="1540" y="534"/>
                </a:lnTo>
                <a:lnTo>
                  <a:pt x="1540" y="534"/>
                </a:lnTo>
                <a:lnTo>
                  <a:pt x="1540" y="569"/>
                </a:lnTo>
                <a:lnTo>
                  <a:pt x="1496" y="605"/>
                </a:lnTo>
                <a:lnTo>
                  <a:pt x="1496" y="640"/>
                </a:lnTo>
                <a:lnTo>
                  <a:pt x="1452" y="675"/>
                </a:lnTo>
                <a:lnTo>
                  <a:pt x="1452" y="710"/>
                </a:lnTo>
                <a:lnTo>
                  <a:pt x="1413" y="710"/>
                </a:lnTo>
                <a:lnTo>
                  <a:pt x="1413" y="746"/>
                </a:lnTo>
                <a:lnTo>
                  <a:pt x="1369" y="781"/>
                </a:lnTo>
                <a:lnTo>
                  <a:pt x="1369" y="816"/>
                </a:lnTo>
                <a:lnTo>
                  <a:pt x="1324" y="816"/>
                </a:lnTo>
                <a:lnTo>
                  <a:pt x="1279" y="852"/>
                </a:lnTo>
                <a:lnTo>
                  <a:pt x="1279" y="891"/>
                </a:lnTo>
                <a:lnTo>
                  <a:pt x="1240" y="927"/>
                </a:lnTo>
                <a:lnTo>
                  <a:pt x="1240" y="927"/>
                </a:lnTo>
                <a:lnTo>
                  <a:pt x="1196" y="962"/>
                </a:lnTo>
                <a:lnTo>
                  <a:pt x="1151" y="997"/>
                </a:lnTo>
                <a:lnTo>
                  <a:pt x="1112" y="1032"/>
                </a:lnTo>
                <a:lnTo>
                  <a:pt x="1112" y="1032"/>
                </a:lnTo>
                <a:lnTo>
                  <a:pt x="1068" y="1068"/>
                </a:lnTo>
                <a:lnTo>
                  <a:pt x="1024" y="1103"/>
                </a:lnTo>
                <a:lnTo>
                  <a:pt x="984" y="1138"/>
                </a:lnTo>
                <a:lnTo>
                  <a:pt x="984" y="1138"/>
                </a:lnTo>
                <a:lnTo>
                  <a:pt x="940" y="1173"/>
                </a:lnTo>
                <a:lnTo>
                  <a:pt x="896" y="1210"/>
                </a:lnTo>
                <a:lnTo>
                  <a:pt x="852" y="1210"/>
                </a:lnTo>
                <a:lnTo>
                  <a:pt x="812" y="1245"/>
                </a:lnTo>
                <a:lnTo>
                  <a:pt x="768" y="1245"/>
                </a:lnTo>
                <a:lnTo>
                  <a:pt x="724" y="1280"/>
                </a:lnTo>
                <a:lnTo>
                  <a:pt x="684" y="1320"/>
                </a:lnTo>
                <a:lnTo>
                  <a:pt x="640" y="1320"/>
                </a:lnTo>
                <a:lnTo>
                  <a:pt x="596" y="1355"/>
                </a:lnTo>
                <a:lnTo>
                  <a:pt x="556" y="1355"/>
                </a:lnTo>
                <a:lnTo>
                  <a:pt x="556" y="1391"/>
                </a:lnTo>
                <a:lnTo>
                  <a:pt x="512" y="1426"/>
                </a:lnTo>
                <a:lnTo>
                  <a:pt x="423" y="1426"/>
                </a:lnTo>
                <a:lnTo>
                  <a:pt x="383" y="1461"/>
                </a:lnTo>
                <a:lnTo>
                  <a:pt x="339" y="1461"/>
                </a:lnTo>
                <a:lnTo>
                  <a:pt x="295" y="1496"/>
                </a:lnTo>
                <a:lnTo>
                  <a:pt x="255" y="1496"/>
                </a:lnTo>
                <a:lnTo>
                  <a:pt x="211" y="1532"/>
                </a:lnTo>
                <a:lnTo>
                  <a:pt x="167" y="1532"/>
                </a:lnTo>
                <a:lnTo>
                  <a:pt x="127" y="1532"/>
                </a:lnTo>
                <a:lnTo>
                  <a:pt x="83" y="1567"/>
                </a:lnTo>
                <a:lnTo>
                  <a:pt x="39" y="1567"/>
                </a:lnTo>
                <a:lnTo>
                  <a:pt x="0" y="1602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651200" y="4640400"/>
            <a:ext cx="1124280" cy="217800"/>
          </a:xfrm>
          <a:custGeom>
            <a:avLst/>
            <a:gdLst/>
            <a:ahLst/>
            <a:rect l="0" t="0" r="r" b="b"/>
            <a:pathLst>
              <a:path fill="none" w="3123" h="605">
                <a:moveTo>
                  <a:pt x="3123" y="464"/>
                </a:moveTo>
                <a:lnTo>
                  <a:pt x="3034" y="464"/>
                </a:lnTo>
                <a:lnTo>
                  <a:pt x="2990" y="464"/>
                </a:lnTo>
                <a:lnTo>
                  <a:pt x="2951" y="499"/>
                </a:lnTo>
                <a:lnTo>
                  <a:pt x="2907" y="499"/>
                </a:lnTo>
                <a:lnTo>
                  <a:pt x="2862" y="499"/>
                </a:lnTo>
                <a:lnTo>
                  <a:pt x="2823" y="534"/>
                </a:lnTo>
                <a:lnTo>
                  <a:pt x="2735" y="534"/>
                </a:lnTo>
                <a:lnTo>
                  <a:pt x="2695" y="534"/>
                </a:lnTo>
                <a:lnTo>
                  <a:pt x="2651" y="534"/>
                </a:lnTo>
                <a:lnTo>
                  <a:pt x="2607" y="569"/>
                </a:lnTo>
                <a:lnTo>
                  <a:pt x="2563" y="569"/>
                </a:lnTo>
                <a:lnTo>
                  <a:pt x="2479" y="569"/>
                </a:lnTo>
                <a:lnTo>
                  <a:pt x="2435" y="569"/>
                </a:lnTo>
                <a:lnTo>
                  <a:pt x="2395" y="569"/>
                </a:lnTo>
                <a:lnTo>
                  <a:pt x="2351" y="569"/>
                </a:lnTo>
                <a:lnTo>
                  <a:pt x="2267" y="569"/>
                </a:lnTo>
                <a:lnTo>
                  <a:pt x="2223" y="605"/>
                </a:lnTo>
                <a:lnTo>
                  <a:pt x="2179" y="605"/>
                </a:lnTo>
                <a:lnTo>
                  <a:pt x="2139" y="605"/>
                </a:lnTo>
                <a:lnTo>
                  <a:pt x="2051" y="605"/>
                </a:lnTo>
                <a:lnTo>
                  <a:pt x="2007" y="605"/>
                </a:lnTo>
                <a:lnTo>
                  <a:pt x="1967" y="605"/>
                </a:lnTo>
                <a:lnTo>
                  <a:pt x="1923" y="605"/>
                </a:lnTo>
                <a:lnTo>
                  <a:pt x="1839" y="569"/>
                </a:lnTo>
                <a:lnTo>
                  <a:pt x="1795" y="569"/>
                </a:lnTo>
                <a:lnTo>
                  <a:pt x="1751" y="569"/>
                </a:lnTo>
                <a:lnTo>
                  <a:pt x="1711" y="569"/>
                </a:lnTo>
                <a:lnTo>
                  <a:pt x="1623" y="569"/>
                </a:lnTo>
                <a:lnTo>
                  <a:pt x="1579" y="569"/>
                </a:lnTo>
                <a:lnTo>
                  <a:pt x="1538" y="569"/>
                </a:lnTo>
                <a:lnTo>
                  <a:pt x="1494" y="569"/>
                </a:lnTo>
                <a:lnTo>
                  <a:pt x="1450" y="534"/>
                </a:lnTo>
                <a:lnTo>
                  <a:pt x="1367" y="534"/>
                </a:lnTo>
                <a:lnTo>
                  <a:pt x="1322" y="534"/>
                </a:lnTo>
                <a:lnTo>
                  <a:pt x="1283" y="534"/>
                </a:lnTo>
                <a:lnTo>
                  <a:pt x="1239" y="499"/>
                </a:lnTo>
                <a:lnTo>
                  <a:pt x="1195" y="499"/>
                </a:lnTo>
                <a:lnTo>
                  <a:pt x="1111" y="499"/>
                </a:lnTo>
                <a:lnTo>
                  <a:pt x="1067" y="464"/>
                </a:lnTo>
                <a:lnTo>
                  <a:pt x="1023" y="464"/>
                </a:lnTo>
                <a:lnTo>
                  <a:pt x="983" y="464"/>
                </a:lnTo>
                <a:lnTo>
                  <a:pt x="939" y="428"/>
                </a:lnTo>
                <a:lnTo>
                  <a:pt x="895" y="428"/>
                </a:lnTo>
                <a:lnTo>
                  <a:pt x="811" y="393"/>
                </a:lnTo>
                <a:lnTo>
                  <a:pt x="767" y="393"/>
                </a:lnTo>
                <a:lnTo>
                  <a:pt x="727" y="358"/>
                </a:lnTo>
                <a:lnTo>
                  <a:pt x="683" y="358"/>
                </a:lnTo>
                <a:lnTo>
                  <a:pt x="639" y="322"/>
                </a:lnTo>
                <a:lnTo>
                  <a:pt x="595" y="322"/>
                </a:lnTo>
                <a:lnTo>
                  <a:pt x="555" y="286"/>
                </a:lnTo>
                <a:lnTo>
                  <a:pt x="511" y="286"/>
                </a:lnTo>
                <a:lnTo>
                  <a:pt x="467" y="251"/>
                </a:lnTo>
                <a:lnTo>
                  <a:pt x="427" y="251"/>
                </a:lnTo>
                <a:lnTo>
                  <a:pt x="383" y="216"/>
                </a:lnTo>
                <a:lnTo>
                  <a:pt x="339" y="216"/>
                </a:lnTo>
                <a:lnTo>
                  <a:pt x="299" y="180"/>
                </a:lnTo>
                <a:lnTo>
                  <a:pt x="255" y="141"/>
                </a:lnTo>
                <a:lnTo>
                  <a:pt x="211" y="141"/>
                </a:lnTo>
                <a:lnTo>
                  <a:pt x="171" y="105"/>
                </a:lnTo>
                <a:lnTo>
                  <a:pt x="127" y="70"/>
                </a:lnTo>
                <a:lnTo>
                  <a:pt x="83" y="70"/>
                </a:lnTo>
                <a:lnTo>
                  <a:pt x="39" y="35"/>
                </a:lnTo>
                <a:lnTo>
                  <a:pt x="39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373640" y="3960720"/>
            <a:ext cx="278280" cy="679680"/>
          </a:xfrm>
          <a:custGeom>
            <a:avLst/>
            <a:gdLst/>
            <a:ahLst/>
            <a:rect l="0" t="0" r="r" b="b"/>
            <a:pathLst>
              <a:path fill="none" w="773" h="1888">
                <a:moveTo>
                  <a:pt x="773" y="1888"/>
                </a:moveTo>
                <a:lnTo>
                  <a:pt x="729" y="1853"/>
                </a:lnTo>
                <a:lnTo>
                  <a:pt x="685" y="1817"/>
                </a:lnTo>
                <a:lnTo>
                  <a:pt x="645" y="1817"/>
                </a:lnTo>
                <a:lnTo>
                  <a:pt x="645" y="1782"/>
                </a:lnTo>
                <a:lnTo>
                  <a:pt x="601" y="1747"/>
                </a:lnTo>
                <a:lnTo>
                  <a:pt x="556" y="1711"/>
                </a:lnTo>
                <a:lnTo>
                  <a:pt x="516" y="1711"/>
                </a:lnTo>
                <a:lnTo>
                  <a:pt x="516" y="1676"/>
                </a:lnTo>
                <a:lnTo>
                  <a:pt x="472" y="1641"/>
                </a:lnTo>
                <a:lnTo>
                  <a:pt x="428" y="1601"/>
                </a:lnTo>
                <a:lnTo>
                  <a:pt x="428" y="1601"/>
                </a:lnTo>
                <a:lnTo>
                  <a:pt x="384" y="1566"/>
                </a:lnTo>
                <a:lnTo>
                  <a:pt x="384" y="1531"/>
                </a:lnTo>
                <a:lnTo>
                  <a:pt x="344" y="1495"/>
                </a:lnTo>
                <a:lnTo>
                  <a:pt x="300" y="1495"/>
                </a:lnTo>
                <a:lnTo>
                  <a:pt x="300" y="1460"/>
                </a:lnTo>
                <a:lnTo>
                  <a:pt x="256" y="1425"/>
                </a:lnTo>
                <a:lnTo>
                  <a:pt x="256" y="1390"/>
                </a:lnTo>
                <a:lnTo>
                  <a:pt x="217" y="1354"/>
                </a:lnTo>
                <a:lnTo>
                  <a:pt x="217" y="1319"/>
                </a:lnTo>
                <a:lnTo>
                  <a:pt x="171" y="1319"/>
                </a:lnTo>
                <a:lnTo>
                  <a:pt x="171" y="1284"/>
                </a:lnTo>
                <a:lnTo>
                  <a:pt x="171" y="1248"/>
                </a:lnTo>
                <a:lnTo>
                  <a:pt x="127" y="1213"/>
                </a:lnTo>
                <a:lnTo>
                  <a:pt x="127" y="1178"/>
                </a:lnTo>
                <a:lnTo>
                  <a:pt x="127" y="1138"/>
                </a:lnTo>
                <a:lnTo>
                  <a:pt x="88" y="1138"/>
                </a:lnTo>
                <a:lnTo>
                  <a:pt x="88" y="1103"/>
                </a:lnTo>
                <a:lnTo>
                  <a:pt x="88" y="1068"/>
                </a:lnTo>
                <a:lnTo>
                  <a:pt x="88" y="1032"/>
                </a:lnTo>
                <a:lnTo>
                  <a:pt x="44" y="997"/>
                </a:lnTo>
                <a:lnTo>
                  <a:pt x="44" y="962"/>
                </a:lnTo>
                <a:lnTo>
                  <a:pt x="44" y="926"/>
                </a:lnTo>
                <a:lnTo>
                  <a:pt x="44" y="926"/>
                </a:lnTo>
                <a:lnTo>
                  <a:pt x="44" y="890"/>
                </a:lnTo>
                <a:lnTo>
                  <a:pt x="44" y="855"/>
                </a:lnTo>
                <a:lnTo>
                  <a:pt x="44" y="820"/>
                </a:lnTo>
                <a:lnTo>
                  <a:pt x="0" y="784"/>
                </a:lnTo>
                <a:lnTo>
                  <a:pt x="0" y="749"/>
                </a:lnTo>
                <a:lnTo>
                  <a:pt x="0" y="709"/>
                </a:lnTo>
                <a:lnTo>
                  <a:pt x="0" y="709"/>
                </a:lnTo>
                <a:lnTo>
                  <a:pt x="0" y="674"/>
                </a:lnTo>
                <a:lnTo>
                  <a:pt x="0" y="639"/>
                </a:lnTo>
                <a:lnTo>
                  <a:pt x="44" y="604"/>
                </a:lnTo>
                <a:lnTo>
                  <a:pt x="44" y="568"/>
                </a:lnTo>
                <a:lnTo>
                  <a:pt x="44" y="533"/>
                </a:lnTo>
                <a:lnTo>
                  <a:pt x="44" y="498"/>
                </a:lnTo>
                <a:lnTo>
                  <a:pt x="44" y="463"/>
                </a:lnTo>
                <a:lnTo>
                  <a:pt x="44" y="463"/>
                </a:lnTo>
                <a:lnTo>
                  <a:pt x="44" y="427"/>
                </a:lnTo>
                <a:lnTo>
                  <a:pt x="88" y="392"/>
                </a:lnTo>
                <a:lnTo>
                  <a:pt x="88" y="357"/>
                </a:lnTo>
                <a:lnTo>
                  <a:pt x="88" y="321"/>
                </a:lnTo>
                <a:lnTo>
                  <a:pt x="88" y="286"/>
                </a:lnTo>
                <a:lnTo>
                  <a:pt x="127" y="246"/>
                </a:lnTo>
                <a:lnTo>
                  <a:pt x="127" y="246"/>
                </a:lnTo>
                <a:lnTo>
                  <a:pt x="127" y="211"/>
                </a:lnTo>
                <a:lnTo>
                  <a:pt x="171" y="176"/>
                </a:lnTo>
                <a:lnTo>
                  <a:pt x="171" y="141"/>
                </a:lnTo>
                <a:lnTo>
                  <a:pt x="217" y="105"/>
                </a:lnTo>
                <a:lnTo>
                  <a:pt x="217" y="70"/>
                </a:lnTo>
                <a:lnTo>
                  <a:pt x="217" y="70"/>
                </a:lnTo>
                <a:lnTo>
                  <a:pt x="256" y="35"/>
                </a:lnTo>
                <a:lnTo>
                  <a:pt x="256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465800" y="3575160"/>
            <a:ext cx="1016280" cy="386280"/>
          </a:xfrm>
          <a:custGeom>
            <a:avLst/>
            <a:gdLst/>
            <a:ahLst/>
            <a:rect l="0" t="0" r="r" b="b"/>
            <a:pathLst>
              <a:path fill="none" w="2823" h="1073">
                <a:moveTo>
                  <a:pt x="0" y="1073"/>
                </a:moveTo>
                <a:lnTo>
                  <a:pt x="44" y="1038"/>
                </a:lnTo>
                <a:lnTo>
                  <a:pt x="88" y="1003"/>
                </a:lnTo>
                <a:lnTo>
                  <a:pt x="88" y="1003"/>
                </a:lnTo>
                <a:lnTo>
                  <a:pt x="127" y="967"/>
                </a:lnTo>
                <a:lnTo>
                  <a:pt x="127" y="932"/>
                </a:lnTo>
                <a:lnTo>
                  <a:pt x="171" y="892"/>
                </a:lnTo>
                <a:lnTo>
                  <a:pt x="216" y="857"/>
                </a:lnTo>
                <a:lnTo>
                  <a:pt x="216" y="857"/>
                </a:lnTo>
                <a:lnTo>
                  <a:pt x="260" y="822"/>
                </a:lnTo>
                <a:lnTo>
                  <a:pt x="299" y="785"/>
                </a:lnTo>
                <a:lnTo>
                  <a:pt x="299" y="750"/>
                </a:lnTo>
                <a:lnTo>
                  <a:pt x="343" y="750"/>
                </a:lnTo>
                <a:lnTo>
                  <a:pt x="388" y="715"/>
                </a:lnTo>
                <a:lnTo>
                  <a:pt x="427" y="680"/>
                </a:lnTo>
                <a:lnTo>
                  <a:pt x="427" y="644"/>
                </a:lnTo>
                <a:lnTo>
                  <a:pt x="471" y="644"/>
                </a:lnTo>
                <a:lnTo>
                  <a:pt x="515" y="609"/>
                </a:lnTo>
                <a:lnTo>
                  <a:pt x="555" y="574"/>
                </a:lnTo>
                <a:lnTo>
                  <a:pt x="599" y="574"/>
                </a:lnTo>
                <a:lnTo>
                  <a:pt x="643" y="538"/>
                </a:lnTo>
                <a:lnTo>
                  <a:pt x="687" y="503"/>
                </a:lnTo>
                <a:lnTo>
                  <a:pt x="687" y="503"/>
                </a:lnTo>
                <a:lnTo>
                  <a:pt x="727" y="468"/>
                </a:lnTo>
                <a:lnTo>
                  <a:pt x="771" y="428"/>
                </a:lnTo>
                <a:lnTo>
                  <a:pt x="815" y="428"/>
                </a:lnTo>
                <a:lnTo>
                  <a:pt x="855" y="393"/>
                </a:lnTo>
                <a:lnTo>
                  <a:pt x="899" y="393"/>
                </a:lnTo>
                <a:lnTo>
                  <a:pt x="943" y="358"/>
                </a:lnTo>
                <a:lnTo>
                  <a:pt x="983" y="322"/>
                </a:lnTo>
                <a:lnTo>
                  <a:pt x="1027" y="322"/>
                </a:lnTo>
                <a:lnTo>
                  <a:pt x="1071" y="287"/>
                </a:lnTo>
                <a:lnTo>
                  <a:pt x="1155" y="287"/>
                </a:lnTo>
                <a:lnTo>
                  <a:pt x="1199" y="251"/>
                </a:lnTo>
                <a:lnTo>
                  <a:pt x="1243" y="251"/>
                </a:lnTo>
                <a:lnTo>
                  <a:pt x="1283" y="216"/>
                </a:lnTo>
                <a:lnTo>
                  <a:pt x="1327" y="216"/>
                </a:lnTo>
                <a:lnTo>
                  <a:pt x="1371" y="180"/>
                </a:lnTo>
                <a:lnTo>
                  <a:pt x="1412" y="180"/>
                </a:lnTo>
                <a:lnTo>
                  <a:pt x="1456" y="180"/>
                </a:lnTo>
                <a:lnTo>
                  <a:pt x="1539" y="145"/>
                </a:lnTo>
                <a:lnTo>
                  <a:pt x="1584" y="145"/>
                </a:lnTo>
                <a:lnTo>
                  <a:pt x="1628" y="110"/>
                </a:lnTo>
                <a:lnTo>
                  <a:pt x="1672" y="110"/>
                </a:lnTo>
                <a:lnTo>
                  <a:pt x="1711" y="110"/>
                </a:lnTo>
                <a:lnTo>
                  <a:pt x="1800" y="74"/>
                </a:lnTo>
                <a:lnTo>
                  <a:pt x="1839" y="74"/>
                </a:lnTo>
                <a:lnTo>
                  <a:pt x="1883" y="74"/>
                </a:lnTo>
                <a:lnTo>
                  <a:pt x="1928" y="74"/>
                </a:lnTo>
                <a:lnTo>
                  <a:pt x="2011" y="39"/>
                </a:lnTo>
                <a:lnTo>
                  <a:pt x="2055" y="39"/>
                </a:lnTo>
                <a:lnTo>
                  <a:pt x="2095" y="39"/>
                </a:lnTo>
                <a:lnTo>
                  <a:pt x="2139" y="39"/>
                </a:lnTo>
                <a:lnTo>
                  <a:pt x="2227" y="39"/>
                </a:lnTo>
                <a:lnTo>
                  <a:pt x="2267" y="0"/>
                </a:lnTo>
                <a:lnTo>
                  <a:pt x="2311" y="0"/>
                </a:lnTo>
                <a:lnTo>
                  <a:pt x="2355" y="0"/>
                </a:lnTo>
                <a:lnTo>
                  <a:pt x="2439" y="0"/>
                </a:lnTo>
                <a:lnTo>
                  <a:pt x="2483" y="0"/>
                </a:lnTo>
                <a:lnTo>
                  <a:pt x="2523" y="0"/>
                </a:lnTo>
                <a:lnTo>
                  <a:pt x="2567" y="0"/>
                </a:lnTo>
                <a:lnTo>
                  <a:pt x="2655" y="0"/>
                </a:lnTo>
                <a:lnTo>
                  <a:pt x="2695" y="0"/>
                </a:lnTo>
                <a:lnTo>
                  <a:pt x="2739" y="0"/>
                </a:lnTo>
                <a:lnTo>
                  <a:pt x="2823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481720" y="3575160"/>
            <a:ext cx="924120" cy="462240"/>
          </a:xfrm>
          <a:custGeom>
            <a:avLst/>
            <a:gdLst/>
            <a:ahLst/>
            <a:rect l="0" t="0" r="r" b="b"/>
            <a:pathLst>
              <a:path fill="none" w="2567" h="1284">
                <a:moveTo>
                  <a:pt x="0" y="0"/>
                </a:moveTo>
                <a:lnTo>
                  <a:pt x="44" y="0"/>
                </a:lnTo>
                <a:lnTo>
                  <a:pt x="88" y="0"/>
                </a:lnTo>
                <a:lnTo>
                  <a:pt x="127" y="0"/>
                </a:lnTo>
                <a:lnTo>
                  <a:pt x="216" y="39"/>
                </a:lnTo>
                <a:lnTo>
                  <a:pt x="255" y="39"/>
                </a:lnTo>
                <a:lnTo>
                  <a:pt x="299" y="39"/>
                </a:lnTo>
                <a:lnTo>
                  <a:pt x="388" y="39"/>
                </a:lnTo>
                <a:lnTo>
                  <a:pt x="427" y="39"/>
                </a:lnTo>
                <a:lnTo>
                  <a:pt x="471" y="74"/>
                </a:lnTo>
                <a:lnTo>
                  <a:pt x="515" y="74"/>
                </a:lnTo>
                <a:lnTo>
                  <a:pt x="599" y="74"/>
                </a:lnTo>
                <a:lnTo>
                  <a:pt x="643" y="74"/>
                </a:lnTo>
                <a:lnTo>
                  <a:pt x="683" y="110"/>
                </a:lnTo>
                <a:lnTo>
                  <a:pt x="727" y="110"/>
                </a:lnTo>
                <a:lnTo>
                  <a:pt x="771" y="110"/>
                </a:lnTo>
                <a:lnTo>
                  <a:pt x="855" y="145"/>
                </a:lnTo>
                <a:lnTo>
                  <a:pt x="899" y="145"/>
                </a:lnTo>
                <a:lnTo>
                  <a:pt x="943" y="145"/>
                </a:lnTo>
                <a:lnTo>
                  <a:pt x="983" y="180"/>
                </a:lnTo>
                <a:lnTo>
                  <a:pt x="1027" y="180"/>
                </a:lnTo>
                <a:lnTo>
                  <a:pt x="1071" y="216"/>
                </a:lnTo>
                <a:lnTo>
                  <a:pt x="1155" y="216"/>
                </a:lnTo>
                <a:lnTo>
                  <a:pt x="1199" y="251"/>
                </a:lnTo>
                <a:lnTo>
                  <a:pt x="1239" y="251"/>
                </a:lnTo>
                <a:lnTo>
                  <a:pt x="1284" y="286"/>
                </a:lnTo>
                <a:lnTo>
                  <a:pt x="1328" y="286"/>
                </a:lnTo>
                <a:lnTo>
                  <a:pt x="1372" y="321"/>
                </a:lnTo>
                <a:lnTo>
                  <a:pt x="1412" y="321"/>
                </a:lnTo>
                <a:lnTo>
                  <a:pt x="1456" y="357"/>
                </a:lnTo>
                <a:lnTo>
                  <a:pt x="1500" y="392"/>
                </a:lnTo>
                <a:lnTo>
                  <a:pt x="1539" y="392"/>
                </a:lnTo>
                <a:lnTo>
                  <a:pt x="1584" y="427"/>
                </a:lnTo>
                <a:lnTo>
                  <a:pt x="1628" y="427"/>
                </a:lnTo>
                <a:lnTo>
                  <a:pt x="1667" y="467"/>
                </a:lnTo>
                <a:lnTo>
                  <a:pt x="1711" y="502"/>
                </a:lnTo>
                <a:lnTo>
                  <a:pt x="1756" y="502"/>
                </a:lnTo>
                <a:lnTo>
                  <a:pt x="1800" y="537"/>
                </a:lnTo>
                <a:lnTo>
                  <a:pt x="1839" y="573"/>
                </a:lnTo>
                <a:lnTo>
                  <a:pt x="1883" y="573"/>
                </a:lnTo>
                <a:lnTo>
                  <a:pt x="1928" y="608"/>
                </a:lnTo>
                <a:lnTo>
                  <a:pt x="1967" y="644"/>
                </a:lnTo>
                <a:lnTo>
                  <a:pt x="1967" y="644"/>
                </a:lnTo>
                <a:lnTo>
                  <a:pt x="2011" y="680"/>
                </a:lnTo>
                <a:lnTo>
                  <a:pt x="2055" y="715"/>
                </a:lnTo>
                <a:lnTo>
                  <a:pt x="2095" y="750"/>
                </a:lnTo>
                <a:lnTo>
                  <a:pt x="2095" y="750"/>
                </a:lnTo>
                <a:lnTo>
                  <a:pt x="2139" y="785"/>
                </a:lnTo>
                <a:lnTo>
                  <a:pt x="2183" y="821"/>
                </a:lnTo>
                <a:lnTo>
                  <a:pt x="2227" y="856"/>
                </a:lnTo>
                <a:lnTo>
                  <a:pt x="2227" y="891"/>
                </a:lnTo>
                <a:lnTo>
                  <a:pt x="2267" y="891"/>
                </a:lnTo>
                <a:lnTo>
                  <a:pt x="2311" y="931"/>
                </a:lnTo>
                <a:lnTo>
                  <a:pt x="2311" y="966"/>
                </a:lnTo>
                <a:lnTo>
                  <a:pt x="2355" y="1002"/>
                </a:lnTo>
                <a:lnTo>
                  <a:pt x="2355" y="1037"/>
                </a:lnTo>
                <a:lnTo>
                  <a:pt x="2395" y="1037"/>
                </a:lnTo>
                <a:lnTo>
                  <a:pt x="2439" y="1072"/>
                </a:lnTo>
                <a:lnTo>
                  <a:pt x="2439" y="1107"/>
                </a:lnTo>
                <a:lnTo>
                  <a:pt x="2483" y="1143"/>
                </a:lnTo>
                <a:lnTo>
                  <a:pt x="2483" y="1178"/>
                </a:lnTo>
                <a:lnTo>
                  <a:pt x="2483" y="1213"/>
                </a:lnTo>
                <a:lnTo>
                  <a:pt x="2523" y="1213"/>
                </a:lnTo>
                <a:lnTo>
                  <a:pt x="2523" y="1248"/>
                </a:lnTo>
                <a:lnTo>
                  <a:pt x="2567" y="1284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081840" y="4037040"/>
            <a:ext cx="370080" cy="681480"/>
          </a:xfrm>
          <a:custGeom>
            <a:avLst/>
            <a:gdLst/>
            <a:ahLst/>
            <a:rect l="0" t="0" r="r" b="b"/>
            <a:pathLst>
              <a:path fill="none" w="1028" h="1893">
                <a:moveTo>
                  <a:pt x="900" y="0"/>
                </a:moveTo>
                <a:lnTo>
                  <a:pt x="900" y="35"/>
                </a:lnTo>
                <a:lnTo>
                  <a:pt x="900" y="74"/>
                </a:lnTo>
                <a:lnTo>
                  <a:pt x="944" y="110"/>
                </a:lnTo>
                <a:lnTo>
                  <a:pt x="944" y="145"/>
                </a:lnTo>
                <a:lnTo>
                  <a:pt x="944" y="145"/>
                </a:lnTo>
                <a:lnTo>
                  <a:pt x="984" y="180"/>
                </a:lnTo>
                <a:lnTo>
                  <a:pt x="984" y="216"/>
                </a:lnTo>
                <a:lnTo>
                  <a:pt x="984" y="251"/>
                </a:lnTo>
                <a:lnTo>
                  <a:pt x="984" y="286"/>
                </a:lnTo>
                <a:lnTo>
                  <a:pt x="984" y="321"/>
                </a:lnTo>
                <a:lnTo>
                  <a:pt x="984" y="357"/>
                </a:lnTo>
                <a:lnTo>
                  <a:pt x="1028" y="392"/>
                </a:lnTo>
                <a:lnTo>
                  <a:pt x="1028" y="392"/>
                </a:lnTo>
                <a:lnTo>
                  <a:pt x="1028" y="427"/>
                </a:lnTo>
                <a:lnTo>
                  <a:pt x="1028" y="463"/>
                </a:lnTo>
                <a:lnTo>
                  <a:pt x="1028" y="499"/>
                </a:lnTo>
                <a:lnTo>
                  <a:pt x="1028" y="538"/>
                </a:lnTo>
                <a:lnTo>
                  <a:pt x="1028" y="574"/>
                </a:lnTo>
                <a:lnTo>
                  <a:pt x="1028" y="609"/>
                </a:lnTo>
                <a:lnTo>
                  <a:pt x="1028" y="644"/>
                </a:lnTo>
                <a:lnTo>
                  <a:pt x="1028" y="644"/>
                </a:lnTo>
                <a:lnTo>
                  <a:pt x="1028" y="680"/>
                </a:lnTo>
                <a:lnTo>
                  <a:pt x="984" y="715"/>
                </a:lnTo>
                <a:lnTo>
                  <a:pt x="984" y="750"/>
                </a:lnTo>
                <a:lnTo>
                  <a:pt x="984" y="785"/>
                </a:lnTo>
                <a:lnTo>
                  <a:pt x="984" y="821"/>
                </a:lnTo>
                <a:lnTo>
                  <a:pt x="984" y="856"/>
                </a:lnTo>
                <a:lnTo>
                  <a:pt x="984" y="891"/>
                </a:lnTo>
                <a:lnTo>
                  <a:pt x="944" y="927"/>
                </a:lnTo>
                <a:lnTo>
                  <a:pt x="944" y="927"/>
                </a:lnTo>
                <a:lnTo>
                  <a:pt x="944" y="966"/>
                </a:lnTo>
                <a:lnTo>
                  <a:pt x="900" y="1002"/>
                </a:lnTo>
                <a:lnTo>
                  <a:pt x="900" y="1037"/>
                </a:lnTo>
                <a:lnTo>
                  <a:pt x="900" y="1072"/>
                </a:lnTo>
                <a:lnTo>
                  <a:pt x="856" y="1107"/>
                </a:lnTo>
                <a:lnTo>
                  <a:pt x="856" y="1143"/>
                </a:lnTo>
                <a:lnTo>
                  <a:pt x="816" y="1143"/>
                </a:lnTo>
                <a:lnTo>
                  <a:pt x="816" y="1178"/>
                </a:lnTo>
                <a:lnTo>
                  <a:pt x="772" y="1213"/>
                </a:lnTo>
                <a:lnTo>
                  <a:pt x="772" y="1248"/>
                </a:lnTo>
                <a:lnTo>
                  <a:pt x="728" y="1284"/>
                </a:lnTo>
                <a:lnTo>
                  <a:pt x="728" y="1319"/>
                </a:lnTo>
                <a:lnTo>
                  <a:pt x="688" y="1319"/>
                </a:lnTo>
                <a:lnTo>
                  <a:pt x="688" y="1354"/>
                </a:lnTo>
                <a:lnTo>
                  <a:pt x="644" y="1390"/>
                </a:lnTo>
                <a:lnTo>
                  <a:pt x="644" y="1430"/>
                </a:lnTo>
                <a:lnTo>
                  <a:pt x="600" y="1466"/>
                </a:lnTo>
                <a:lnTo>
                  <a:pt x="561" y="1466"/>
                </a:lnTo>
                <a:lnTo>
                  <a:pt x="561" y="1501"/>
                </a:lnTo>
                <a:lnTo>
                  <a:pt x="516" y="1536"/>
                </a:lnTo>
                <a:lnTo>
                  <a:pt x="471" y="1571"/>
                </a:lnTo>
                <a:lnTo>
                  <a:pt x="427" y="1607"/>
                </a:lnTo>
                <a:lnTo>
                  <a:pt x="427" y="1607"/>
                </a:lnTo>
                <a:lnTo>
                  <a:pt x="388" y="1642"/>
                </a:lnTo>
                <a:lnTo>
                  <a:pt x="343" y="1677"/>
                </a:lnTo>
                <a:lnTo>
                  <a:pt x="299" y="1712"/>
                </a:lnTo>
                <a:lnTo>
                  <a:pt x="260" y="1712"/>
                </a:lnTo>
                <a:lnTo>
                  <a:pt x="260" y="1748"/>
                </a:lnTo>
                <a:lnTo>
                  <a:pt x="216" y="1783"/>
                </a:lnTo>
                <a:lnTo>
                  <a:pt x="171" y="1783"/>
                </a:lnTo>
                <a:lnTo>
                  <a:pt x="132" y="1818"/>
                </a:lnTo>
                <a:lnTo>
                  <a:pt x="88" y="1858"/>
                </a:lnTo>
                <a:lnTo>
                  <a:pt x="44" y="1858"/>
                </a:lnTo>
                <a:lnTo>
                  <a:pt x="0" y="1893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81600" y="4718160"/>
            <a:ext cx="1200600" cy="167040"/>
          </a:xfrm>
          <a:custGeom>
            <a:avLst/>
            <a:gdLst/>
            <a:ahLst/>
            <a:rect l="0" t="0" r="r" b="b"/>
            <a:pathLst>
              <a:path fill="none" w="3335" h="464">
                <a:moveTo>
                  <a:pt x="3335" y="0"/>
                </a:moveTo>
                <a:lnTo>
                  <a:pt x="3296" y="35"/>
                </a:lnTo>
                <a:lnTo>
                  <a:pt x="3251" y="35"/>
                </a:lnTo>
                <a:lnTo>
                  <a:pt x="3207" y="70"/>
                </a:lnTo>
                <a:lnTo>
                  <a:pt x="3168" y="105"/>
                </a:lnTo>
                <a:lnTo>
                  <a:pt x="3124" y="105"/>
                </a:lnTo>
                <a:lnTo>
                  <a:pt x="3079" y="141"/>
                </a:lnTo>
                <a:lnTo>
                  <a:pt x="3040" y="141"/>
                </a:lnTo>
                <a:lnTo>
                  <a:pt x="2996" y="176"/>
                </a:lnTo>
                <a:lnTo>
                  <a:pt x="2952" y="176"/>
                </a:lnTo>
                <a:lnTo>
                  <a:pt x="2868" y="211"/>
                </a:lnTo>
                <a:lnTo>
                  <a:pt x="2824" y="211"/>
                </a:lnTo>
                <a:lnTo>
                  <a:pt x="2780" y="247"/>
                </a:lnTo>
                <a:lnTo>
                  <a:pt x="2740" y="247"/>
                </a:lnTo>
                <a:lnTo>
                  <a:pt x="2696" y="283"/>
                </a:lnTo>
                <a:lnTo>
                  <a:pt x="2652" y="283"/>
                </a:lnTo>
                <a:lnTo>
                  <a:pt x="2568" y="318"/>
                </a:lnTo>
                <a:lnTo>
                  <a:pt x="2524" y="318"/>
                </a:lnTo>
                <a:lnTo>
                  <a:pt x="2483" y="353"/>
                </a:lnTo>
                <a:lnTo>
                  <a:pt x="2439" y="353"/>
                </a:lnTo>
                <a:lnTo>
                  <a:pt x="2395" y="353"/>
                </a:lnTo>
                <a:lnTo>
                  <a:pt x="2311" y="389"/>
                </a:lnTo>
                <a:lnTo>
                  <a:pt x="2267" y="389"/>
                </a:lnTo>
                <a:lnTo>
                  <a:pt x="2223" y="389"/>
                </a:lnTo>
                <a:lnTo>
                  <a:pt x="2183" y="428"/>
                </a:lnTo>
                <a:lnTo>
                  <a:pt x="2095" y="428"/>
                </a:lnTo>
                <a:lnTo>
                  <a:pt x="2055" y="428"/>
                </a:lnTo>
                <a:lnTo>
                  <a:pt x="2011" y="428"/>
                </a:lnTo>
                <a:lnTo>
                  <a:pt x="1923" y="464"/>
                </a:lnTo>
                <a:lnTo>
                  <a:pt x="1883" y="464"/>
                </a:lnTo>
                <a:lnTo>
                  <a:pt x="1839" y="464"/>
                </a:lnTo>
                <a:lnTo>
                  <a:pt x="1795" y="464"/>
                </a:lnTo>
                <a:lnTo>
                  <a:pt x="1711" y="464"/>
                </a:lnTo>
                <a:lnTo>
                  <a:pt x="1667" y="464"/>
                </a:lnTo>
                <a:lnTo>
                  <a:pt x="1628" y="464"/>
                </a:lnTo>
                <a:lnTo>
                  <a:pt x="1539" y="464"/>
                </a:lnTo>
                <a:lnTo>
                  <a:pt x="1500" y="464"/>
                </a:lnTo>
                <a:lnTo>
                  <a:pt x="1456" y="464"/>
                </a:lnTo>
                <a:lnTo>
                  <a:pt x="1368" y="464"/>
                </a:lnTo>
                <a:lnTo>
                  <a:pt x="1328" y="464"/>
                </a:lnTo>
                <a:lnTo>
                  <a:pt x="1284" y="464"/>
                </a:lnTo>
                <a:lnTo>
                  <a:pt x="1200" y="464"/>
                </a:lnTo>
                <a:lnTo>
                  <a:pt x="1156" y="464"/>
                </a:lnTo>
                <a:lnTo>
                  <a:pt x="1112" y="464"/>
                </a:lnTo>
                <a:lnTo>
                  <a:pt x="1028" y="464"/>
                </a:lnTo>
                <a:lnTo>
                  <a:pt x="984" y="464"/>
                </a:lnTo>
                <a:lnTo>
                  <a:pt x="940" y="464"/>
                </a:lnTo>
                <a:lnTo>
                  <a:pt x="900" y="464"/>
                </a:lnTo>
                <a:lnTo>
                  <a:pt x="811" y="428"/>
                </a:lnTo>
                <a:lnTo>
                  <a:pt x="771" y="428"/>
                </a:lnTo>
                <a:lnTo>
                  <a:pt x="727" y="428"/>
                </a:lnTo>
                <a:lnTo>
                  <a:pt x="643" y="428"/>
                </a:lnTo>
                <a:lnTo>
                  <a:pt x="599" y="389"/>
                </a:lnTo>
                <a:lnTo>
                  <a:pt x="555" y="389"/>
                </a:lnTo>
                <a:lnTo>
                  <a:pt x="515" y="389"/>
                </a:lnTo>
                <a:lnTo>
                  <a:pt x="427" y="353"/>
                </a:lnTo>
                <a:lnTo>
                  <a:pt x="383" y="353"/>
                </a:lnTo>
                <a:lnTo>
                  <a:pt x="343" y="353"/>
                </a:lnTo>
                <a:lnTo>
                  <a:pt x="299" y="318"/>
                </a:lnTo>
                <a:lnTo>
                  <a:pt x="216" y="318"/>
                </a:lnTo>
                <a:lnTo>
                  <a:pt x="171" y="283"/>
                </a:lnTo>
                <a:lnTo>
                  <a:pt x="127" y="283"/>
                </a:lnTo>
                <a:lnTo>
                  <a:pt x="88" y="283"/>
                </a:lnTo>
                <a:lnTo>
                  <a:pt x="44" y="247"/>
                </a:lnTo>
                <a:lnTo>
                  <a:pt x="0" y="247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311720" y="4152960"/>
            <a:ext cx="570240" cy="654480"/>
          </a:xfrm>
          <a:custGeom>
            <a:avLst/>
            <a:gdLst/>
            <a:ahLst/>
            <a:rect l="0" t="0" r="r" b="b"/>
            <a:pathLst>
              <a:path fill="none" w="1584" h="1818">
                <a:moveTo>
                  <a:pt x="1584" y="1818"/>
                </a:moveTo>
                <a:lnTo>
                  <a:pt x="1500" y="1783"/>
                </a:lnTo>
                <a:lnTo>
                  <a:pt x="1456" y="1748"/>
                </a:lnTo>
                <a:lnTo>
                  <a:pt x="1412" y="1748"/>
                </a:lnTo>
                <a:lnTo>
                  <a:pt x="1372" y="1712"/>
                </a:lnTo>
                <a:lnTo>
                  <a:pt x="1328" y="1712"/>
                </a:lnTo>
                <a:lnTo>
                  <a:pt x="1284" y="1677"/>
                </a:lnTo>
                <a:lnTo>
                  <a:pt x="1244" y="1677"/>
                </a:lnTo>
                <a:lnTo>
                  <a:pt x="1200" y="1642"/>
                </a:lnTo>
                <a:lnTo>
                  <a:pt x="1156" y="1607"/>
                </a:lnTo>
                <a:lnTo>
                  <a:pt x="1116" y="1607"/>
                </a:lnTo>
                <a:lnTo>
                  <a:pt x="1072" y="1571"/>
                </a:lnTo>
                <a:lnTo>
                  <a:pt x="1028" y="1536"/>
                </a:lnTo>
                <a:lnTo>
                  <a:pt x="984" y="1536"/>
                </a:lnTo>
                <a:lnTo>
                  <a:pt x="944" y="1496"/>
                </a:lnTo>
                <a:lnTo>
                  <a:pt x="900" y="1461"/>
                </a:lnTo>
                <a:lnTo>
                  <a:pt x="856" y="1461"/>
                </a:lnTo>
                <a:lnTo>
                  <a:pt x="816" y="1426"/>
                </a:lnTo>
                <a:lnTo>
                  <a:pt x="771" y="1391"/>
                </a:lnTo>
                <a:lnTo>
                  <a:pt x="727" y="1391"/>
                </a:lnTo>
                <a:lnTo>
                  <a:pt x="727" y="1354"/>
                </a:lnTo>
                <a:lnTo>
                  <a:pt x="687" y="1319"/>
                </a:lnTo>
                <a:lnTo>
                  <a:pt x="643" y="1284"/>
                </a:lnTo>
                <a:lnTo>
                  <a:pt x="599" y="1248"/>
                </a:lnTo>
                <a:lnTo>
                  <a:pt x="555" y="1248"/>
                </a:lnTo>
                <a:lnTo>
                  <a:pt x="555" y="1213"/>
                </a:lnTo>
                <a:lnTo>
                  <a:pt x="515" y="1178"/>
                </a:lnTo>
                <a:lnTo>
                  <a:pt x="471" y="1143"/>
                </a:lnTo>
                <a:lnTo>
                  <a:pt x="427" y="1143"/>
                </a:lnTo>
                <a:lnTo>
                  <a:pt x="427" y="1107"/>
                </a:lnTo>
                <a:lnTo>
                  <a:pt x="388" y="1068"/>
                </a:lnTo>
                <a:lnTo>
                  <a:pt x="388" y="1032"/>
                </a:lnTo>
                <a:lnTo>
                  <a:pt x="343" y="997"/>
                </a:lnTo>
                <a:lnTo>
                  <a:pt x="299" y="962"/>
                </a:lnTo>
                <a:lnTo>
                  <a:pt x="299" y="962"/>
                </a:lnTo>
                <a:lnTo>
                  <a:pt x="260" y="927"/>
                </a:lnTo>
                <a:lnTo>
                  <a:pt x="260" y="891"/>
                </a:lnTo>
                <a:lnTo>
                  <a:pt x="216" y="856"/>
                </a:lnTo>
                <a:lnTo>
                  <a:pt x="216" y="821"/>
                </a:lnTo>
                <a:lnTo>
                  <a:pt x="171" y="785"/>
                </a:lnTo>
                <a:lnTo>
                  <a:pt x="171" y="750"/>
                </a:lnTo>
                <a:lnTo>
                  <a:pt x="171" y="750"/>
                </a:lnTo>
                <a:lnTo>
                  <a:pt x="132" y="715"/>
                </a:lnTo>
                <a:lnTo>
                  <a:pt x="132" y="680"/>
                </a:lnTo>
                <a:lnTo>
                  <a:pt x="88" y="644"/>
                </a:lnTo>
                <a:lnTo>
                  <a:pt x="88" y="605"/>
                </a:lnTo>
                <a:lnTo>
                  <a:pt x="88" y="569"/>
                </a:lnTo>
                <a:lnTo>
                  <a:pt x="88" y="534"/>
                </a:lnTo>
                <a:lnTo>
                  <a:pt x="44" y="499"/>
                </a:lnTo>
                <a:lnTo>
                  <a:pt x="44" y="464"/>
                </a:lnTo>
                <a:lnTo>
                  <a:pt x="44" y="464"/>
                </a:lnTo>
                <a:lnTo>
                  <a:pt x="44" y="427"/>
                </a:lnTo>
                <a:lnTo>
                  <a:pt x="44" y="392"/>
                </a:lnTo>
                <a:lnTo>
                  <a:pt x="0" y="357"/>
                </a:lnTo>
                <a:lnTo>
                  <a:pt x="0" y="321"/>
                </a:lnTo>
                <a:lnTo>
                  <a:pt x="0" y="286"/>
                </a:lnTo>
                <a:lnTo>
                  <a:pt x="0" y="251"/>
                </a:lnTo>
                <a:lnTo>
                  <a:pt x="0" y="216"/>
                </a:lnTo>
                <a:lnTo>
                  <a:pt x="0" y="176"/>
                </a:lnTo>
                <a:lnTo>
                  <a:pt x="0" y="176"/>
                </a:lnTo>
                <a:lnTo>
                  <a:pt x="0" y="141"/>
                </a:lnTo>
                <a:lnTo>
                  <a:pt x="0" y="105"/>
                </a:lnTo>
                <a:lnTo>
                  <a:pt x="0" y="70"/>
                </a:lnTo>
                <a:lnTo>
                  <a:pt x="0" y="35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311720" y="3575160"/>
            <a:ext cx="786240" cy="578160"/>
          </a:xfrm>
          <a:custGeom>
            <a:avLst/>
            <a:gdLst/>
            <a:ahLst/>
            <a:rect l="0" t="0" r="r" b="b"/>
            <a:pathLst>
              <a:path fill="none" w="2184" h="1606">
                <a:moveTo>
                  <a:pt x="0" y="1606"/>
                </a:moveTo>
                <a:lnTo>
                  <a:pt x="44" y="1570"/>
                </a:lnTo>
                <a:lnTo>
                  <a:pt x="44" y="1535"/>
                </a:lnTo>
                <a:lnTo>
                  <a:pt x="44" y="1500"/>
                </a:lnTo>
                <a:lnTo>
                  <a:pt x="44" y="1465"/>
                </a:lnTo>
                <a:lnTo>
                  <a:pt x="44" y="1465"/>
                </a:lnTo>
                <a:lnTo>
                  <a:pt x="88" y="1429"/>
                </a:lnTo>
                <a:lnTo>
                  <a:pt x="88" y="1394"/>
                </a:lnTo>
                <a:lnTo>
                  <a:pt x="88" y="1359"/>
                </a:lnTo>
                <a:lnTo>
                  <a:pt x="132" y="1319"/>
                </a:lnTo>
                <a:lnTo>
                  <a:pt x="132" y="1284"/>
                </a:lnTo>
                <a:lnTo>
                  <a:pt x="132" y="1248"/>
                </a:lnTo>
                <a:lnTo>
                  <a:pt x="171" y="1213"/>
                </a:lnTo>
                <a:lnTo>
                  <a:pt x="171" y="1178"/>
                </a:lnTo>
                <a:lnTo>
                  <a:pt x="171" y="1178"/>
                </a:lnTo>
                <a:lnTo>
                  <a:pt x="216" y="1143"/>
                </a:lnTo>
                <a:lnTo>
                  <a:pt x="216" y="1107"/>
                </a:lnTo>
                <a:lnTo>
                  <a:pt x="260" y="1072"/>
                </a:lnTo>
                <a:lnTo>
                  <a:pt x="260" y="1037"/>
                </a:lnTo>
                <a:lnTo>
                  <a:pt x="299" y="1002"/>
                </a:lnTo>
                <a:lnTo>
                  <a:pt x="343" y="966"/>
                </a:lnTo>
                <a:lnTo>
                  <a:pt x="343" y="966"/>
                </a:lnTo>
                <a:lnTo>
                  <a:pt x="388" y="931"/>
                </a:lnTo>
                <a:lnTo>
                  <a:pt x="388" y="891"/>
                </a:lnTo>
                <a:lnTo>
                  <a:pt x="427" y="856"/>
                </a:lnTo>
                <a:lnTo>
                  <a:pt x="471" y="821"/>
                </a:lnTo>
                <a:lnTo>
                  <a:pt x="471" y="821"/>
                </a:lnTo>
                <a:lnTo>
                  <a:pt x="515" y="784"/>
                </a:lnTo>
                <a:lnTo>
                  <a:pt x="556" y="749"/>
                </a:lnTo>
                <a:lnTo>
                  <a:pt x="600" y="714"/>
                </a:lnTo>
                <a:lnTo>
                  <a:pt x="600" y="679"/>
                </a:lnTo>
                <a:lnTo>
                  <a:pt x="644" y="679"/>
                </a:lnTo>
                <a:lnTo>
                  <a:pt x="688" y="643"/>
                </a:lnTo>
                <a:lnTo>
                  <a:pt x="728" y="608"/>
                </a:lnTo>
                <a:lnTo>
                  <a:pt x="772" y="573"/>
                </a:lnTo>
                <a:lnTo>
                  <a:pt x="772" y="573"/>
                </a:lnTo>
                <a:lnTo>
                  <a:pt x="816" y="537"/>
                </a:lnTo>
                <a:lnTo>
                  <a:pt x="856" y="502"/>
                </a:lnTo>
                <a:lnTo>
                  <a:pt x="900" y="467"/>
                </a:lnTo>
                <a:lnTo>
                  <a:pt x="944" y="467"/>
                </a:lnTo>
                <a:lnTo>
                  <a:pt x="984" y="427"/>
                </a:lnTo>
                <a:lnTo>
                  <a:pt x="1028" y="392"/>
                </a:lnTo>
                <a:lnTo>
                  <a:pt x="1072" y="392"/>
                </a:lnTo>
                <a:lnTo>
                  <a:pt x="1116" y="357"/>
                </a:lnTo>
                <a:lnTo>
                  <a:pt x="1156" y="321"/>
                </a:lnTo>
                <a:lnTo>
                  <a:pt x="1200" y="321"/>
                </a:lnTo>
                <a:lnTo>
                  <a:pt x="1244" y="286"/>
                </a:lnTo>
                <a:lnTo>
                  <a:pt x="1284" y="251"/>
                </a:lnTo>
                <a:lnTo>
                  <a:pt x="1328" y="251"/>
                </a:lnTo>
                <a:lnTo>
                  <a:pt x="1412" y="216"/>
                </a:lnTo>
                <a:lnTo>
                  <a:pt x="1456" y="216"/>
                </a:lnTo>
                <a:lnTo>
                  <a:pt x="1500" y="180"/>
                </a:lnTo>
                <a:lnTo>
                  <a:pt x="1539" y="180"/>
                </a:lnTo>
                <a:lnTo>
                  <a:pt x="1584" y="145"/>
                </a:lnTo>
                <a:lnTo>
                  <a:pt x="1628" y="145"/>
                </a:lnTo>
                <a:lnTo>
                  <a:pt x="1673" y="110"/>
                </a:lnTo>
                <a:lnTo>
                  <a:pt x="1757" y="110"/>
                </a:lnTo>
                <a:lnTo>
                  <a:pt x="1801" y="74"/>
                </a:lnTo>
                <a:lnTo>
                  <a:pt x="1840" y="74"/>
                </a:lnTo>
                <a:lnTo>
                  <a:pt x="1884" y="39"/>
                </a:lnTo>
                <a:lnTo>
                  <a:pt x="1968" y="39"/>
                </a:lnTo>
                <a:lnTo>
                  <a:pt x="2012" y="39"/>
                </a:lnTo>
                <a:lnTo>
                  <a:pt x="2056" y="0"/>
                </a:lnTo>
                <a:lnTo>
                  <a:pt x="2101" y="0"/>
                </a:lnTo>
                <a:lnTo>
                  <a:pt x="2184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97600" y="3537000"/>
            <a:ext cx="1186200" cy="282960"/>
          </a:xfrm>
          <a:custGeom>
            <a:avLst/>
            <a:gdLst/>
            <a:ahLst/>
            <a:rect l="0" t="0" r="r" b="b"/>
            <a:pathLst>
              <a:path fill="none" w="3295" h="786">
                <a:moveTo>
                  <a:pt x="0" y="105"/>
                </a:moveTo>
                <a:lnTo>
                  <a:pt x="44" y="70"/>
                </a:lnTo>
                <a:lnTo>
                  <a:pt x="83" y="70"/>
                </a:lnTo>
                <a:lnTo>
                  <a:pt x="171" y="70"/>
                </a:lnTo>
                <a:lnTo>
                  <a:pt x="211" y="35"/>
                </a:lnTo>
                <a:lnTo>
                  <a:pt x="255" y="35"/>
                </a:lnTo>
                <a:lnTo>
                  <a:pt x="339" y="35"/>
                </a:lnTo>
                <a:lnTo>
                  <a:pt x="383" y="35"/>
                </a:lnTo>
                <a:lnTo>
                  <a:pt x="427" y="35"/>
                </a:lnTo>
                <a:lnTo>
                  <a:pt x="511" y="0"/>
                </a:lnTo>
                <a:lnTo>
                  <a:pt x="555" y="0"/>
                </a:lnTo>
                <a:lnTo>
                  <a:pt x="599" y="0"/>
                </a:lnTo>
                <a:lnTo>
                  <a:pt x="683" y="0"/>
                </a:lnTo>
                <a:lnTo>
                  <a:pt x="727" y="0"/>
                </a:lnTo>
                <a:lnTo>
                  <a:pt x="767" y="0"/>
                </a:lnTo>
                <a:lnTo>
                  <a:pt x="855" y="0"/>
                </a:lnTo>
                <a:lnTo>
                  <a:pt x="899" y="0"/>
                </a:lnTo>
                <a:lnTo>
                  <a:pt x="939" y="0"/>
                </a:lnTo>
                <a:lnTo>
                  <a:pt x="1027" y="0"/>
                </a:lnTo>
                <a:lnTo>
                  <a:pt x="1067" y="0"/>
                </a:lnTo>
                <a:lnTo>
                  <a:pt x="1155" y="0"/>
                </a:lnTo>
                <a:lnTo>
                  <a:pt x="1195" y="0"/>
                </a:lnTo>
                <a:lnTo>
                  <a:pt x="1239" y="35"/>
                </a:lnTo>
                <a:lnTo>
                  <a:pt x="1322" y="35"/>
                </a:lnTo>
                <a:lnTo>
                  <a:pt x="1367" y="35"/>
                </a:lnTo>
                <a:lnTo>
                  <a:pt x="1411" y="35"/>
                </a:lnTo>
                <a:lnTo>
                  <a:pt x="1494" y="35"/>
                </a:lnTo>
                <a:lnTo>
                  <a:pt x="1538" y="35"/>
                </a:lnTo>
                <a:lnTo>
                  <a:pt x="1583" y="70"/>
                </a:lnTo>
                <a:lnTo>
                  <a:pt x="1667" y="70"/>
                </a:lnTo>
                <a:lnTo>
                  <a:pt x="1711" y="70"/>
                </a:lnTo>
                <a:lnTo>
                  <a:pt x="1751" y="105"/>
                </a:lnTo>
                <a:lnTo>
                  <a:pt x="1795" y="105"/>
                </a:lnTo>
                <a:lnTo>
                  <a:pt x="1883" y="105"/>
                </a:lnTo>
                <a:lnTo>
                  <a:pt x="1923" y="145"/>
                </a:lnTo>
                <a:lnTo>
                  <a:pt x="1967" y="145"/>
                </a:lnTo>
                <a:lnTo>
                  <a:pt x="2051" y="145"/>
                </a:lnTo>
                <a:lnTo>
                  <a:pt x="2095" y="180"/>
                </a:lnTo>
                <a:lnTo>
                  <a:pt x="2139" y="180"/>
                </a:lnTo>
                <a:lnTo>
                  <a:pt x="2179" y="217"/>
                </a:lnTo>
                <a:lnTo>
                  <a:pt x="2223" y="217"/>
                </a:lnTo>
                <a:lnTo>
                  <a:pt x="2307" y="252"/>
                </a:lnTo>
                <a:lnTo>
                  <a:pt x="2351" y="252"/>
                </a:lnTo>
                <a:lnTo>
                  <a:pt x="2395" y="287"/>
                </a:lnTo>
                <a:lnTo>
                  <a:pt x="2439" y="287"/>
                </a:lnTo>
                <a:lnTo>
                  <a:pt x="2479" y="322"/>
                </a:lnTo>
                <a:lnTo>
                  <a:pt x="2523" y="322"/>
                </a:lnTo>
                <a:lnTo>
                  <a:pt x="2607" y="358"/>
                </a:lnTo>
                <a:lnTo>
                  <a:pt x="2651" y="393"/>
                </a:lnTo>
                <a:lnTo>
                  <a:pt x="2695" y="393"/>
                </a:lnTo>
                <a:lnTo>
                  <a:pt x="2735" y="428"/>
                </a:lnTo>
                <a:lnTo>
                  <a:pt x="2779" y="464"/>
                </a:lnTo>
                <a:lnTo>
                  <a:pt x="2823" y="464"/>
                </a:lnTo>
                <a:lnTo>
                  <a:pt x="2867" y="499"/>
                </a:lnTo>
                <a:lnTo>
                  <a:pt x="2907" y="534"/>
                </a:lnTo>
                <a:lnTo>
                  <a:pt x="2951" y="534"/>
                </a:lnTo>
                <a:lnTo>
                  <a:pt x="2995" y="574"/>
                </a:lnTo>
                <a:lnTo>
                  <a:pt x="3034" y="610"/>
                </a:lnTo>
                <a:lnTo>
                  <a:pt x="3078" y="610"/>
                </a:lnTo>
                <a:lnTo>
                  <a:pt x="3123" y="645"/>
                </a:lnTo>
                <a:lnTo>
                  <a:pt x="3162" y="681"/>
                </a:lnTo>
                <a:lnTo>
                  <a:pt x="3206" y="716"/>
                </a:lnTo>
                <a:lnTo>
                  <a:pt x="3206" y="716"/>
                </a:lnTo>
                <a:lnTo>
                  <a:pt x="3250" y="751"/>
                </a:lnTo>
                <a:lnTo>
                  <a:pt x="3295" y="786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283440" y="3819600"/>
            <a:ext cx="230400" cy="717840"/>
          </a:xfrm>
          <a:custGeom>
            <a:avLst/>
            <a:gdLst/>
            <a:ahLst/>
            <a:rect l="0" t="0" r="r" b="b"/>
            <a:pathLst>
              <a:path fill="none" w="640" h="1994">
                <a:moveTo>
                  <a:pt x="0" y="0"/>
                </a:moveTo>
                <a:lnTo>
                  <a:pt x="39" y="35"/>
                </a:lnTo>
                <a:lnTo>
                  <a:pt x="83" y="70"/>
                </a:lnTo>
                <a:lnTo>
                  <a:pt x="83" y="70"/>
                </a:lnTo>
                <a:lnTo>
                  <a:pt x="127" y="105"/>
                </a:lnTo>
                <a:lnTo>
                  <a:pt x="167" y="141"/>
                </a:lnTo>
                <a:lnTo>
                  <a:pt x="211" y="176"/>
                </a:lnTo>
                <a:lnTo>
                  <a:pt x="211" y="211"/>
                </a:lnTo>
                <a:lnTo>
                  <a:pt x="255" y="211"/>
                </a:lnTo>
                <a:lnTo>
                  <a:pt x="295" y="251"/>
                </a:lnTo>
                <a:lnTo>
                  <a:pt x="295" y="286"/>
                </a:lnTo>
                <a:lnTo>
                  <a:pt x="340" y="321"/>
                </a:lnTo>
                <a:lnTo>
                  <a:pt x="340" y="357"/>
                </a:lnTo>
                <a:lnTo>
                  <a:pt x="384" y="392"/>
                </a:lnTo>
                <a:lnTo>
                  <a:pt x="384" y="427"/>
                </a:lnTo>
                <a:lnTo>
                  <a:pt x="424" y="427"/>
                </a:lnTo>
                <a:lnTo>
                  <a:pt x="424" y="463"/>
                </a:lnTo>
                <a:lnTo>
                  <a:pt x="468" y="498"/>
                </a:lnTo>
                <a:lnTo>
                  <a:pt x="468" y="533"/>
                </a:lnTo>
                <a:lnTo>
                  <a:pt x="512" y="568"/>
                </a:lnTo>
                <a:lnTo>
                  <a:pt x="512" y="604"/>
                </a:lnTo>
                <a:lnTo>
                  <a:pt x="512" y="639"/>
                </a:lnTo>
                <a:lnTo>
                  <a:pt x="556" y="679"/>
                </a:lnTo>
                <a:lnTo>
                  <a:pt x="556" y="714"/>
                </a:lnTo>
                <a:lnTo>
                  <a:pt x="556" y="714"/>
                </a:lnTo>
                <a:lnTo>
                  <a:pt x="596" y="749"/>
                </a:lnTo>
                <a:lnTo>
                  <a:pt x="596" y="784"/>
                </a:lnTo>
                <a:lnTo>
                  <a:pt x="596" y="820"/>
                </a:lnTo>
                <a:lnTo>
                  <a:pt x="596" y="855"/>
                </a:lnTo>
                <a:lnTo>
                  <a:pt x="640" y="890"/>
                </a:lnTo>
                <a:lnTo>
                  <a:pt x="640" y="926"/>
                </a:lnTo>
                <a:lnTo>
                  <a:pt x="640" y="961"/>
                </a:lnTo>
                <a:lnTo>
                  <a:pt x="640" y="996"/>
                </a:lnTo>
                <a:lnTo>
                  <a:pt x="640" y="1032"/>
                </a:lnTo>
                <a:lnTo>
                  <a:pt x="640" y="1068"/>
                </a:lnTo>
                <a:lnTo>
                  <a:pt x="640" y="1068"/>
                </a:lnTo>
                <a:lnTo>
                  <a:pt x="640" y="1103"/>
                </a:lnTo>
                <a:lnTo>
                  <a:pt x="640" y="1143"/>
                </a:lnTo>
                <a:lnTo>
                  <a:pt x="640" y="1178"/>
                </a:lnTo>
                <a:lnTo>
                  <a:pt x="640" y="1213"/>
                </a:lnTo>
                <a:lnTo>
                  <a:pt x="640" y="1248"/>
                </a:lnTo>
                <a:lnTo>
                  <a:pt x="640" y="1284"/>
                </a:lnTo>
                <a:lnTo>
                  <a:pt x="640" y="1319"/>
                </a:lnTo>
                <a:lnTo>
                  <a:pt x="640" y="1354"/>
                </a:lnTo>
                <a:lnTo>
                  <a:pt x="640" y="1390"/>
                </a:lnTo>
                <a:lnTo>
                  <a:pt x="596" y="1425"/>
                </a:lnTo>
                <a:lnTo>
                  <a:pt x="596" y="1425"/>
                </a:lnTo>
                <a:lnTo>
                  <a:pt x="596" y="1460"/>
                </a:lnTo>
                <a:lnTo>
                  <a:pt x="596" y="1495"/>
                </a:lnTo>
                <a:lnTo>
                  <a:pt x="596" y="1531"/>
                </a:lnTo>
                <a:lnTo>
                  <a:pt x="556" y="1570"/>
                </a:lnTo>
                <a:lnTo>
                  <a:pt x="556" y="1606"/>
                </a:lnTo>
                <a:lnTo>
                  <a:pt x="556" y="1641"/>
                </a:lnTo>
                <a:lnTo>
                  <a:pt x="512" y="1676"/>
                </a:lnTo>
                <a:lnTo>
                  <a:pt x="512" y="1711"/>
                </a:lnTo>
                <a:lnTo>
                  <a:pt x="468" y="1747"/>
                </a:lnTo>
                <a:lnTo>
                  <a:pt x="468" y="1747"/>
                </a:lnTo>
                <a:lnTo>
                  <a:pt x="424" y="1782"/>
                </a:lnTo>
                <a:lnTo>
                  <a:pt x="424" y="1817"/>
                </a:lnTo>
                <a:lnTo>
                  <a:pt x="424" y="1853"/>
                </a:lnTo>
                <a:lnTo>
                  <a:pt x="384" y="1888"/>
                </a:lnTo>
                <a:lnTo>
                  <a:pt x="340" y="1923"/>
                </a:lnTo>
                <a:lnTo>
                  <a:pt x="340" y="1958"/>
                </a:lnTo>
                <a:lnTo>
                  <a:pt x="295" y="1994"/>
                </a:lnTo>
                <a:lnTo>
                  <a:pt x="295" y="1994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267160" y="4537080"/>
            <a:ext cx="1122840" cy="386280"/>
          </a:xfrm>
          <a:custGeom>
            <a:avLst/>
            <a:gdLst/>
            <a:ahLst/>
            <a:rect l="0" t="0" r="r" b="b"/>
            <a:pathLst>
              <a:path fill="none" w="3119" h="1073">
                <a:moveTo>
                  <a:pt x="3119" y="0"/>
                </a:moveTo>
                <a:lnTo>
                  <a:pt x="3079" y="39"/>
                </a:lnTo>
                <a:lnTo>
                  <a:pt x="3035" y="74"/>
                </a:lnTo>
                <a:lnTo>
                  <a:pt x="3035" y="110"/>
                </a:lnTo>
                <a:lnTo>
                  <a:pt x="2991" y="145"/>
                </a:lnTo>
                <a:lnTo>
                  <a:pt x="2952" y="180"/>
                </a:lnTo>
                <a:lnTo>
                  <a:pt x="2952" y="180"/>
                </a:lnTo>
                <a:lnTo>
                  <a:pt x="2908" y="216"/>
                </a:lnTo>
                <a:lnTo>
                  <a:pt x="2863" y="251"/>
                </a:lnTo>
                <a:lnTo>
                  <a:pt x="2824" y="287"/>
                </a:lnTo>
                <a:lnTo>
                  <a:pt x="2780" y="322"/>
                </a:lnTo>
                <a:lnTo>
                  <a:pt x="2780" y="322"/>
                </a:lnTo>
                <a:lnTo>
                  <a:pt x="2736" y="358"/>
                </a:lnTo>
                <a:lnTo>
                  <a:pt x="2691" y="393"/>
                </a:lnTo>
                <a:lnTo>
                  <a:pt x="2652" y="428"/>
                </a:lnTo>
                <a:lnTo>
                  <a:pt x="2608" y="428"/>
                </a:lnTo>
                <a:lnTo>
                  <a:pt x="2564" y="468"/>
                </a:lnTo>
                <a:lnTo>
                  <a:pt x="2524" y="503"/>
                </a:lnTo>
                <a:lnTo>
                  <a:pt x="2480" y="538"/>
                </a:lnTo>
                <a:lnTo>
                  <a:pt x="2436" y="538"/>
                </a:lnTo>
                <a:lnTo>
                  <a:pt x="2396" y="574"/>
                </a:lnTo>
                <a:lnTo>
                  <a:pt x="2352" y="609"/>
                </a:lnTo>
                <a:lnTo>
                  <a:pt x="2307" y="609"/>
                </a:lnTo>
                <a:lnTo>
                  <a:pt x="2263" y="644"/>
                </a:lnTo>
                <a:lnTo>
                  <a:pt x="2223" y="680"/>
                </a:lnTo>
                <a:lnTo>
                  <a:pt x="2179" y="680"/>
                </a:lnTo>
                <a:lnTo>
                  <a:pt x="2135" y="715"/>
                </a:lnTo>
                <a:lnTo>
                  <a:pt x="2095" y="750"/>
                </a:lnTo>
                <a:lnTo>
                  <a:pt x="2007" y="750"/>
                </a:lnTo>
                <a:lnTo>
                  <a:pt x="1967" y="785"/>
                </a:lnTo>
                <a:lnTo>
                  <a:pt x="1923" y="785"/>
                </a:lnTo>
                <a:lnTo>
                  <a:pt x="1879" y="822"/>
                </a:lnTo>
                <a:lnTo>
                  <a:pt x="1835" y="822"/>
                </a:lnTo>
                <a:lnTo>
                  <a:pt x="1751" y="857"/>
                </a:lnTo>
                <a:lnTo>
                  <a:pt x="1707" y="857"/>
                </a:lnTo>
                <a:lnTo>
                  <a:pt x="1667" y="892"/>
                </a:lnTo>
                <a:lnTo>
                  <a:pt x="1623" y="892"/>
                </a:lnTo>
                <a:lnTo>
                  <a:pt x="1539" y="932"/>
                </a:lnTo>
                <a:lnTo>
                  <a:pt x="1495" y="932"/>
                </a:lnTo>
                <a:lnTo>
                  <a:pt x="1451" y="967"/>
                </a:lnTo>
                <a:lnTo>
                  <a:pt x="1412" y="967"/>
                </a:lnTo>
                <a:lnTo>
                  <a:pt x="1323" y="967"/>
                </a:lnTo>
                <a:lnTo>
                  <a:pt x="1279" y="1003"/>
                </a:lnTo>
                <a:lnTo>
                  <a:pt x="1240" y="1003"/>
                </a:lnTo>
                <a:lnTo>
                  <a:pt x="1151" y="1003"/>
                </a:lnTo>
                <a:lnTo>
                  <a:pt x="1112" y="1038"/>
                </a:lnTo>
                <a:lnTo>
                  <a:pt x="1068" y="1038"/>
                </a:lnTo>
                <a:lnTo>
                  <a:pt x="984" y="1038"/>
                </a:lnTo>
                <a:lnTo>
                  <a:pt x="940" y="1038"/>
                </a:lnTo>
                <a:lnTo>
                  <a:pt x="896" y="1073"/>
                </a:lnTo>
                <a:lnTo>
                  <a:pt x="812" y="1073"/>
                </a:lnTo>
                <a:lnTo>
                  <a:pt x="767" y="1073"/>
                </a:lnTo>
                <a:lnTo>
                  <a:pt x="683" y="1073"/>
                </a:lnTo>
                <a:lnTo>
                  <a:pt x="639" y="1073"/>
                </a:lnTo>
                <a:lnTo>
                  <a:pt x="595" y="1073"/>
                </a:lnTo>
                <a:lnTo>
                  <a:pt x="511" y="1073"/>
                </a:lnTo>
                <a:lnTo>
                  <a:pt x="467" y="1073"/>
                </a:lnTo>
                <a:lnTo>
                  <a:pt x="383" y="1073"/>
                </a:lnTo>
                <a:lnTo>
                  <a:pt x="339" y="1073"/>
                </a:lnTo>
                <a:lnTo>
                  <a:pt x="295" y="1073"/>
                </a:lnTo>
                <a:lnTo>
                  <a:pt x="211" y="1073"/>
                </a:lnTo>
                <a:lnTo>
                  <a:pt x="167" y="1073"/>
                </a:lnTo>
                <a:lnTo>
                  <a:pt x="83" y="1073"/>
                </a:lnTo>
                <a:lnTo>
                  <a:pt x="39" y="1073"/>
                </a:lnTo>
                <a:lnTo>
                  <a:pt x="0" y="1073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297320" y="4410000"/>
            <a:ext cx="970200" cy="513000"/>
          </a:xfrm>
          <a:custGeom>
            <a:avLst/>
            <a:gdLst/>
            <a:ahLst/>
            <a:rect l="0" t="0" r="r" b="b"/>
            <a:pathLst>
              <a:path fill="none" w="2695" h="1425">
                <a:moveTo>
                  <a:pt x="2695" y="1425"/>
                </a:moveTo>
                <a:lnTo>
                  <a:pt x="2607" y="1425"/>
                </a:lnTo>
                <a:lnTo>
                  <a:pt x="2563" y="1425"/>
                </a:lnTo>
                <a:lnTo>
                  <a:pt x="2523" y="1425"/>
                </a:lnTo>
                <a:lnTo>
                  <a:pt x="2435" y="1390"/>
                </a:lnTo>
                <a:lnTo>
                  <a:pt x="2395" y="1390"/>
                </a:lnTo>
                <a:lnTo>
                  <a:pt x="2307" y="1390"/>
                </a:lnTo>
                <a:lnTo>
                  <a:pt x="2267" y="1390"/>
                </a:lnTo>
                <a:lnTo>
                  <a:pt x="2223" y="1354"/>
                </a:lnTo>
                <a:lnTo>
                  <a:pt x="2139" y="1354"/>
                </a:lnTo>
                <a:lnTo>
                  <a:pt x="2095" y="1354"/>
                </a:lnTo>
                <a:lnTo>
                  <a:pt x="2051" y="1319"/>
                </a:lnTo>
                <a:lnTo>
                  <a:pt x="1967" y="1319"/>
                </a:lnTo>
                <a:lnTo>
                  <a:pt x="1923" y="1319"/>
                </a:lnTo>
                <a:lnTo>
                  <a:pt x="1879" y="1284"/>
                </a:lnTo>
                <a:lnTo>
                  <a:pt x="1795" y="1284"/>
                </a:lnTo>
                <a:lnTo>
                  <a:pt x="1751" y="1244"/>
                </a:lnTo>
                <a:lnTo>
                  <a:pt x="1711" y="1244"/>
                </a:lnTo>
                <a:lnTo>
                  <a:pt x="1667" y="1209"/>
                </a:lnTo>
                <a:lnTo>
                  <a:pt x="1579" y="1209"/>
                </a:lnTo>
                <a:lnTo>
                  <a:pt x="1539" y="1173"/>
                </a:lnTo>
                <a:lnTo>
                  <a:pt x="1495" y="1173"/>
                </a:lnTo>
                <a:lnTo>
                  <a:pt x="1451" y="1138"/>
                </a:lnTo>
                <a:lnTo>
                  <a:pt x="1412" y="1138"/>
                </a:lnTo>
                <a:lnTo>
                  <a:pt x="1322" y="1103"/>
                </a:lnTo>
                <a:lnTo>
                  <a:pt x="1283" y="1103"/>
                </a:lnTo>
                <a:lnTo>
                  <a:pt x="1239" y="1068"/>
                </a:lnTo>
                <a:lnTo>
                  <a:pt x="1195" y="1032"/>
                </a:lnTo>
                <a:lnTo>
                  <a:pt x="1155" y="1032"/>
                </a:lnTo>
                <a:lnTo>
                  <a:pt x="1111" y="997"/>
                </a:lnTo>
                <a:lnTo>
                  <a:pt x="1067" y="962"/>
                </a:lnTo>
                <a:lnTo>
                  <a:pt x="1023" y="962"/>
                </a:lnTo>
                <a:lnTo>
                  <a:pt x="983" y="927"/>
                </a:lnTo>
                <a:lnTo>
                  <a:pt x="939" y="891"/>
                </a:lnTo>
                <a:lnTo>
                  <a:pt x="895" y="891"/>
                </a:lnTo>
                <a:lnTo>
                  <a:pt x="855" y="856"/>
                </a:lnTo>
                <a:lnTo>
                  <a:pt x="811" y="821"/>
                </a:lnTo>
                <a:lnTo>
                  <a:pt x="767" y="781"/>
                </a:lnTo>
                <a:lnTo>
                  <a:pt x="727" y="781"/>
                </a:lnTo>
                <a:lnTo>
                  <a:pt x="683" y="746"/>
                </a:lnTo>
                <a:lnTo>
                  <a:pt x="639" y="709"/>
                </a:lnTo>
                <a:lnTo>
                  <a:pt x="595" y="674"/>
                </a:lnTo>
                <a:lnTo>
                  <a:pt x="555" y="674"/>
                </a:lnTo>
                <a:lnTo>
                  <a:pt x="511" y="639"/>
                </a:lnTo>
                <a:lnTo>
                  <a:pt x="467" y="604"/>
                </a:lnTo>
                <a:lnTo>
                  <a:pt x="467" y="568"/>
                </a:lnTo>
                <a:lnTo>
                  <a:pt x="427" y="533"/>
                </a:lnTo>
                <a:lnTo>
                  <a:pt x="383" y="533"/>
                </a:lnTo>
                <a:lnTo>
                  <a:pt x="339" y="498"/>
                </a:lnTo>
                <a:lnTo>
                  <a:pt x="339" y="463"/>
                </a:lnTo>
                <a:lnTo>
                  <a:pt x="299" y="427"/>
                </a:lnTo>
                <a:lnTo>
                  <a:pt x="255" y="392"/>
                </a:lnTo>
                <a:lnTo>
                  <a:pt x="255" y="352"/>
                </a:lnTo>
                <a:lnTo>
                  <a:pt x="211" y="317"/>
                </a:lnTo>
                <a:lnTo>
                  <a:pt x="171" y="317"/>
                </a:lnTo>
                <a:lnTo>
                  <a:pt x="171" y="282"/>
                </a:lnTo>
                <a:lnTo>
                  <a:pt x="127" y="246"/>
                </a:lnTo>
                <a:lnTo>
                  <a:pt x="127" y="211"/>
                </a:lnTo>
                <a:lnTo>
                  <a:pt x="83" y="176"/>
                </a:lnTo>
                <a:lnTo>
                  <a:pt x="83" y="141"/>
                </a:lnTo>
                <a:lnTo>
                  <a:pt x="39" y="105"/>
                </a:lnTo>
                <a:lnTo>
                  <a:pt x="39" y="70"/>
                </a:lnTo>
                <a:lnTo>
                  <a:pt x="0" y="35"/>
                </a:lnTo>
                <a:lnTo>
                  <a:pt x="0" y="35"/>
                </a:lnTo>
                <a:lnTo>
                  <a:pt x="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51240" y="3691080"/>
            <a:ext cx="400320" cy="719640"/>
          </a:xfrm>
          <a:custGeom>
            <a:avLst/>
            <a:gdLst/>
            <a:ahLst/>
            <a:rect l="0" t="0" r="r" b="b"/>
            <a:pathLst>
              <a:path fill="none" w="1112" h="1999">
                <a:moveTo>
                  <a:pt x="127" y="1999"/>
                </a:moveTo>
                <a:lnTo>
                  <a:pt x="83" y="1964"/>
                </a:lnTo>
                <a:lnTo>
                  <a:pt x="83" y="1929"/>
                </a:lnTo>
                <a:lnTo>
                  <a:pt x="83" y="1889"/>
                </a:lnTo>
                <a:lnTo>
                  <a:pt x="39" y="1854"/>
                </a:lnTo>
                <a:lnTo>
                  <a:pt x="39" y="1818"/>
                </a:lnTo>
                <a:lnTo>
                  <a:pt x="39" y="1783"/>
                </a:lnTo>
                <a:lnTo>
                  <a:pt x="39" y="1748"/>
                </a:lnTo>
                <a:lnTo>
                  <a:pt x="0" y="1712"/>
                </a:lnTo>
                <a:lnTo>
                  <a:pt x="0" y="1677"/>
                </a:lnTo>
                <a:lnTo>
                  <a:pt x="0" y="1642"/>
                </a:lnTo>
                <a:lnTo>
                  <a:pt x="0" y="1642"/>
                </a:lnTo>
                <a:lnTo>
                  <a:pt x="0" y="1607"/>
                </a:lnTo>
                <a:lnTo>
                  <a:pt x="0" y="1571"/>
                </a:lnTo>
                <a:lnTo>
                  <a:pt x="0" y="1536"/>
                </a:lnTo>
                <a:lnTo>
                  <a:pt x="0" y="1501"/>
                </a:lnTo>
                <a:lnTo>
                  <a:pt x="0" y="1460"/>
                </a:lnTo>
                <a:lnTo>
                  <a:pt x="0" y="1425"/>
                </a:lnTo>
                <a:lnTo>
                  <a:pt x="0" y="1390"/>
                </a:lnTo>
                <a:lnTo>
                  <a:pt x="0" y="1354"/>
                </a:lnTo>
                <a:lnTo>
                  <a:pt x="0" y="1319"/>
                </a:lnTo>
                <a:lnTo>
                  <a:pt x="0" y="1284"/>
                </a:lnTo>
                <a:lnTo>
                  <a:pt x="0" y="1248"/>
                </a:lnTo>
                <a:lnTo>
                  <a:pt x="0" y="1213"/>
                </a:lnTo>
                <a:lnTo>
                  <a:pt x="0" y="1178"/>
                </a:lnTo>
                <a:lnTo>
                  <a:pt x="39" y="1178"/>
                </a:lnTo>
                <a:lnTo>
                  <a:pt x="39" y="1143"/>
                </a:lnTo>
                <a:lnTo>
                  <a:pt x="39" y="1107"/>
                </a:lnTo>
                <a:lnTo>
                  <a:pt x="39" y="1072"/>
                </a:lnTo>
                <a:lnTo>
                  <a:pt x="83" y="1037"/>
                </a:lnTo>
                <a:lnTo>
                  <a:pt x="83" y="997"/>
                </a:lnTo>
                <a:lnTo>
                  <a:pt x="83" y="962"/>
                </a:lnTo>
                <a:lnTo>
                  <a:pt x="127" y="927"/>
                </a:lnTo>
                <a:lnTo>
                  <a:pt x="127" y="891"/>
                </a:lnTo>
                <a:lnTo>
                  <a:pt x="127" y="856"/>
                </a:lnTo>
                <a:lnTo>
                  <a:pt x="167" y="821"/>
                </a:lnTo>
                <a:lnTo>
                  <a:pt x="167" y="785"/>
                </a:lnTo>
                <a:lnTo>
                  <a:pt x="211" y="785"/>
                </a:lnTo>
                <a:lnTo>
                  <a:pt x="211" y="750"/>
                </a:lnTo>
                <a:lnTo>
                  <a:pt x="255" y="715"/>
                </a:lnTo>
                <a:lnTo>
                  <a:pt x="255" y="680"/>
                </a:lnTo>
                <a:lnTo>
                  <a:pt x="299" y="644"/>
                </a:lnTo>
                <a:lnTo>
                  <a:pt x="339" y="609"/>
                </a:lnTo>
                <a:lnTo>
                  <a:pt x="339" y="569"/>
                </a:lnTo>
                <a:lnTo>
                  <a:pt x="383" y="534"/>
                </a:lnTo>
                <a:lnTo>
                  <a:pt x="427" y="534"/>
                </a:lnTo>
                <a:lnTo>
                  <a:pt x="427" y="498"/>
                </a:lnTo>
                <a:lnTo>
                  <a:pt x="467" y="463"/>
                </a:lnTo>
                <a:lnTo>
                  <a:pt x="511" y="427"/>
                </a:lnTo>
                <a:lnTo>
                  <a:pt x="511" y="392"/>
                </a:lnTo>
                <a:lnTo>
                  <a:pt x="555" y="357"/>
                </a:lnTo>
                <a:lnTo>
                  <a:pt x="596" y="321"/>
                </a:lnTo>
                <a:lnTo>
                  <a:pt x="640" y="321"/>
                </a:lnTo>
                <a:lnTo>
                  <a:pt x="684" y="286"/>
                </a:lnTo>
                <a:lnTo>
                  <a:pt x="684" y="251"/>
                </a:lnTo>
                <a:lnTo>
                  <a:pt x="724" y="216"/>
                </a:lnTo>
                <a:lnTo>
                  <a:pt x="768" y="180"/>
                </a:lnTo>
                <a:lnTo>
                  <a:pt x="812" y="180"/>
                </a:lnTo>
                <a:lnTo>
                  <a:pt x="856" y="145"/>
                </a:lnTo>
                <a:lnTo>
                  <a:pt x="896" y="105"/>
                </a:lnTo>
                <a:lnTo>
                  <a:pt x="940" y="70"/>
                </a:lnTo>
                <a:lnTo>
                  <a:pt x="984" y="70"/>
                </a:lnTo>
                <a:lnTo>
                  <a:pt x="1024" y="35"/>
                </a:lnTo>
                <a:lnTo>
                  <a:pt x="1068" y="0"/>
                </a:lnTo>
                <a:lnTo>
                  <a:pt x="1112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651200" y="3498840"/>
            <a:ext cx="1308600" cy="192600"/>
          </a:xfrm>
          <a:custGeom>
            <a:avLst/>
            <a:gdLst/>
            <a:ahLst/>
            <a:rect l="0" t="0" r="r" b="b"/>
            <a:pathLst>
              <a:path fill="none" w="3635" h="535">
                <a:moveTo>
                  <a:pt x="0" y="535"/>
                </a:moveTo>
                <a:lnTo>
                  <a:pt x="39" y="500"/>
                </a:lnTo>
                <a:lnTo>
                  <a:pt x="83" y="465"/>
                </a:lnTo>
                <a:lnTo>
                  <a:pt x="127" y="465"/>
                </a:lnTo>
                <a:lnTo>
                  <a:pt x="171" y="429"/>
                </a:lnTo>
                <a:lnTo>
                  <a:pt x="255" y="393"/>
                </a:lnTo>
                <a:lnTo>
                  <a:pt x="299" y="393"/>
                </a:lnTo>
                <a:lnTo>
                  <a:pt x="339" y="358"/>
                </a:lnTo>
                <a:lnTo>
                  <a:pt x="383" y="322"/>
                </a:lnTo>
                <a:lnTo>
                  <a:pt x="427" y="322"/>
                </a:lnTo>
                <a:lnTo>
                  <a:pt x="511" y="287"/>
                </a:lnTo>
                <a:lnTo>
                  <a:pt x="555" y="287"/>
                </a:lnTo>
                <a:lnTo>
                  <a:pt x="595" y="252"/>
                </a:lnTo>
                <a:lnTo>
                  <a:pt x="639" y="252"/>
                </a:lnTo>
                <a:lnTo>
                  <a:pt x="683" y="212"/>
                </a:lnTo>
                <a:lnTo>
                  <a:pt x="767" y="212"/>
                </a:lnTo>
                <a:lnTo>
                  <a:pt x="811" y="177"/>
                </a:lnTo>
                <a:lnTo>
                  <a:pt x="855" y="177"/>
                </a:lnTo>
                <a:lnTo>
                  <a:pt x="940" y="142"/>
                </a:lnTo>
                <a:lnTo>
                  <a:pt x="984" y="142"/>
                </a:lnTo>
                <a:lnTo>
                  <a:pt x="1024" y="105"/>
                </a:lnTo>
                <a:lnTo>
                  <a:pt x="1112" y="105"/>
                </a:lnTo>
                <a:lnTo>
                  <a:pt x="1156" y="105"/>
                </a:lnTo>
                <a:lnTo>
                  <a:pt x="1196" y="70"/>
                </a:lnTo>
                <a:lnTo>
                  <a:pt x="1284" y="70"/>
                </a:lnTo>
                <a:lnTo>
                  <a:pt x="1323" y="70"/>
                </a:lnTo>
                <a:lnTo>
                  <a:pt x="1412" y="70"/>
                </a:lnTo>
                <a:lnTo>
                  <a:pt x="1451" y="35"/>
                </a:lnTo>
                <a:lnTo>
                  <a:pt x="1495" y="35"/>
                </a:lnTo>
                <a:lnTo>
                  <a:pt x="1579" y="35"/>
                </a:lnTo>
                <a:lnTo>
                  <a:pt x="1623" y="35"/>
                </a:lnTo>
                <a:lnTo>
                  <a:pt x="1711" y="35"/>
                </a:lnTo>
                <a:lnTo>
                  <a:pt x="1751" y="0"/>
                </a:lnTo>
                <a:lnTo>
                  <a:pt x="1795" y="0"/>
                </a:lnTo>
                <a:lnTo>
                  <a:pt x="1879" y="0"/>
                </a:lnTo>
                <a:lnTo>
                  <a:pt x="1923" y="0"/>
                </a:lnTo>
                <a:lnTo>
                  <a:pt x="2007" y="0"/>
                </a:lnTo>
                <a:lnTo>
                  <a:pt x="2051" y="0"/>
                </a:lnTo>
                <a:lnTo>
                  <a:pt x="2139" y="0"/>
                </a:lnTo>
                <a:lnTo>
                  <a:pt x="2179" y="0"/>
                </a:lnTo>
                <a:lnTo>
                  <a:pt x="2223" y="0"/>
                </a:lnTo>
                <a:lnTo>
                  <a:pt x="2307" y="0"/>
                </a:lnTo>
                <a:lnTo>
                  <a:pt x="2351" y="0"/>
                </a:lnTo>
                <a:lnTo>
                  <a:pt x="2435" y="0"/>
                </a:lnTo>
                <a:lnTo>
                  <a:pt x="2479" y="0"/>
                </a:lnTo>
                <a:lnTo>
                  <a:pt x="2563" y="35"/>
                </a:lnTo>
                <a:lnTo>
                  <a:pt x="2607" y="35"/>
                </a:lnTo>
                <a:lnTo>
                  <a:pt x="2651" y="35"/>
                </a:lnTo>
                <a:lnTo>
                  <a:pt x="2736" y="35"/>
                </a:lnTo>
                <a:lnTo>
                  <a:pt x="2780" y="35"/>
                </a:lnTo>
                <a:lnTo>
                  <a:pt x="2863" y="70"/>
                </a:lnTo>
                <a:lnTo>
                  <a:pt x="2908" y="70"/>
                </a:lnTo>
                <a:lnTo>
                  <a:pt x="2952" y="70"/>
                </a:lnTo>
                <a:lnTo>
                  <a:pt x="3035" y="105"/>
                </a:lnTo>
                <a:lnTo>
                  <a:pt x="3079" y="105"/>
                </a:lnTo>
                <a:lnTo>
                  <a:pt x="3163" y="105"/>
                </a:lnTo>
                <a:lnTo>
                  <a:pt x="3207" y="142"/>
                </a:lnTo>
                <a:lnTo>
                  <a:pt x="3251" y="142"/>
                </a:lnTo>
                <a:lnTo>
                  <a:pt x="3335" y="142"/>
                </a:lnTo>
                <a:lnTo>
                  <a:pt x="3379" y="177"/>
                </a:lnTo>
                <a:lnTo>
                  <a:pt x="3419" y="177"/>
                </a:lnTo>
                <a:lnTo>
                  <a:pt x="3507" y="212"/>
                </a:lnTo>
                <a:lnTo>
                  <a:pt x="3547" y="212"/>
                </a:lnTo>
                <a:lnTo>
                  <a:pt x="3591" y="252"/>
                </a:lnTo>
                <a:lnTo>
                  <a:pt x="3635" y="252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959440" y="3589200"/>
            <a:ext cx="554400" cy="397080"/>
          </a:xfrm>
          <a:custGeom>
            <a:avLst/>
            <a:gdLst/>
            <a:ahLst/>
            <a:rect l="0" t="0" r="r" b="b"/>
            <a:pathLst>
              <a:path fill="none" w="1540" h="1103">
                <a:moveTo>
                  <a:pt x="0" y="0"/>
                </a:moveTo>
                <a:lnTo>
                  <a:pt x="83" y="35"/>
                </a:lnTo>
                <a:lnTo>
                  <a:pt x="127" y="70"/>
                </a:lnTo>
                <a:lnTo>
                  <a:pt x="171" y="70"/>
                </a:lnTo>
                <a:lnTo>
                  <a:pt x="211" y="105"/>
                </a:lnTo>
                <a:lnTo>
                  <a:pt x="255" y="105"/>
                </a:lnTo>
                <a:lnTo>
                  <a:pt x="339" y="141"/>
                </a:lnTo>
                <a:lnTo>
                  <a:pt x="383" y="176"/>
                </a:lnTo>
                <a:lnTo>
                  <a:pt x="428" y="176"/>
                </a:lnTo>
                <a:lnTo>
                  <a:pt x="472" y="211"/>
                </a:lnTo>
                <a:lnTo>
                  <a:pt x="512" y="246"/>
                </a:lnTo>
                <a:lnTo>
                  <a:pt x="556" y="246"/>
                </a:lnTo>
                <a:lnTo>
                  <a:pt x="600" y="282"/>
                </a:lnTo>
                <a:lnTo>
                  <a:pt x="640" y="317"/>
                </a:lnTo>
                <a:lnTo>
                  <a:pt x="684" y="317"/>
                </a:lnTo>
                <a:lnTo>
                  <a:pt x="728" y="352"/>
                </a:lnTo>
                <a:lnTo>
                  <a:pt x="768" y="388"/>
                </a:lnTo>
                <a:lnTo>
                  <a:pt x="812" y="427"/>
                </a:lnTo>
                <a:lnTo>
                  <a:pt x="856" y="427"/>
                </a:lnTo>
                <a:lnTo>
                  <a:pt x="900" y="463"/>
                </a:lnTo>
                <a:lnTo>
                  <a:pt x="940" y="498"/>
                </a:lnTo>
                <a:lnTo>
                  <a:pt x="984" y="533"/>
                </a:lnTo>
                <a:lnTo>
                  <a:pt x="1028" y="569"/>
                </a:lnTo>
                <a:lnTo>
                  <a:pt x="1068" y="569"/>
                </a:lnTo>
                <a:lnTo>
                  <a:pt x="1112" y="605"/>
                </a:lnTo>
                <a:lnTo>
                  <a:pt x="1157" y="640"/>
                </a:lnTo>
                <a:lnTo>
                  <a:pt x="1157" y="675"/>
                </a:lnTo>
                <a:lnTo>
                  <a:pt x="1197" y="710"/>
                </a:lnTo>
                <a:lnTo>
                  <a:pt x="1241" y="746"/>
                </a:lnTo>
                <a:lnTo>
                  <a:pt x="1285" y="781"/>
                </a:lnTo>
                <a:lnTo>
                  <a:pt x="1285" y="781"/>
                </a:lnTo>
                <a:lnTo>
                  <a:pt x="1324" y="816"/>
                </a:lnTo>
                <a:lnTo>
                  <a:pt x="1369" y="852"/>
                </a:lnTo>
                <a:lnTo>
                  <a:pt x="1369" y="891"/>
                </a:lnTo>
                <a:lnTo>
                  <a:pt x="1413" y="927"/>
                </a:lnTo>
                <a:lnTo>
                  <a:pt x="1457" y="962"/>
                </a:lnTo>
                <a:lnTo>
                  <a:pt x="1457" y="997"/>
                </a:lnTo>
                <a:lnTo>
                  <a:pt x="1496" y="1032"/>
                </a:lnTo>
                <a:lnTo>
                  <a:pt x="1496" y="1032"/>
                </a:lnTo>
                <a:lnTo>
                  <a:pt x="1540" y="1068"/>
                </a:lnTo>
                <a:lnTo>
                  <a:pt x="1540" y="1103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8013600" y="6248520"/>
            <a:ext cx="330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s de Ecuaciones Diferen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stemas de Ecuacion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uaciones Diferenciales de orden m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s numéricos para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eoría cuali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aeaea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lano de f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aeaea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untos de equili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eaeaea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stemas de Ecuaciones Diferen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5105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one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76480" y="1863720"/>
            <a:ext cx="566568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65240" y="4570560"/>
            <a:ext cx="5886360" cy="53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087640" y="5943600"/>
            <a:ext cx="5641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uaciones Diferenciales de orden m &g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2514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ones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03360" y="2057400"/>
            <a:ext cx="7472520" cy="436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24160" y="2971800"/>
            <a:ext cx="7489800" cy="449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806480" y="4081320"/>
            <a:ext cx="6680160" cy="2298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143000" y="358128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bio d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358128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equival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resión matricial del S.E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26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de valor inic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43120" y="2590920"/>
            <a:ext cx="654516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43120" y="3841920"/>
            <a:ext cx="59738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jemplo: movimiento del pénd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y de Newton: ecuación de 2º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0"/>
              </a:lnSpc>
              <a:spcBef>
                <a:spcPts val="7200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iferencial d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14440" y="2557440"/>
            <a:ext cx="689760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38360" y="4457880"/>
            <a:ext cx="323064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6095880" y="4267080"/>
            <a:ext cx="2514600" cy="2133720"/>
            <a:chOff x="6095880" y="4267080"/>
            <a:chExt cx="2514600" cy="2133720"/>
          </a:xfrm>
        </p:grpSpPr>
        <p:sp>
          <p:nvSpPr>
            <p:cNvPr id="109" name=""/>
            <p:cNvSpPr/>
            <p:nvPr/>
          </p:nvSpPr>
          <p:spPr>
            <a:xfrm>
              <a:off x="6095880" y="4267080"/>
              <a:ext cx="2514600" cy="2133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26360" y="4435560"/>
              <a:ext cx="909720" cy="1292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2080" y="5670720"/>
              <a:ext cx="268200" cy="28116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6360" y="4435560"/>
              <a:ext cx="0" cy="179712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4880" y="4799520"/>
              <a:ext cx="229680" cy="84240"/>
            </a:xfrm>
            <a:custGeom>
              <a:avLst/>
              <a:gdLst/>
              <a:ahLst/>
              <a:rect l="0" t="0" r="r" b="b"/>
              <a:pathLst>
                <a:path fill="none" w="638" h="234">
                  <a:moveTo>
                    <a:pt x="0" y="234"/>
                  </a:moveTo>
                  <a:lnTo>
                    <a:pt x="0" y="234"/>
                  </a:lnTo>
                  <a:cubicBezTo>
                    <a:pt x="113" y="226"/>
                    <a:pt x="222" y="206"/>
                    <a:pt x="321" y="175"/>
                  </a:cubicBezTo>
                  <a:cubicBezTo>
                    <a:pt x="451" y="134"/>
                    <a:pt x="560" y="74"/>
                    <a:pt x="635" y="3"/>
                  </a:cubicBezTo>
                  <a:cubicBezTo>
                    <a:pt x="636" y="2"/>
                    <a:pt x="637" y="1"/>
                    <a:pt x="638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7421400" y="4862520"/>
              <a:ext cx="38736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8012160" y="4975200"/>
              <a:ext cx="297000" cy="57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jemplo: circuito eléct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ción de 2º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0"/>
              </a:lnSpc>
              <a:spcBef>
                <a:spcPts val="7200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iferencial d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62240" y="2557440"/>
            <a:ext cx="7299360" cy="94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78000" y="4457880"/>
            <a:ext cx="3943440" cy="154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38680" y="4114800"/>
            <a:ext cx="3352680" cy="2440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431200" y="5172120"/>
            <a:ext cx="431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8600" y="4780080"/>
            <a:ext cx="1641600" cy="1257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50120" y="4780080"/>
            <a:ext cx="428760" cy="0"/>
          </a:xfrm>
          <a:prstGeom prst="line">
            <a:avLst/>
          </a:prstGeom>
          <a:ln w="127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-108360" bIns="-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66040" y="5224320"/>
            <a:ext cx="285840" cy="29520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38040" y="5297400"/>
            <a:ext cx="72720" cy="74880"/>
          </a:xfrm>
          <a:custGeom>
            <a:avLst/>
            <a:gdLst/>
            <a:ahLst/>
            <a:rect l="0" t="0" r="r" b="b"/>
            <a:pathLst>
              <a:path fill="none" w="202" h="208">
                <a:moveTo>
                  <a:pt x="202" y="208"/>
                </a:moveTo>
                <a:lnTo>
                  <a:pt x="202" y="208"/>
                </a:lnTo>
                <a:lnTo>
                  <a:pt x="202" y="208"/>
                </a:lnTo>
                <a:cubicBezTo>
                  <a:pt x="202" y="171"/>
                  <a:pt x="193" y="136"/>
                  <a:pt x="175" y="104"/>
                </a:cubicBezTo>
                <a:cubicBezTo>
                  <a:pt x="157" y="72"/>
                  <a:pt x="132" y="46"/>
                  <a:pt x="101" y="28"/>
                </a:cubicBezTo>
                <a:cubicBezTo>
                  <a:pt x="70" y="10"/>
                  <a:pt x="35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66040" y="5297400"/>
            <a:ext cx="72720" cy="74880"/>
          </a:xfrm>
          <a:custGeom>
            <a:avLst/>
            <a:gdLst/>
            <a:ahLst/>
            <a:rect l="0" t="0" r="r" b="b"/>
            <a:pathLst>
              <a:path fill="none" w="202" h="208">
                <a:moveTo>
                  <a:pt x="202" y="0"/>
                </a:moveTo>
                <a:lnTo>
                  <a:pt x="202" y="0"/>
                </a:lnTo>
                <a:cubicBezTo>
                  <a:pt x="167" y="0"/>
                  <a:pt x="132" y="10"/>
                  <a:pt x="101" y="28"/>
                </a:cubicBezTo>
                <a:cubicBezTo>
                  <a:pt x="70" y="46"/>
                  <a:pt x="45" y="72"/>
                  <a:pt x="27" y="104"/>
                </a:cubicBezTo>
                <a:cubicBezTo>
                  <a:pt x="9" y="136"/>
                  <a:pt x="0" y="171"/>
                  <a:pt x="0" y="208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1520" y="5445720"/>
            <a:ext cx="71640" cy="74160"/>
          </a:xfrm>
          <a:custGeom>
            <a:avLst/>
            <a:gdLst/>
            <a:ahLst/>
            <a:rect l="0" t="0" r="r" b="b"/>
            <a:pathLst>
              <a:path fill="none" w="199" h="206">
                <a:moveTo>
                  <a:pt x="0" y="0"/>
                </a:moveTo>
                <a:lnTo>
                  <a:pt x="0" y="206"/>
                </a:lnTo>
                <a:lnTo>
                  <a:pt x="0" y="206"/>
                </a:lnTo>
                <a:cubicBezTo>
                  <a:pt x="35" y="206"/>
                  <a:pt x="69" y="196"/>
                  <a:pt x="100" y="178"/>
                </a:cubicBezTo>
                <a:cubicBezTo>
                  <a:pt x="130" y="160"/>
                  <a:pt x="155" y="134"/>
                  <a:pt x="172" y="103"/>
                </a:cubicBezTo>
                <a:cubicBezTo>
                  <a:pt x="190" y="72"/>
                  <a:pt x="199" y="36"/>
                  <a:pt x="199" y="0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38760" y="5445720"/>
            <a:ext cx="70920" cy="74160"/>
          </a:xfrm>
          <a:custGeom>
            <a:avLst/>
            <a:gdLst/>
            <a:ahLst/>
            <a:rect l="0" t="0" r="r" b="b"/>
            <a:pathLst>
              <a:path fill="none" w="197" h="206">
                <a:moveTo>
                  <a:pt x="197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ubicBezTo>
                  <a:pt x="0" y="36"/>
                  <a:pt x="9" y="72"/>
                  <a:pt x="26" y="103"/>
                </a:cubicBezTo>
                <a:cubicBezTo>
                  <a:pt x="44" y="134"/>
                  <a:pt x="69" y="160"/>
                  <a:pt x="99" y="178"/>
                </a:cubicBezTo>
                <a:cubicBezTo>
                  <a:pt x="128" y="196"/>
                  <a:pt x="162" y="206"/>
                  <a:pt x="197" y="20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9680" y="5097600"/>
            <a:ext cx="816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432560" y="4137120"/>
            <a:ext cx="455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64320" y="6037200"/>
            <a:ext cx="71640" cy="0"/>
          </a:xfrm>
          <a:prstGeom prst="line">
            <a:avLst/>
          </a:prstGeom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5960" y="5889600"/>
            <a:ext cx="0" cy="295200"/>
          </a:xfrm>
          <a:prstGeom prst="line">
            <a:avLst/>
          </a:prstGeom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64320" y="5889600"/>
            <a:ext cx="0" cy="295200"/>
          </a:xfrm>
          <a:prstGeom prst="line">
            <a:avLst/>
          </a:prstGeom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78920" y="5224320"/>
            <a:ext cx="142920" cy="369720"/>
          </a:xfrm>
          <a:prstGeom prst="round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18400" y="6059520"/>
            <a:ext cx="455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s numéricos para sis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 [t,y]=mieuler(a,b,y0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=length(y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=(b-a)/n; t=a:h: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y=zeros(n+1,m); y(1,:)=y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k=1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y(k+1,:)=y(k,:)+h*f(t(k),y(k,: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oría cualit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 2 ecuacion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479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autón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tos de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970600" y="1905120"/>
            <a:ext cx="2716200" cy="1380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70600" y="3657600"/>
            <a:ext cx="2139840" cy="1220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970600" y="5181480"/>
            <a:ext cx="20019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.P.D.</dc:creator>
  <dc:description/>
  <dc:language>en-US</dc:language>
  <cp:lastModifiedBy>A.P.D.</cp:lastModifiedBy>
  <cp:revision>0</cp:revision>
  <dc:subject/>
  <dc:title>PRACTICA 12</dc:title>
</cp:coreProperties>
</file>