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cc"/>
              </a:gs>
              <a:gs pos="100000">
                <a:srgbClr val="009999"/>
              </a:gs>
            </a:gsLst>
            <a:path path="rect">
              <a:fillToRect l="100000" t="100000" r="0" b="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80880" y="620640"/>
            <a:ext cx="8785440" cy="6235920"/>
            <a:chOff x="380880" y="620640"/>
            <a:chExt cx="8785440" cy="6235920"/>
          </a:xfrm>
        </p:grpSpPr>
        <p:sp>
          <p:nvSpPr>
            <p:cNvPr id="2" name=""/>
            <p:cNvSpPr/>
            <p:nvPr/>
          </p:nvSpPr>
          <p:spPr>
            <a:xfrm>
              <a:off x="380880" y="1701720"/>
              <a:ext cx="8785440" cy="5154840"/>
            </a:xfrm>
            <a:custGeom>
              <a:avLst/>
              <a:gdLst/>
              <a:ahLst/>
              <a:rect l="0" t="0" r="r" b="b"/>
              <a:pathLst>
                <a:path fill="none" w="24404" h="14319">
                  <a:moveTo>
                    <a:pt x="24404" y="0"/>
                  </a:moveTo>
                  <a:lnTo>
                    <a:pt x="0" y="0"/>
                  </a:lnTo>
                  <a:lnTo>
                    <a:pt x="0" y="14319"/>
                  </a:lnTo>
                </a:path>
              </a:pathLst>
            </a:custGeom>
            <a:ln w="101520">
              <a:solidFill>
                <a:srgbClr val="00cccc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80" y="620640"/>
              <a:ext cx="8785440" cy="6235920"/>
            </a:xfrm>
            <a:custGeom>
              <a:avLst/>
              <a:gdLst/>
              <a:ahLst/>
              <a:rect l="0" t="0" r="r" b="b"/>
              <a:pathLst>
                <a:path fill="none" w="24404" h="17322">
                  <a:moveTo>
                    <a:pt x="1909" y="17322"/>
                  </a:moveTo>
                  <a:lnTo>
                    <a:pt x="1909" y="0"/>
                  </a:lnTo>
                  <a:lnTo>
                    <a:pt x="0" y="0"/>
                  </a:lnTo>
                  <a:lnTo>
                    <a:pt x="0" y="2143"/>
                  </a:lnTo>
                  <a:lnTo>
                    <a:pt x="24404" y="2143"/>
                  </a:lnTo>
                </a:path>
              </a:pathLst>
            </a:custGeom>
            <a:ln w="101520">
              <a:solidFill>
                <a:srgbClr val="00cccc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cc"/>
              </a:gs>
              <a:gs pos="100000">
                <a:srgbClr val="009999"/>
              </a:gs>
            </a:gsLst>
            <a:path path="rect">
              <a:fillToRect l="100000" t="100000" r="0" b="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8680" y="2131920"/>
            <a:ext cx="8838000" cy="4724640"/>
            <a:chOff x="328680" y="2131920"/>
            <a:chExt cx="8838000" cy="4724640"/>
          </a:xfrm>
        </p:grpSpPr>
        <p:sp>
          <p:nvSpPr>
            <p:cNvPr id="44" name=""/>
            <p:cNvSpPr/>
            <p:nvPr/>
          </p:nvSpPr>
          <p:spPr>
            <a:xfrm>
              <a:off x="328680" y="3213000"/>
              <a:ext cx="8822160" cy="3643560"/>
            </a:xfrm>
            <a:custGeom>
              <a:avLst/>
              <a:gdLst/>
              <a:ahLst/>
              <a:rect l="0" t="0" r="r" b="b"/>
              <a:pathLst>
                <a:path fill="none" w="24506" h="10121">
                  <a:moveTo>
                    <a:pt x="24506" y="0"/>
                  </a:moveTo>
                  <a:lnTo>
                    <a:pt x="0" y="0"/>
                  </a:lnTo>
                  <a:lnTo>
                    <a:pt x="0" y="10121"/>
                  </a:lnTo>
                </a:path>
              </a:pathLst>
            </a:custGeom>
            <a:ln w="101520">
              <a:solidFill>
                <a:srgbClr val="00cccc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8680" y="2131920"/>
              <a:ext cx="8838000" cy="4724640"/>
            </a:xfrm>
            <a:custGeom>
              <a:avLst/>
              <a:gdLst/>
              <a:ahLst/>
              <a:rect l="0" t="0" r="r" b="b"/>
              <a:pathLst>
                <a:path fill="none" w="24550" h="13124">
                  <a:moveTo>
                    <a:pt x="1925" y="13124"/>
                  </a:moveTo>
                  <a:lnTo>
                    <a:pt x="1920" y="0"/>
                  </a:lnTo>
                  <a:lnTo>
                    <a:pt x="0" y="0"/>
                  </a:lnTo>
                  <a:lnTo>
                    <a:pt x="0" y="2143"/>
                  </a:lnTo>
                  <a:lnTo>
                    <a:pt x="24550" y="2143"/>
                  </a:lnTo>
                </a:path>
              </a:pathLst>
            </a:custGeom>
            <a:ln w="101520">
              <a:solidFill>
                <a:srgbClr val="00cccc"/>
              </a:solidFill>
              <a:round/>
            </a:ln>
          </p:spPr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21932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CA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uaciones Diferenciales Ordinari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uciones aproximadas (Eul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95280" y="1905120"/>
            <a:ext cx="7696080" cy="4799160"/>
          </a:xfrm>
          <a:prstGeom prst="rect">
            <a:avLst/>
          </a:prstGeom>
          <a:solidFill>
            <a:srgbClr val="009999"/>
          </a:solidFill>
          <a:ln w="12600">
            <a:solidFill>
              <a:srgbClr val="0099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295360" y="6165720"/>
            <a:ext cx="592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295360" y="2289240"/>
            <a:ext cx="592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295360" y="2289240"/>
            <a:ext cx="0" cy="387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8221680" y="2289240"/>
            <a:ext cx="0" cy="387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295360" y="22892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21680" y="616572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295360" y="6165720"/>
            <a:ext cx="592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2295360" y="2289240"/>
            <a:ext cx="0" cy="387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295360" y="616572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295360" y="611496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295360" y="22892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2144880" y="624672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3281400" y="611496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81400" y="22892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38400" y="6246720"/>
            <a:ext cx="414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0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4265640" y="611496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265640" y="22892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114800" y="624672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5267160" y="611496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267160" y="22892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022720" y="6246720"/>
            <a:ext cx="414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251400" y="611496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51400" y="22892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100920" y="624672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237440" y="611496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237440" y="22892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993000" y="6246720"/>
            <a:ext cx="414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8221680" y="611496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221680" y="22892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8070840" y="624672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295360" y="61657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8159760" y="61657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2049480" y="596736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295360" y="578340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8159760" y="578340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881360" y="5583240"/>
            <a:ext cx="414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0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295360" y="53863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8159760" y="53863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2049480" y="518652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295360" y="500220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8159760" y="500220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881360" y="4802040"/>
            <a:ext cx="414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295360" y="461808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8159760" y="461808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2049480" y="441792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295360" y="423396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8159760" y="423396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881360" y="4033800"/>
            <a:ext cx="414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295360" y="383688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8159760" y="383688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2049480" y="363852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295360" y="345276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8159760" y="345276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1881360" y="3254400"/>
            <a:ext cx="414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295360" y="307008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8159760" y="307008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2049480" y="287028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295360" y="267336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8159760" y="267336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881360" y="2473200"/>
            <a:ext cx="414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4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295360" y="228924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8159760" y="228924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2049480" y="208908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295360" y="6165720"/>
            <a:ext cx="592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295360" y="2289240"/>
            <a:ext cx="592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295360" y="2289240"/>
            <a:ext cx="0" cy="387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8221680" y="2289240"/>
            <a:ext cx="0" cy="387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295360" y="616572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8221680" y="22892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295360" y="6165720"/>
            <a:ext cx="77760" cy="0"/>
          </a:xfrm>
          <a:custGeom>
            <a:avLst/>
            <a:gdLst/>
            <a:ahLst/>
            <a:rect l="0" t="0" r="r" b="b"/>
            <a:pathLst>
              <a:path fill="none" w="216" h="0">
                <a:moveTo>
                  <a:pt x="0" y="0"/>
                </a:moveTo>
                <a:lnTo>
                  <a:pt x="216" y="0"/>
                </a:lnTo>
                <a:lnTo>
                  <a:pt x="171" y="0"/>
                </a:lnTo>
                <a:lnTo>
                  <a:pt x="216" y="0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295360" y="598788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95360" y="5821200"/>
            <a:ext cx="78120" cy="38520"/>
          </a:xfrm>
          <a:custGeom>
            <a:avLst/>
            <a:gdLst/>
            <a:ahLst/>
            <a:rect l="0" t="0" r="r" b="b"/>
            <a:pathLst>
              <a:path fill="none" w="217" h="107">
                <a:moveTo>
                  <a:pt x="0" y="107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295360" y="5641920"/>
            <a:ext cx="78120" cy="63720"/>
          </a:xfrm>
          <a:custGeom>
            <a:avLst/>
            <a:gdLst/>
            <a:ahLst/>
            <a:rect l="0" t="0" r="r" b="b"/>
            <a:pathLst>
              <a:path fill="none" w="217" h="177">
                <a:moveTo>
                  <a:pt x="0" y="177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1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295360" y="547524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213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295360" y="5308560"/>
            <a:ext cx="78120" cy="78120"/>
          </a:xfrm>
          <a:custGeom>
            <a:avLst/>
            <a:gdLst/>
            <a:ahLst/>
            <a:rect l="0" t="0" r="r" b="b"/>
            <a:pathLst>
              <a:path fill="none" w="217" h="217">
                <a:moveTo>
                  <a:pt x="0" y="217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295360" y="514332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217" y="0"/>
                </a:lnTo>
                <a:lnTo>
                  <a:pt x="88" y="35"/>
                </a:lnTo>
                <a:lnTo>
                  <a:pt x="217" y="0"/>
                </a:lnTo>
                <a:lnTo>
                  <a:pt x="21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295360" y="497664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295360" y="482292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217" y="0"/>
                </a:lnTo>
                <a:lnTo>
                  <a:pt x="88" y="35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295360" y="465624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295360" y="450216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88" y="74"/>
                </a:lnTo>
                <a:lnTo>
                  <a:pt x="217" y="0"/>
                </a:lnTo>
                <a:lnTo>
                  <a:pt x="217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295360" y="4349880"/>
            <a:ext cx="78120" cy="114840"/>
          </a:xfrm>
          <a:custGeom>
            <a:avLst/>
            <a:gdLst/>
            <a:ahLst/>
            <a:rect l="0" t="0" r="r" b="b"/>
            <a:pathLst>
              <a:path fill="none" w="217" h="319">
                <a:moveTo>
                  <a:pt x="0" y="319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295360" y="419580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295360" y="4054320"/>
            <a:ext cx="78120" cy="90720"/>
          </a:xfrm>
          <a:custGeom>
            <a:avLst/>
            <a:gdLst/>
            <a:ahLst/>
            <a:rect l="0" t="0" r="r" b="b"/>
            <a:pathLst>
              <a:path fill="none" w="217" h="252">
                <a:moveTo>
                  <a:pt x="0" y="252"/>
                </a:moveTo>
                <a:lnTo>
                  <a:pt x="217" y="0"/>
                </a:lnTo>
                <a:lnTo>
                  <a:pt x="8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295360" y="390204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217" y="0"/>
                </a:lnTo>
                <a:lnTo>
                  <a:pt x="88" y="35"/>
                </a:lnTo>
                <a:lnTo>
                  <a:pt x="217" y="0"/>
                </a:lnTo>
                <a:lnTo>
                  <a:pt x="21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295360" y="376092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213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295360" y="3619440"/>
            <a:ext cx="78120" cy="65520"/>
          </a:xfrm>
          <a:custGeom>
            <a:avLst/>
            <a:gdLst/>
            <a:ahLst/>
            <a:rect l="0" t="0" r="r" b="b"/>
            <a:pathLst>
              <a:path fill="none" w="217" h="182">
                <a:moveTo>
                  <a:pt x="0" y="182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295360" y="347976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142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295360" y="3338640"/>
            <a:ext cx="78120" cy="38520"/>
          </a:xfrm>
          <a:custGeom>
            <a:avLst/>
            <a:gdLst/>
            <a:ahLst/>
            <a:rect l="0" t="0" r="r" b="b"/>
            <a:pathLst>
              <a:path fill="none" w="217" h="107">
                <a:moveTo>
                  <a:pt x="0" y="107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295360" y="319716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295360" y="305748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72"/>
                </a:lnTo>
                <a:lnTo>
                  <a:pt x="172" y="0"/>
                </a:lnTo>
                <a:lnTo>
                  <a:pt x="217" y="72"/>
                </a:lnTo>
                <a:lnTo>
                  <a:pt x="17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295360" y="290340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0"/>
                </a:moveTo>
                <a:lnTo>
                  <a:pt x="217" y="72"/>
                </a:lnTo>
                <a:lnTo>
                  <a:pt x="172" y="72"/>
                </a:lnTo>
                <a:lnTo>
                  <a:pt x="217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295360" y="274968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0"/>
                </a:moveTo>
                <a:lnTo>
                  <a:pt x="217" y="142"/>
                </a:lnTo>
                <a:lnTo>
                  <a:pt x="172" y="106"/>
                </a:lnTo>
                <a:lnTo>
                  <a:pt x="217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295360" y="2595600"/>
            <a:ext cx="78120" cy="78120"/>
          </a:xfrm>
          <a:custGeom>
            <a:avLst/>
            <a:gdLst/>
            <a:ahLst/>
            <a:rect l="0" t="0" r="r" b="b"/>
            <a:pathLst>
              <a:path fill="none" w="217" h="217">
                <a:moveTo>
                  <a:pt x="0" y="0"/>
                </a:moveTo>
                <a:lnTo>
                  <a:pt x="217" y="217"/>
                </a:lnTo>
                <a:lnTo>
                  <a:pt x="217" y="181"/>
                </a:lnTo>
                <a:lnTo>
                  <a:pt x="217" y="217"/>
                </a:lnTo>
                <a:lnTo>
                  <a:pt x="128" y="18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295360" y="244332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0"/>
                </a:moveTo>
                <a:lnTo>
                  <a:pt x="217" y="283"/>
                </a:lnTo>
                <a:lnTo>
                  <a:pt x="217" y="247"/>
                </a:lnTo>
                <a:lnTo>
                  <a:pt x="217" y="283"/>
                </a:lnTo>
                <a:lnTo>
                  <a:pt x="88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295360" y="2289240"/>
            <a:ext cx="78120" cy="141480"/>
          </a:xfrm>
          <a:custGeom>
            <a:avLst/>
            <a:gdLst/>
            <a:ahLst/>
            <a:rect l="0" t="0" r="r" b="b"/>
            <a:pathLst>
              <a:path fill="none" w="217" h="393">
                <a:moveTo>
                  <a:pt x="0" y="0"/>
                </a:moveTo>
                <a:lnTo>
                  <a:pt x="217" y="393"/>
                </a:lnTo>
                <a:lnTo>
                  <a:pt x="217" y="283"/>
                </a:lnTo>
                <a:lnTo>
                  <a:pt x="217" y="393"/>
                </a:lnTo>
                <a:lnTo>
                  <a:pt x="88" y="31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695680" y="6165720"/>
            <a:ext cx="61560" cy="0"/>
          </a:xfrm>
          <a:custGeom>
            <a:avLst/>
            <a:gdLst/>
            <a:ahLst/>
            <a:rect l="0" t="0" r="r" b="b"/>
            <a:pathLst>
              <a:path fill="none" w="171" h="0">
                <a:moveTo>
                  <a:pt x="0" y="0"/>
                </a:moveTo>
                <a:lnTo>
                  <a:pt x="171" y="0"/>
                </a:lnTo>
                <a:lnTo>
                  <a:pt x="127" y="0"/>
                </a:lnTo>
                <a:lnTo>
                  <a:pt x="171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695680" y="598788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72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695680" y="5821200"/>
            <a:ext cx="62280" cy="38520"/>
          </a:xfrm>
          <a:custGeom>
            <a:avLst/>
            <a:gdLst/>
            <a:ahLst/>
            <a:rect l="0" t="0" r="r" b="b"/>
            <a:pathLst>
              <a:path fill="none" w="173" h="107">
                <a:moveTo>
                  <a:pt x="0" y="107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695680" y="5641920"/>
            <a:ext cx="62280" cy="63720"/>
          </a:xfrm>
          <a:custGeom>
            <a:avLst/>
            <a:gdLst/>
            <a:ahLst/>
            <a:rect l="0" t="0" r="r" b="b"/>
            <a:pathLst>
              <a:path fill="none" w="173" h="177">
                <a:moveTo>
                  <a:pt x="0" y="177"/>
                </a:moveTo>
                <a:lnTo>
                  <a:pt x="173" y="0"/>
                </a:lnTo>
                <a:lnTo>
                  <a:pt x="128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695680" y="5475240"/>
            <a:ext cx="62280" cy="76680"/>
          </a:xfrm>
          <a:custGeom>
            <a:avLst/>
            <a:gdLst/>
            <a:ahLst/>
            <a:rect l="0" t="0" r="r" b="b"/>
            <a:pathLst>
              <a:path fill="none" w="173" h="213">
                <a:moveTo>
                  <a:pt x="0" y="213"/>
                </a:moveTo>
                <a:lnTo>
                  <a:pt x="173" y="0"/>
                </a:lnTo>
                <a:lnTo>
                  <a:pt x="89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695680" y="5308560"/>
            <a:ext cx="62280" cy="78120"/>
          </a:xfrm>
          <a:custGeom>
            <a:avLst/>
            <a:gdLst/>
            <a:ahLst/>
            <a:rect l="0" t="0" r="r" b="b"/>
            <a:pathLst>
              <a:path fill="none" w="173" h="217">
                <a:moveTo>
                  <a:pt x="0" y="217"/>
                </a:moveTo>
                <a:lnTo>
                  <a:pt x="173" y="0"/>
                </a:lnTo>
                <a:lnTo>
                  <a:pt x="89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95680" y="514332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172" y="0"/>
                </a:lnTo>
                <a:lnTo>
                  <a:pt x="88" y="35"/>
                </a:lnTo>
                <a:lnTo>
                  <a:pt x="172" y="0"/>
                </a:lnTo>
                <a:lnTo>
                  <a:pt x="21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695680" y="497664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172" y="0"/>
                </a:lnTo>
                <a:lnTo>
                  <a:pt x="88" y="70"/>
                </a:lnTo>
                <a:lnTo>
                  <a:pt x="172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695680" y="482292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172" y="0"/>
                </a:lnTo>
                <a:lnTo>
                  <a:pt x="88" y="35"/>
                </a:lnTo>
                <a:lnTo>
                  <a:pt x="172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695680" y="465624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172" y="0"/>
                </a:lnTo>
                <a:lnTo>
                  <a:pt x="88" y="70"/>
                </a:lnTo>
                <a:lnTo>
                  <a:pt x="172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695680" y="450216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172" y="0"/>
                </a:lnTo>
                <a:lnTo>
                  <a:pt x="88" y="74"/>
                </a:lnTo>
                <a:lnTo>
                  <a:pt x="172" y="0"/>
                </a:lnTo>
                <a:lnTo>
                  <a:pt x="217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695680" y="4349880"/>
            <a:ext cx="78120" cy="114840"/>
          </a:xfrm>
          <a:custGeom>
            <a:avLst/>
            <a:gdLst/>
            <a:ahLst/>
            <a:rect l="0" t="0" r="r" b="b"/>
            <a:pathLst>
              <a:path fill="none" w="217" h="319">
                <a:moveTo>
                  <a:pt x="0" y="319"/>
                </a:moveTo>
                <a:lnTo>
                  <a:pt x="172" y="0"/>
                </a:lnTo>
                <a:lnTo>
                  <a:pt x="88" y="70"/>
                </a:lnTo>
                <a:lnTo>
                  <a:pt x="172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695680" y="419580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172" y="0"/>
                </a:lnTo>
                <a:lnTo>
                  <a:pt x="88" y="70"/>
                </a:lnTo>
                <a:lnTo>
                  <a:pt x="172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695680" y="4054320"/>
            <a:ext cx="78120" cy="90720"/>
          </a:xfrm>
          <a:custGeom>
            <a:avLst/>
            <a:gdLst/>
            <a:ahLst/>
            <a:rect l="0" t="0" r="r" b="b"/>
            <a:pathLst>
              <a:path fill="none" w="217" h="252">
                <a:moveTo>
                  <a:pt x="0" y="252"/>
                </a:moveTo>
                <a:lnTo>
                  <a:pt x="172" y="0"/>
                </a:lnTo>
                <a:lnTo>
                  <a:pt x="88" y="35"/>
                </a:lnTo>
                <a:lnTo>
                  <a:pt x="172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695680" y="390204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172" y="0"/>
                </a:lnTo>
                <a:lnTo>
                  <a:pt x="88" y="35"/>
                </a:lnTo>
                <a:lnTo>
                  <a:pt x="172" y="0"/>
                </a:lnTo>
                <a:lnTo>
                  <a:pt x="21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695680" y="3760920"/>
            <a:ext cx="62280" cy="76680"/>
          </a:xfrm>
          <a:custGeom>
            <a:avLst/>
            <a:gdLst/>
            <a:ahLst/>
            <a:rect l="0" t="0" r="r" b="b"/>
            <a:pathLst>
              <a:path fill="none" w="173" h="213">
                <a:moveTo>
                  <a:pt x="0" y="213"/>
                </a:moveTo>
                <a:lnTo>
                  <a:pt x="173" y="0"/>
                </a:lnTo>
                <a:lnTo>
                  <a:pt x="89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695680" y="3619440"/>
            <a:ext cx="62280" cy="65520"/>
          </a:xfrm>
          <a:custGeom>
            <a:avLst/>
            <a:gdLst/>
            <a:ahLst/>
            <a:rect l="0" t="0" r="r" b="b"/>
            <a:pathLst>
              <a:path fill="none" w="173" h="182">
                <a:moveTo>
                  <a:pt x="0" y="182"/>
                </a:moveTo>
                <a:lnTo>
                  <a:pt x="173" y="0"/>
                </a:lnTo>
                <a:lnTo>
                  <a:pt x="89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695680" y="3479760"/>
            <a:ext cx="62280" cy="51120"/>
          </a:xfrm>
          <a:custGeom>
            <a:avLst/>
            <a:gdLst/>
            <a:ahLst/>
            <a:rect l="0" t="0" r="r" b="b"/>
            <a:pathLst>
              <a:path fill="none" w="173" h="142">
                <a:moveTo>
                  <a:pt x="0" y="142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695680" y="3338640"/>
            <a:ext cx="62280" cy="38520"/>
          </a:xfrm>
          <a:custGeom>
            <a:avLst/>
            <a:gdLst/>
            <a:ahLst/>
            <a:rect l="0" t="0" r="r" b="b"/>
            <a:pathLst>
              <a:path fill="none" w="173" h="107">
                <a:moveTo>
                  <a:pt x="0" y="107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95680" y="319716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72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695680" y="305748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72"/>
                </a:moveTo>
                <a:lnTo>
                  <a:pt x="173" y="72"/>
                </a:lnTo>
                <a:lnTo>
                  <a:pt x="128" y="0"/>
                </a:lnTo>
                <a:lnTo>
                  <a:pt x="173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695680" y="290340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0"/>
                </a:moveTo>
                <a:lnTo>
                  <a:pt x="173" y="72"/>
                </a:lnTo>
                <a:lnTo>
                  <a:pt x="173" y="72"/>
                </a:lnTo>
                <a:lnTo>
                  <a:pt x="173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695680" y="2749680"/>
            <a:ext cx="62280" cy="51120"/>
          </a:xfrm>
          <a:custGeom>
            <a:avLst/>
            <a:gdLst/>
            <a:ahLst/>
            <a:rect l="0" t="0" r="r" b="b"/>
            <a:pathLst>
              <a:path fill="none" w="173" h="142">
                <a:moveTo>
                  <a:pt x="0" y="0"/>
                </a:moveTo>
                <a:lnTo>
                  <a:pt x="173" y="142"/>
                </a:lnTo>
                <a:lnTo>
                  <a:pt x="173" y="106"/>
                </a:lnTo>
                <a:lnTo>
                  <a:pt x="173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695680" y="2595600"/>
            <a:ext cx="62280" cy="78120"/>
          </a:xfrm>
          <a:custGeom>
            <a:avLst/>
            <a:gdLst/>
            <a:ahLst/>
            <a:rect l="0" t="0" r="r" b="b"/>
            <a:pathLst>
              <a:path fill="none" w="173" h="217">
                <a:moveTo>
                  <a:pt x="0" y="0"/>
                </a:moveTo>
                <a:lnTo>
                  <a:pt x="173" y="217"/>
                </a:lnTo>
                <a:lnTo>
                  <a:pt x="173" y="181"/>
                </a:lnTo>
                <a:lnTo>
                  <a:pt x="173" y="217"/>
                </a:lnTo>
                <a:lnTo>
                  <a:pt x="89" y="18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695680" y="244332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0"/>
                </a:moveTo>
                <a:lnTo>
                  <a:pt x="172" y="283"/>
                </a:lnTo>
                <a:lnTo>
                  <a:pt x="217" y="247"/>
                </a:lnTo>
                <a:lnTo>
                  <a:pt x="172" y="283"/>
                </a:lnTo>
                <a:lnTo>
                  <a:pt x="88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695680" y="2289240"/>
            <a:ext cx="78120" cy="141480"/>
          </a:xfrm>
          <a:custGeom>
            <a:avLst/>
            <a:gdLst/>
            <a:ahLst/>
            <a:rect l="0" t="0" r="r" b="b"/>
            <a:pathLst>
              <a:path fill="none" w="217" h="393">
                <a:moveTo>
                  <a:pt x="0" y="0"/>
                </a:moveTo>
                <a:lnTo>
                  <a:pt x="172" y="393"/>
                </a:lnTo>
                <a:lnTo>
                  <a:pt x="217" y="283"/>
                </a:lnTo>
                <a:lnTo>
                  <a:pt x="172" y="393"/>
                </a:lnTo>
                <a:lnTo>
                  <a:pt x="44" y="31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081240" y="6165720"/>
            <a:ext cx="75960" cy="0"/>
          </a:xfrm>
          <a:custGeom>
            <a:avLst/>
            <a:gdLst/>
            <a:ahLst/>
            <a:rect l="0" t="0" r="r" b="b"/>
            <a:pathLst>
              <a:path fill="none" w="211" h="0">
                <a:moveTo>
                  <a:pt x="0" y="0"/>
                </a:moveTo>
                <a:lnTo>
                  <a:pt x="211" y="0"/>
                </a:lnTo>
                <a:lnTo>
                  <a:pt x="171" y="0"/>
                </a:lnTo>
                <a:lnTo>
                  <a:pt x="211" y="0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081240" y="598788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73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081240" y="582120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107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081240" y="5641920"/>
            <a:ext cx="76680" cy="63720"/>
          </a:xfrm>
          <a:custGeom>
            <a:avLst/>
            <a:gdLst/>
            <a:ahLst/>
            <a:rect l="0" t="0" r="r" b="b"/>
            <a:pathLst>
              <a:path fill="none" w="213" h="177">
                <a:moveTo>
                  <a:pt x="0" y="17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081240" y="547524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081240" y="5308560"/>
            <a:ext cx="76680" cy="78120"/>
          </a:xfrm>
          <a:custGeom>
            <a:avLst/>
            <a:gdLst/>
            <a:ahLst/>
            <a:rect l="0" t="0" r="r" b="b"/>
            <a:pathLst>
              <a:path fill="none" w="213" h="217">
                <a:moveTo>
                  <a:pt x="0" y="21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081240" y="514332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081240" y="497664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81240" y="48229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81240" y="465624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081240" y="450216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128" y="74"/>
                </a:lnTo>
                <a:lnTo>
                  <a:pt x="213" y="0"/>
                </a:lnTo>
                <a:lnTo>
                  <a:pt x="213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081240" y="434988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081240" y="419580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081240" y="4054320"/>
            <a:ext cx="76680" cy="90720"/>
          </a:xfrm>
          <a:custGeom>
            <a:avLst/>
            <a:gdLst/>
            <a:ahLst/>
            <a:rect l="0" t="0" r="r" b="b"/>
            <a:pathLst>
              <a:path fill="none" w="213" h="252">
                <a:moveTo>
                  <a:pt x="0" y="252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81240" y="390204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081240" y="3760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081240" y="3619440"/>
            <a:ext cx="76680" cy="65520"/>
          </a:xfrm>
          <a:custGeom>
            <a:avLst/>
            <a:gdLst/>
            <a:ahLst/>
            <a:rect l="0" t="0" r="r" b="b"/>
            <a:pathLst>
              <a:path fill="none" w="213" h="182">
                <a:moveTo>
                  <a:pt x="0" y="182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081240" y="347976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14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081240" y="333864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107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081240" y="31971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73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081240" y="305748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72"/>
                </a:lnTo>
                <a:lnTo>
                  <a:pt x="173" y="0"/>
                </a:lnTo>
                <a:lnTo>
                  <a:pt x="213" y="72"/>
                </a:lnTo>
                <a:lnTo>
                  <a:pt x="17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081240" y="290340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0"/>
                </a:moveTo>
                <a:lnTo>
                  <a:pt x="213" y="72"/>
                </a:lnTo>
                <a:lnTo>
                  <a:pt x="173" y="72"/>
                </a:lnTo>
                <a:lnTo>
                  <a:pt x="213" y="72"/>
                </a:lnTo>
                <a:lnTo>
                  <a:pt x="17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081240" y="274968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0"/>
                </a:moveTo>
                <a:lnTo>
                  <a:pt x="213" y="142"/>
                </a:lnTo>
                <a:lnTo>
                  <a:pt x="213" y="106"/>
                </a:lnTo>
                <a:lnTo>
                  <a:pt x="213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081240" y="2595600"/>
            <a:ext cx="76680" cy="78120"/>
          </a:xfrm>
          <a:custGeom>
            <a:avLst/>
            <a:gdLst/>
            <a:ahLst/>
            <a:rect l="0" t="0" r="r" b="b"/>
            <a:pathLst>
              <a:path fill="none" w="213" h="217">
                <a:moveTo>
                  <a:pt x="0" y="0"/>
                </a:moveTo>
                <a:lnTo>
                  <a:pt x="213" y="217"/>
                </a:lnTo>
                <a:lnTo>
                  <a:pt x="213" y="181"/>
                </a:lnTo>
                <a:lnTo>
                  <a:pt x="213" y="217"/>
                </a:lnTo>
                <a:lnTo>
                  <a:pt x="128" y="18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081240" y="24433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0"/>
                </a:moveTo>
                <a:lnTo>
                  <a:pt x="213" y="283"/>
                </a:lnTo>
                <a:lnTo>
                  <a:pt x="213" y="247"/>
                </a:lnTo>
                <a:lnTo>
                  <a:pt x="213" y="283"/>
                </a:lnTo>
                <a:lnTo>
                  <a:pt x="128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081240" y="2289240"/>
            <a:ext cx="92520" cy="141480"/>
          </a:xfrm>
          <a:custGeom>
            <a:avLst/>
            <a:gdLst/>
            <a:ahLst/>
            <a:rect l="0" t="0" r="r" b="b"/>
            <a:pathLst>
              <a:path fill="none" w="257" h="393">
                <a:moveTo>
                  <a:pt x="0" y="0"/>
                </a:moveTo>
                <a:lnTo>
                  <a:pt x="213" y="393"/>
                </a:lnTo>
                <a:lnTo>
                  <a:pt x="257" y="283"/>
                </a:lnTo>
                <a:lnTo>
                  <a:pt x="213" y="393"/>
                </a:lnTo>
                <a:lnTo>
                  <a:pt x="84" y="31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481560" y="6165720"/>
            <a:ext cx="75960" cy="0"/>
          </a:xfrm>
          <a:custGeom>
            <a:avLst/>
            <a:gdLst/>
            <a:ahLst/>
            <a:rect l="0" t="0" r="r" b="b"/>
            <a:pathLst>
              <a:path fill="none" w="211" h="0">
                <a:moveTo>
                  <a:pt x="0" y="0"/>
                </a:moveTo>
                <a:lnTo>
                  <a:pt x="211" y="0"/>
                </a:lnTo>
                <a:lnTo>
                  <a:pt x="171" y="0"/>
                </a:lnTo>
                <a:lnTo>
                  <a:pt x="211" y="0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481560" y="598788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481560" y="582120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107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481560" y="5641920"/>
            <a:ext cx="76680" cy="63720"/>
          </a:xfrm>
          <a:custGeom>
            <a:avLst/>
            <a:gdLst/>
            <a:ahLst/>
            <a:rect l="0" t="0" r="r" b="b"/>
            <a:pathLst>
              <a:path fill="none" w="213" h="177">
                <a:moveTo>
                  <a:pt x="0" y="17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81560" y="547524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481560" y="5308560"/>
            <a:ext cx="76680" cy="78120"/>
          </a:xfrm>
          <a:custGeom>
            <a:avLst/>
            <a:gdLst/>
            <a:ahLst/>
            <a:rect l="0" t="0" r="r" b="b"/>
            <a:pathLst>
              <a:path fill="none" w="213" h="217">
                <a:moveTo>
                  <a:pt x="0" y="21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481560" y="514332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84" y="35"/>
                </a:lnTo>
                <a:lnTo>
                  <a:pt x="213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481560" y="497664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481560" y="48229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84" y="35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481560" y="465624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481560" y="450216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84" y="74"/>
                </a:lnTo>
                <a:lnTo>
                  <a:pt x="213" y="0"/>
                </a:lnTo>
                <a:lnTo>
                  <a:pt x="213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481560" y="434988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481560" y="419580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481560" y="4054320"/>
            <a:ext cx="76680" cy="90720"/>
          </a:xfrm>
          <a:custGeom>
            <a:avLst/>
            <a:gdLst/>
            <a:ahLst/>
            <a:rect l="0" t="0" r="r" b="b"/>
            <a:pathLst>
              <a:path fill="none" w="213" h="252">
                <a:moveTo>
                  <a:pt x="0" y="252"/>
                </a:moveTo>
                <a:lnTo>
                  <a:pt x="213" y="0"/>
                </a:lnTo>
                <a:lnTo>
                  <a:pt x="84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481560" y="390204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84" y="35"/>
                </a:lnTo>
                <a:lnTo>
                  <a:pt x="213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481560" y="3760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481560" y="3619440"/>
            <a:ext cx="76680" cy="65520"/>
          </a:xfrm>
          <a:custGeom>
            <a:avLst/>
            <a:gdLst/>
            <a:ahLst/>
            <a:rect l="0" t="0" r="r" b="b"/>
            <a:pathLst>
              <a:path fill="none" w="213" h="182">
                <a:moveTo>
                  <a:pt x="0" y="182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481560" y="347976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14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481560" y="333864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107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481560" y="31971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481560" y="305748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72"/>
                </a:lnTo>
                <a:lnTo>
                  <a:pt x="173" y="0"/>
                </a:lnTo>
                <a:lnTo>
                  <a:pt x="213" y="72"/>
                </a:lnTo>
                <a:lnTo>
                  <a:pt x="17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481560" y="290340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0"/>
                </a:moveTo>
                <a:lnTo>
                  <a:pt x="213" y="72"/>
                </a:lnTo>
                <a:lnTo>
                  <a:pt x="173" y="72"/>
                </a:lnTo>
                <a:lnTo>
                  <a:pt x="213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481560" y="274968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0"/>
                </a:moveTo>
                <a:lnTo>
                  <a:pt x="213" y="142"/>
                </a:lnTo>
                <a:lnTo>
                  <a:pt x="173" y="106"/>
                </a:lnTo>
                <a:lnTo>
                  <a:pt x="213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481560" y="2595600"/>
            <a:ext cx="76680" cy="78120"/>
          </a:xfrm>
          <a:custGeom>
            <a:avLst/>
            <a:gdLst/>
            <a:ahLst/>
            <a:rect l="0" t="0" r="r" b="b"/>
            <a:pathLst>
              <a:path fill="none" w="213" h="217">
                <a:moveTo>
                  <a:pt x="0" y="0"/>
                </a:moveTo>
                <a:lnTo>
                  <a:pt x="213" y="217"/>
                </a:lnTo>
                <a:lnTo>
                  <a:pt x="213" y="181"/>
                </a:lnTo>
                <a:lnTo>
                  <a:pt x="213" y="217"/>
                </a:lnTo>
                <a:lnTo>
                  <a:pt x="128" y="18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481560" y="24433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0"/>
                </a:moveTo>
                <a:lnTo>
                  <a:pt x="213" y="283"/>
                </a:lnTo>
                <a:lnTo>
                  <a:pt x="213" y="247"/>
                </a:lnTo>
                <a:lnTo>
                  <a:pt x="213" y="283"/>
                </a:lnTo>
                <a:lnTo>
                  <a:pt x="84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481560" y="2289240"/>
            <a:ext cx="76680" cy="141480"/>
          </a:xfrm>
          <a:custGeom>
            <a:avLst/>
            <a:gdLst/>
            <a:ahLst/>
            <a:rect l="0" t="0" r="r" b="b"/>
            <a:pathLst>
              <a:path fill="none" w="213" h="393">
                <a:moveTo>
                  <a:pt x="0" y="0"/>
                </a:moveTo>
                <a:lnTo>
                  <a:pt x="213" y="393"/>
                </a:lnTo>
                <a:lnTo>
                  <a:pt x="213" y="283"/>
                </a:lnTo>
                <a:lnTo>
                  <a:pt x="213" y="393"/>
                </a:lnTo>
                <a:lnTo>
                  <a:pt x="84" y="31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881520" y="6165720"/>
            <a:ext cx="61560" cy="0"/>
          </a:xfrm>
          <a:custGeom>
            <a:avLst/>
            <a:gdLst/>
            <a:ahLst/>
            <a:rect l="0" t="0" r="r" b="b"/>
            <a:pathLst>
              <a:path fill="none" w="171" h="0">
                <a:moveTo>
                  <a:pt x="0" y="0"/>
                </a:moveTo>
                <a:lnTo>
                  <a:pt x="171" y="0"/>
                </a:lnTo>
                <a:lnTo>
                  <a:pt x="127" y="0"/>
                </a:lnTo>
                <a:lnTo>
                  <a:pt x="171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881520" y="598788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72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81520" y="5821200"/>
            <a:ext cx="62280" cy="38520"/>
          </a:xfrm>
          <a:custGeom>
            <a:avLst/>
            <a:gdLst/>
            <a:ahLst/>
            <a:rect l="0" t="0" r="r" b="b"/>
            <a:pathLst>
              <a:path fill="none" w="173" h="107">
                <a:moveTo>
                  <a:pt x="0" y="107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881520" y="5641920"/>
            <a:ext cx="62280" cy="63720"/>
          </a:xfrm>
          <a:custGeom>
            <a:avLst/>
            <a:gdLst/>
            <a:ahLst/>
            <a:rect l="0" t="0" r="r" b="b"/>
            <a:pathLst>
              <a:path fill="none" w="173" h="177">
                <a:moveTo>
                  <a:pt x="0" y="177"/>
                </a:moveTo>
                <a:lnTo>
                  <a:pt x="173" y="0"/>
                </a:lnTo>
                <a:lnTo>
                  <a:pt x="128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881520" y="5475240"/>
            <a:ext cx="62280" cy="76680"/>
          </a:xfrm>
          <a:custGeom>
            <a:avLst/>
            <a:gdLst/>
            <a:ahLst/>
            <a:rect l="0" t="0" r="r" b="b"/>
            <a:pathLst>
              <a:path fill="none" w="173" h="213">
                <a:moveTo>
                  <a:pt x="0" y="213"/>
                </a:moveTo>
                <a:lnTo>
                  <a:pt x="173" y="0"/>
                </a:lnTo>
                <a:lnTo>
                  <a:pt x="84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881520" y="5308560"/>
            <a:ext cx="62280" cy="78120"/>
          </a:xfrm>
          <a:custGeom>
            <a:avLst/>
            <a:gdLst/>
            <a:ahLst/>
            <a:rect l="0" t="0" r="r" b="b"/>
            <a:pathLst>
              <a:path fill="none" w="173" h="217">
                <a:moveTo>
                  <a:pt x="0" y="217"/>
                </a:moveTo>
                <a:lnTo>
                  <a:pt x="173" y="0"/>
                </a:lnTo>
                <a:lnTo>
                  <a:pt x="84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881520" y="514332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173" y="0"/>
                </a:lnTo>
                <a:lnTo>
                  <a:pt x="84" y="35"/>
                </a:lnTo>
                <a:lnTo>
                  <a:pt x="173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881520" y="497664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173" y="0"/>
                </a:lnTo>
                <a:lnTo>
                  <a:pt x="84" y="70"/>
                </a:lnTo>
                <a:lnTo>
                  <a:pt x="17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881520" y="48229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173" y="0"/>
                </a:lnTo>
                <a:lnTo>
                  <a:pt x="84" y="35"/>
                </a:lnTo>
                <a:lnTo>
                  <a:pt x="17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881520" y="465624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173" y="0"/>
                </a:lnTo>
                <a:lnTo>
                  <a:pt x="84" y="70"/>
                </a:lnTo>
                <a:lnTo>
                  <a:pt x="17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881520" y="450216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173" y="0"/>
                </a:lnTo>
                <a:lnTo>
                  <a:pt x="84" y="74"/>
                </a:lnTo>
                <a:lnTo>
                  <a:pt x="173" y="0"/>
                </a:lnTo>
                <a:lnTo>
                  <a:pt x="213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881520" y="434988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173" y="0"/>
                </a:lnTo>
                <a:lnTo>
                  <a:pt x="84" y="70"/>
                </a:lnTo>
                <a:lnTo>
                  <a:pt x="17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881520" y="419580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173" y="0"/>
                </a:lnTo>
                <a:lnTo>
                  <a:pt x="84" y="70"/>
                </a:lnTo>
                <a:lnTo>
                  <a:pt x="17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881520" y="4054320"/>
            <a:ext cx="76680" cy="90720"/>
          </a:xfrm>
          <a:custGeom>
            <a:avLst/>
            <a:gdLst/>
            <a:ahLst/>
            <a:rect l="0" t="0" r="r" b="b"/>
            <a:pathLst>
              <a:path fill="none" w="213" h="252">
                <a:moveTo>
                  <a:pt x="0" y="252"/>
                </a:moveTo>
                <a:lnTo>
                  <a:pt x="173" y="0"/>
                </a:lnTo>
                <a:lnTo>
                  <a:pt x="84" y="35"/>
                </a:lnTo>
                <a:lnTo>
                  <a:pt x="17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881520" y="390204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173" y="0"/>
                </a:lnTo>
                <a:lnTo>
                  <a:pt x="84" y="35"/>
                </a:lnTo>
                <a:lnTo>
                  <a:pt x="173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881520" y="3760920"/>
            <a:ext cx="62280" cy="76680"/>
          </a:xfrm>
          <a:custGeom>
            <a:avLst/>
            <a:gdLst/>
            <a:ahLst/>
            <a:rect l="0" t="0" r="r" b="b"/>
            <a:pathLst>
              <a:path fill="none" w="173" h="213">
                <a:moveTo>
                  <a:pt x="0" y="213"/>
                </a:moveTo>
                <a:lnTo>
                  <a:pt x="173" y="0"/>
                </a:lnTo>
                <a:lnTo>
                  <a:pt x="84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881520" y="3619440"/>
            <a:ext cx="62280" cy="65520"/>
          </a:xfrm>
          <a:custGeom>
            <a:avLst/>
            <a:gdLst/>
            <a:ahLst/>
            <a:rect l="0" t="0" r="r" b="b"/>
            <a:pathLst>
              <a:path fill="none" w="173" h="182">
                <a:moveTo>
                  <a:pt x="0" y="182"/>
                </a:moveTo>
                <a:lnTo>
                  <a:pt x="173" y="0"/>
                </a:lnTo>
                <a:lnTo>
                  <a:pt x="84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881520" y="3479760"/>
            <a:ext cx="62280" cy="51120"/>
          </a:xfrm>
          <a:custGeom>
            <a:avLst/>
            <a:gdLst/>
            <a:ahLst/>
            <a:rect l="0" t="0" r="r" b="b"/>
            <a:pathLst>
              <a:path fill="none" w="173" h="142">
                <a:moveTo>
                  <a:pt x="0" y="142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881520" y="3338640"/>
            <a:ext cx="62280" cy="38520"/>
          </a:xfrm>
          <a:custGeom>
            <a:avLst/>
            <a:gdLst/>
            <a:ahLst/>
            <a:rect l="0" t="0" r="r" b="b"/>
            <a:pathLst>
              <a:path fill="none" w="173" h="107">
                <a:moveTo>
                  <a:pt x="0" y="107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81520" y="319716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72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881520" y="305748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72"/>
                </a:moveTo>
                <a:lnTo>
                  <a:pt x="173" y="72"/>
                </a:lnTo>
                <a:lnTo>
                  <a:pt x="128" y="0"/>
                </a:lnTo>
                <a:lnTo>
                  <a:pt x="173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881520" y="290340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0"/>
                </a:moveTo>
                <a:lnTo>
                  <a:pt x="173" y="72"/>
                </a:lnTo>
                <a:lnTo>
                  <a:pt x="173" y="72"/>
                </a:lnTo>
                <a:lnTo>
                  <a:pt x="173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881520" y="2749680"/>
            <a:ext cx="62280" cy="51120"/>
          </a:xfrm>
          <a:custGeom>
            <a:avLst/>
            <a:gdLst/>
            <a:ahLst/>
            <a:rect l="0" t="0" r="r" b="b"/>
            <a:pathLst>
              <a:path fill="none" w="173" h="142">
                <a:moveTo>
                  <a:pt x="0" y="0"/>
                </a:moveTo>
                <a:lnTo>
                  <a:pt x="173" y="142"/>
                </a:lnTo>
                <a:lnTo>
                  <a:pt x="173" y="106"/>
                </a:lnTo>
                <a:lnTo>
                  <a:pt x="173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881520" y="2595600"/>
            <a:ext cx="62280" cy="78120"/>
          </a:xfrm>
          <a:custGeom>
            <a:avLst/>
            <a:gdLst/>
            <a:ahLst/>
            <a:rect l="0" t="0" r="r" b="b"/>
            <a:pathLst>
              <a:path fill="none" w="173" h="217">
                <a:moveTo>
                  <a:pt x="0" y="0"/>
                </a:moveTo>
                <a:lnTo>
                  <a:pt x="173" y="217"/>
                </a:lnTo>
                <a:lnTo>
                  <a:pt x="173" y="181"/>
                </a:lnTo>
                <a:lnTo>
                  <a:pt x="173" y="217"/>
                </a:lnTo>
                <a:lnTo>
                  <a:pt x="84" y="18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881520" y="24433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0"/>
                </a:moveTo>
                <a:lnTo>
                  <a:pt x="173" y="283"/>
                </a:lnTo>
                <a:lnTo>
                  <a:pt x="213" y="247"/>
                </a:lnTo>
                <a:lnTo>
                  <a:pt x="173" y="283"/>
                </a:lnTo>
                <a:lnTo>
                  <a:pt x="84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881520" y="2289240"/>
            <a:ext cx="76680" cy="141480"/>
          </a:xfrm>
          <a:custGeom>
            <a:avLst/>
            <a:gdLst/>
            <a:ahLst/>
            <a:rect l="0" t="0" r="r" b="b"/>
            <a:pathLst>
              <a:path fill="none" w="213" h="393">
                <a:moveTo>
                  <a:pt x="0" y="0"/>
                </a:moveTo>
                <a:lnTo>
                  <a:pt x="173" y="393"/>
                </a:lnTo>
                <a:lnTo>
                  <a:pt x="213" y="283"/>
                </a:lnTo>
                <a:lnTo>
                  <a:pt x="173" y="393"/>
                </a:lnTo>
                <a:lnTo>
                  <a:pt x="44" y="31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265640" y="6165720"/>
            <a:ext cx="77760" cy="0"/>
          </a:xfrm>
          <a:custGeom>
            <a:avLst/>
            <a:gdLst/>
            <a:ahLst/>
            <a:rect l="0" t="0" r="r" b="b"/>
            <a:pathLst>
              <a:path fill="none" w="216" h="0">
                <a:moveTo>
                  <a:pt x="0" y="0"/>
                </a:moveTo>
                <a:lnTo>
                  <a:pt x="216" y="0"/>
                </a:lnTo>
                <a:lnTo>
                  <a:pt x="171" y="0"/>
                </a:lnTo>
                <a:lnTo>
                  <a:pt x="216" y="0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265640" y="598788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0"/>
                </a:lnTo>
                <a:lnTo>
                  <a:pt x="172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265640" y="5821200"/>
            <a:ext cx="78120" cy="38520"/>
          </a:xfrm>
          <a:custGeom>
            <a:avLst/>
            <a:gdLst/>
            <a:ahLst/>
            <a:rect l="0" t="0" r="r" b="b"/>
            <a:pathLst>
              <a:path fill="none" w="217" h="107">
                <a:moveTo>
                  <a:pt x="0" y="107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265640" y="5641920"/>
            <a:ext cx="78120" cy="63720"/>
          </a:xfrm>
          <a:custGeom>
            <a:avLst/>
            <a:gdLst/>
            <a:ahLst/>
            <a:rect l="0" t="0" r="r" b="b"/>
            <a:pathLst>
              <a:path fill="none" w="217" h="177">
                <a:moveTo>
                  <a:pt x="0" y="177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265640" y="547524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213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265640" y="5308560"/>
            <a:ext cx="78120" cy="78120"/>
          </a:xfrm>
          <a:custGeom>
            <a:avLst/>
            <a:gdLst/>
            <a:ahLst/>
            <a:rect l="0" t="0" r="r" b="b"/>
            <a:pathLst>
              <a:path fill="none" w="217" h="217">
                <a:moveTo>
                  <a:pt x="0" y="217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265640" y="514332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265640" y="497664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217" y="0"/>
                </a:lnTo>
                <a:lnTo>
                  <a:pt x="12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265640" y="482292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265640" y="465624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12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265640" y="450216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128" y="74"/>
                </a:lnTo>
                <a:lnTo>
                  <a:pt x="217" y="0"/>
                </a:lnTo>
                <a:lnTo>
                  <a:pt x="217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265640" y="4349880"/>
            <a:ext cx="78120" cy="114840"/>
          </a:xfrm>
          <a:custGeom>
            <a:avLst/>
            <a:gdLst/>
            <a:ahLst/>
            <a:rect l="0" t="0" r="r" b="b"/>
            <a:pathLst>
              <a:path fill="none" w="217" h="319">
                <a:moveTo>
                  <a:pt x="0" y="319"/>
                </a:moveTo>
                <a:lnTo>
                  <a:pt x="217" y="0"/>
                </a:lnTo>
                <a:lnTo>
                  <a:pt x="12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265640" y="419580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12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265640" y="4054320"/>
            <a:ext cx="78120" cy="90720"/>
          </a:xfrm>
          <a:custGeom>
            <a:avLst/>
            <a:gdLst/>
            <a:ahLst/>
            <a:rect l="0" t="0" r="r" b="b"/>
            <a:pathLst>
              <a:path fill="none" w="217" h="252">
                <a:moveTo>
                  <a:pt x="0" y="252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265640" y="390204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265640" y="376092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213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265640" y="3619440"/>
            <a:ext cx="78120" cy="65520"/>
          </a:xfrm>
          <a:custGeom>
            <a:avLst/>
            <a:gdLst/>
            <a:ahLst/>
            <a:rect l="0" t="0" r="r" b="b"/>
            <a:pathLst>
              <a:path fill="none" w="217" h="182">
                <a:moveTo>
                  <a:pt x="0" y="182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265640" y="347976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142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265640" y="3338640"/>
            <a:ext cx="78120" cy="38520"/>
          </a:xfrm>
          <a:custGeom>
            <a:avLst/>
            <a:gdLst/>
            <a:ahLst/>
            <a:rect l="0" t="0" r="r" b="b"/>
            <a:pathLst>
              <a:path fill="none" w="217" h="107">
                <a:moveTo>
                  <a:pt x="0" y="107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265640" y="319716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0"/>
                </a:lnTo>
                <a:lnTo>
                  <a:pt x="172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265640" y="305748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72"/>
                </a:lnTo>
                <a:lnTo>
                  <a:pt x="172" y="0"/>
                </a:lnTo>
                <a:lnTo>
                  <a:pt x="217" y="72"/>
                </a:lnTo>
                <a:lnTo>
                  <a:pt x="17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265640" y="290340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0"/>
                </a:moveTo>
                <a:lnTo>
                  <a:pt x="217" y="72"/>
                </a:lnTo>
                <a:lnTo>
                  <a:pt x="172" y="72"/>
                </a:lnTo>
                <a:lnTo>
                  <a:pt x="217" y="72"/>
                </a:lnTo>
                <a:lnTo>
                  <a:pt x="17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265640" y="274968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0"/>
                </a:moveTo>
                <a:lnTo>
                  <a:pt x="217" y="142"/>
                </a:lnTo>
                <a:lnTo>
                  <a:pt x="217" y="106"/>
                </a:lnTo>
                <a:lnTo>
                  <a:pt x="217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65640" y="2595600"/>
            <a:ext cx="78120" cy="78120"/>
          </a:xfrm>
          <a:custGeom>
            <a:avLst/>
            <a:gdLst/>
            <a:ahLst/>
            <a:rect l="0" t="0" r="r" b="b"/>
            <a:pathLst>
              <a:path fill="none" w="217" h="217">
                <a:moveTo>
                  <a:pt x="0" y="0"/>
                </a:moveTo>
                <a:lnTo>
                  <a:pt x="217" y="217"/>
                </a:lnTo>
                <a:lnTo>
                  <a:pt x="217" y="181"/>
                </a:lnTo>
                <a:lnTo>
                  <a:pt x="217" y="217"/>
                </a:lnTo>
                <a:lnTo>
                  <a:pt x="128" y="18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265640" y="244332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0"/>
                </a:moveTo>
                <a:lnTo>
                  <a:pt x="217" y="283"/>
                </a:lnTo>
                <a:lnTo>
                  <a:pt x="217" y="247"/>
                </a:lnTo>
                <a:lnTo>
                  <a:pt x="217" y="283"/>
                </a:lnTo>
                <a:lnTo>
                  <a:pt x="128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265640" y="2289240"/>
            <a:ext cx="93960" cy="141480"/>
          </a:xfrm>
          <a:custGeom>
            <a:avLst/>
            <a:gdLst/>
            <a:ahLst/>
            <a:rect l="0" t="0" r="r" b="b"/>
            <a:pathLst>
              <a:path fill="none" w="261" h="393">
                <a:moveTo>
                  <a:pt x="0" y="0"/>
                </a:moveTo>
                <a:lnTo>
                  <a:pt x="217" y="393"/>
                </a:lnTo>
                <a:lnTo>
                  <a:pt x="261" y="283"/>
                </a:lnTo>
                <a:lnTo>
                  <a:pt x="217" y="393"/>
                </a:lnTo>
                <a:lnTo>
                  <a:pt x="88" y="31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665600" y="6165720"/>
            <a:ext cx="77760" cy="0"/>
          </a:xfrm>
          <a:custGeom>
            <a:avLst/>
            <a:gdLst/>
            <a:ahLst/>
            <a:rect l="0" t="0" r="r" b="b"/>
            <a:pathLst>
              <a:path fill="none" w="216" h="0">
                <a:moveTo>
                  <a:pt x="0" y="0"/>
                </a:moveTo>
                <a:lnTo>
                  <a:pt x="216" y="0"/>
                </a:lnTo>
                <a:lnTo>
                  <a:pt x="171" y="0"/>
                </a:lnTo>
                <a:lnTo>
                  <a:pt x="216" y="0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665600" y="598788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0"/>
                </a:lnTo>
                <a:lnTo>
                  <a:pt x="133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665600" y="5821200"/>
            <a:ext cx="78120" cy="38520"/>
          </a:xfrm>
          <a:custGeom>
            <a:avLst/>
            <a:gdLst/>
            <a:ahLst/>
            <a:rect l="0" t="0" r="r" b="b"/>
            <a:pathLst>
              <a:path fill="none" w="217" h="107">
                <a:moveTo>
                  <a:pt x="0" y="107"/>
                </a:moveTo>
                <a:lnTo>
                  <a:pt x="217" y="0"/>
                </a:lnTo>
                <a:lnTo>
                  <a:pt x="133" y="0"/>
                </a:lnTo>
                <a:lnTo>
                  <a:pt x="217" y="0"/>
                </a:lnTo>
                <a:lnTo>
                  <a:pt x="1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665600" y="5641920"/>
            <a:ext cx="78120" cy="63720"/>
          </a:xfrm>
          <a:custGeom>
            <a:avLst/>
            <a:gdLst/>
            <a:ahLst/>
            <a:rect l="0" t="0" r="r" b="b"/>
            <a:pathLst>
              <a:path fill="none" w="217" h="177">
                <a:moveTo>
                  <a:pt x="0" y="177"/>
                </a:moveTo>
                <a:lnTo>
                  <a:pt x="217" y="0"/>
                </a:lnTo>
                <a:lnTo>
                  <a:pt x="133" y="35"/>
                </a:lnTo>
                <a:lnTo>
                  <a:pt x="217" y="0"/>
                </a:lnTo>
                <a:lnTo>
                  <a:pt x="1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665600" y="547524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213"/>
                </a:moveTo>
                <a:lnTo>
                  <a:pt x="217" y="0"/>
                </a:lnTo>
                <a:lnTo>
                  <a:pt x="133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665600" y="5308560"/>
            <a:ext cx="78120" cy="78120"/>
          </a:xfrm>
          <a:custGeom>
            <a:avLst/>
            <a:gdLst/>
            <a:ahLst/>
            <a:rect l="0" t="0" r="r" b="b"/>
            <a:pathLst>
              <a:path fill="none" w="217" h="217">
                <a:moveTo>
                  <a:pt x="0" y="217"/>
                </a:moveTo>
                <a:lnTo>
                  <a:pt x="217" y="0"/>
                </a:lnTo>
                <a:lnTo>
                  <a:pt x="133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665600" y="514332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217" y="0"/>
                </a:lnTo>
                <a:lnTo>
                  <a:pt x="88" y="35"/>
                </a:lnTo>
                <a:lnTo>
                  <a:pt x="217" y="0"/>
                </a:lnTo>
                <a:lnTo>
                  <a:pt x="21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665600" y="497664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665600" y="482292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217" y="0"/>
                </a:lnTo>
                <a:lnTo>
                  <a:pt x="88" y="35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665600" y="465624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665600" y="450216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88" y="74"/>
                </a:lnTo>
                <a:lnTo>
                  <a:pt x="217" y="0"/>
                </a:lnTo>
                <a:lnTo>
                  <a:pt x="217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665600" y="4349880"/>
            <a:ext cx="78120" cy="114840"/>
          </a:xfrm>
          <a:custGeom>
            <a:avLst/>
            <a:gdLst/>
            <a:ahLst/>
            <a:rect l="0" t="0" r="r" b="b"/>
            <a:pathLst>
              <a:path fill="none" w="217" h="319">
                <a:moveTo>
                  <a:pt x="0" y="319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665600" y="419580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665600" y="4054320"/>
            <a:ext cx="78120" cy="90720"/>
          </a:xfrm>
          <a:custGeom>
            <a:avLst/>
            <a:gdLst/>
            <a:ahLst/>
            <a:rect l="0" t="0" r="r" b="b"/>
            <a:pathLst>
              <a:path fill="none" w="217" h="252">
                <a:moveTo>
                  <a:pt x="0" y="252"/>
                </a:moveTo>
                <a:lnTo>
                  <a:pt x="217" y="0"/>
                </a:lnTo>
                <a:lnTo>
                  <a:pt x="8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665600" y="390204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217" y="0"/>
                </a:lnTo>
                <a:lnTo>
                  <a:pt x="88" y="35"/>
                </a:lnTo>
                <a:lnTo>
                  <a:pt x="217" y="0"/>
                </a:lnTo>
                <a:lnTo>
                  <a:pt x="21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665600" y="376092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213"/>
                </a:moveTo>
                <a:lnTo>
                  <a:pt x="217" y="0"/>
                </a:lnTo>
                <a:lnTo>
                  <a:pt x="133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665600" y="3619440"/>
            <a:ext cx="78120" cy="65520"/>
          </a:xfrm>
          <a:custGeom>
            <a:avLst/>
            <a:gdLst/>
            <a:ahLst/>
            <a:rect l="0" t="0" r="r" b="b"/>
            <a:pathLst>
              <a:path fill="none" w="217" h="182">
                <a:moveTo>
                  <a:pt x="0" y="182"/>
                </a:moveTo>
                <a:lnTo>
                  <a:pt x="217" y="0"/>
                </a:lnTo>
                <a:lnTo>
                  <a:pt x="133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665600" y="347976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142"/>
                </a:moveTo>
                <a:lnTo>
                  <a:pt x="217" y="0"/>
                </a:lnTo>
                <a:lnTo>
                  <a:pt x="133" y="0"/>
                </a:lnTo>
                <a:lnTo>
                  <a:pt x="217" y="0"/>
                </a:lnTo>
                <a:lnTo>
                  <a:pt x="1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665600" y="3338640"/>
            <a:ext cx="78120" cy="38520"/>
          </a:xfrm>
          <a:custGeom>
            <a:avLst/>
            <a:gdLst/>
            <a:ahLst/>
            <a:rect l="0" t="0" r="r" b="b"/>
            <a:pathLst>
              <a:path fill="none" w="217" h="107">
                <a:moveTo>
                  <a:pt x="0" y="107"/>
                </a:moveTo>
                <a:lnTo>
                  <a:pt x="217" y="0"/>
                </a:lnTo>
                <a:lnTo>
                  <a:pt x="133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665600" y="319716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0"/>
                </a:lnTo>
                <a:lnTo>
                  <a:pt x="133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665600" y="305748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72"/>
                </a:lnTo>
                <a:lnTo>
                  <a:pt x="172" y="0"/>
                </a:lnTo>
                <a:lnTo>
                  <a:pt x="217" y="72"/>
                </a:lnTo>
                <a:lnTo>
                  <a:pt x="17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665600" y="290340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0"/>
                </a:moveTo>
                <a:lnTo>
                  <a:pt x="217" y="72"/>
                </a:lnTo>
                <a:lnTo>
                  <a:pt x="172" y="72"/>
                </a:lnTo>
                <a:lnTo>
                  <a:pt x="217" y="72"/>
                </a:lnTo>
                <a:lnTo>
                  <a:pt x="13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665600" y="274968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0"/>
                </a:moveTo>
                <a:lnTo>
                  <a:pt x="217" y="142"/>
                </a:lnTo>
                <a:lnTo>
                  <a:pt x="172" y="106"/>
                </a:lnTo>
                <a:lnTo>
                  <a:pt x="217" y="142"/>
                </a:lnTo>
                <a:lnTo>
                  <a:pt x="133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665600" y="2595600"/>
            <a:ext cx="78120" cy="78120"/>
          </a:xfrm>
          <a:custGeom>
            <a:avLst/>
            <a:gdLst/>
            <a:ahLst/>
            <a:rect l="0" t="0" r="r" b="b"/>
            <a:pathLst>
              <a:path fill="none" w="217" h="217">
                <a:moveTo>
                  <a:pt x="0" y="0"/>
                </a:moveTo>
                <a:lnTo>
                  <a:pt x="217" y="217"/>
                </a:lnTo>
                <a:lnTo>
                  <a:pt x="217" y="181"/>
                </a:lnTo>
                <a:lnTo>
                  <a:pt x="217" y="217"/>
                </a:lnTo>
                <a:lnTo>
                  <a:pt x="133" y="18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665600" y="244332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0"/>
                </a:moveTo>
                <a:lnTo>
                  <a:pt x="217" y="283"/>
                </a:lnTo>
                <a:lnTo>
                  <a:pt x="217" y="247"/>
                </a:lnTo>
                <a:lnTo>
                  <a:pt x="217" y="283"/>
                </a:lnTo>
                <a:lnTo>
                  <a:pt x="88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665600" y="2289240"/>
            <a:ext cx="78120" cy="141480"/>
          </a:xfrm>
          <a:custGeom>
            <a:avLst/>
            <a:gdLst/>
            <a:ahLst/>
            <a:rect l="0" t="0" r="r" b="b"/>
            <a:pathLst>
              <a:path fill="none" w="217" h="393">
                <a:moveTo>
                  <a:pt x="0" y="0"/>
                </a:moveTo>
                <a:lnTo>
                  <a:pt x="217" y="393"/>
                </a:lnTo>
                <a:lnTo>
                  <a:pt x="217" y="283"/>
                </a:lnTo>
                <a:lnTo>
                  <a:pt x="217" y="393"/>
                </a:lnTo>
                <a:lnTo>
                  <a:pt x="88" y="31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67360" y="6165720"/>
            <a:ext cx="60120" cy="0"/>
          </a:xfrm>
          <a:custGeom>
            <a:avLst/>
            <a:gdLst/>
            <a:ahLst/>
            <a:rect l="0" t="0" r="r" b="b"/>
            <a:pathLst>
              <a:path fill="none" w="167" h="0">
                <a:moveTo>
                  <a:pt x="0" y="0"/>
                </a:moveTo>
                <a:lnTo>
                  <a:pt x="167" y="0"/>
                </a:lnTo>
                <a:lnTo>
                  <a:pt x="127" y="0"/>
                </a:lnTo>
                <a:lnTo>
                  <a:pt x="167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067360" y="598788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72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067360" y="5821200"/>
            <a:ext cx="60840" cy="38520"/>
          </a:xfrm>
          <a:custGeom>
            <a:avLst/>
            <a:gdLst/>
            <a:ahLst/>
            <a:rect l="0" t="0" r="r" b="b"/>
            <a:pathLst>
              <a:path fill="none" w="169" h="107">
                <a:moveTo>
                  <a:pt x="0" y="107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067360" y="5641920"/>
            <a:ext cx="60840" cy="63720"/>
          </a:xfrm>
          <a:custGeom>
            <a:avLst/>
            <a:gdLst/>
            <a:ahLst/>
            <a:rect l="0" t="0" r="r" b="b"/>
            <a:pathLst>
              <a:path fill="none" w="169" h="177">
                <a:moveTo>
                  <a:pt x="0" y="177"/>
                </a:moveTo>
                <a:lnTo>
                  <a:pt x="169" y="0"/>
                </a:lnTo>
                <a:lnTo>
                  <a:pt x="129" y="35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067360" y="5475240"/>
            <a:ext cx="60840" cy="76680"/>
          </a:xfrm>
          <a:custGeom>
            <a:avLst/>
            <a:gdLst/>
            <a:ahLst/>
            <a:rect l="0" t="0" r="r" b="b"/>
            <a:pathLst>
              <a:path fill="none" w="169" h="213">
                <a:moveTo>
                  <a:pt x="0" y="213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067360" y="5308560"/>
            <a:ext cx="60840" cy="78120"/>
          </a:xfrm>
          <a:custGeom>
            <a:avLst/>
            <a:gdLst/>
            <a:ahLst/>
            <a:rect l="0" t="0" r="r" b="b"/>
            <a:pathLst>
              <a:path fill="none" w="169" h="217">
                <a:moveTo>
                  <a:pt x="0" y="217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067360" y="514332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067360" y="497664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169" y="0"/>
                </a:lnTo>
                <a:lnTo>
                  <a:pt x="84" y="70"/>
                </a:lnTo>
                <a:lnTo>
                  <a:pt x="169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67360" y="48229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067360" y="465624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169" y="0"/>
                </a:lnTo>
                <a:lnTo>
                  <a:pt x="84" y="70"/>
                </a:lnTo>
                <a:lnTo>
                  <a:pt x="169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067360" y="450216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169" y="0"/>
                </a:lnTo>
                <a:lnTo>
                  <a:pt x="84" y="74"/>
                </a:lnTo>
                <a:lnTo>
                  <a:pt x="169" y="0"/>
                </a:lnTo>
                <a:lnTo>
                  <a:pt x="213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067360" y="434988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169" y="0"/>
                </a:lnTo>
                <a:lnTo>
                  <a:pt x="84" y="70"/>
                </a:lnTo>
                <a:lnTo>
                  <a:pt x="169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067360" y="419580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169" y="0"/>
                </a:lnTo>
                <a:lnTo>
                  <a:pt x="84" y="70"/>
                </a:lnTo>
                <a:lnTo>
                  <a:pt x="169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67360" y="4054320"/>
            <a:ext cx="76680" cy="90720"/>
          </a:xfrm>
          <a:custGeom>
            <a:avLst/>
            <a:gdLst/>
            <a:ahLst/>
            <a:rect l="0" t="0" r="r" b="b"/>
            <a:pathLst>
              <a:path fill="none" w="213" h="252">
                <a:moveTo>
                  <a:pt x="0" y="252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067360" y="390204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067360" y="3760920"/>
            <a:ext cx="60840" cy="76680"/>
          </a:xfrm>
          <a:custGeom>
            <a:avLst/>
            <a:gdLst/>
            <a:ahLst/>
            <a:rect l="0" t="0" r="r" b="b"/>
            <a:pathLst>
              <a:path fill="none" w="169" h="213">
                <a:moveTo>
                  <a:pt x="0" y="213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067360" y="3619440"/>
            <a:ext cx="60840" cy="65520"/>
          </a:xfrm>
          <a:custGeom>
            <a:avLst/>
            <a:gdLst/>
            <a:ahLst/>
            <a:rect l="0" t="0" r="r" b="b"/>
            <a:pathLst>
              <a:path fill="none" w="169" h="182">
                <a:moveTo>
                  <a:pt x="0" y="182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067360" y="3479760"/>
            <a:ext cx="60840" cy="51120"/>
          </a:xfrm>
          <a:custGeom>
            <a:avLst/>
            <a:gdLst/>
            <a:ahLst/>
            <a:rect l="0" t="0" r="r" b="b"/>
            <a:pathLst>
              <a:path fill="none" w="169" h="142">
                <a:moveTo>
                  <a:pt x="0" y="142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067360" y="3338640"/>
            <a:ext cx="60840" cy="38520"/>
          </a:xfrm>
          <a:custGeom>
            <a:avLst/>
            <a:gdLst/>
            <a:ahLst/>
            <a:rect l="0" t="0" r="r" b="b"/>
            <a:pathLst>
              <a:path fill="none" w="169" h="107">
                <a:moveTo>
                  <a:pt x="0" y="107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067360" y="319716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72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067360" y="305748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72"/>
                </a:moveTo>
                <a:lnTo>
                  <a:pt x="169" y="72"/>
                </a:lnTo>
                <a:lnTo>
                  <a:pt x="129" y="0"/>
                </a:lnTo>
                <a:lnTo>
                  <a:pt x="169" y="72"/>
                </a:lnTo>
                <a:lnTo>
                  <a:pt x="12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067360" y="290340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0"/>
                </a:moveTo>
                <a:lnTo>
                  <a:pt x="169" y="72"/>
                </a:lnTo>
                <a:lnTo>
                  <a:pt x="169" y="72"/>
                </a:lnTo>
                <a:lnTo>
                  <a:pt x="169" y="72"/>
                </a:lnTo>
                <a:lnTo>
                  <a:pt x="12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067360" y="2749680"/>
            <a:ext cx="60840" cy="51120"/>
          </a:xfrm>
          <a:custGeom>
            <a:avLst/>
            <a:gdLst/>
            <a:ahLst/>
            <a:rect l="0" t="0" r="r" b="b"/>
            <a:pathLst>
              <a:path fill="none" w="169" h="142">
                <a:moveTo>
                  <a:pt x="0" y="0"/>
                </a:moveTo>
                <a:lnTo>
                  <a:pt x="169" y="142"/>
                </a:lnTo>
                <a:lnTo>
                  <a:pt x="169" y="106"/>
                </a:lnTo>
                <a:lnTo>
                  <a:pt x="169" y="142"/>
                </a:lnTo>
                <a:lnTo>
                  <a:pt x="129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067360" y="2595600"/>
            <a:ext cx="60840" cy="78120"/>
          </a:xfrm>
          <a:custGeom>
            <a:avLst/>
            <a:gdLst/>
            <a:ahLst/>
            <a:rect l="0" t="0" r="r" b="b"/>
            <a:pathLst>
              <a:path fill="none" w="169" h="217">
                <a:moveTo>
                  <a:pt x="0" y="0"/>
                </a:moveTo>
                <a:lnTo>
                  <a:pt x="169" y="217"/>
                </a:lnTo>
                <a:lnTo>
                  <a:pt x="169" y="181"/>
                </a:lnTo>
                <a:lnTo>
                  <a:pt x="169" y="217"/>
                </a:lnTo>
                <a:lnTo>
                  <a:pt x="84" y="18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067360" y="24433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0"/>
                </a:moveTo>
                <a:lnTo>
                  <a:pt x="169" y="283"/>
                </a:lnTo>
                <a:lnTo>
                  <a:pt x="213" y="247"/>
                </a:lnTo>
                <a:lnTo>
                  <a:pt x="169" y="283"/>
                </a:lnTo>
                <a:lnTo>
                  <a:pt x="84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067360" y="2289240"/>
            <a:ext cx="76680" cy="141480"/>
          </a:xfrm>
          <a:custGeom>
            <a:avLst/>
            <a:gdLst/>
            <a:ahLst/>
            <a:rect l="0" t="0" r="r" b="b"/>
            <a:pathLst>
              <a:path fill="none" w="213" h="393">
                <a:moveTo>
                  <a:pt x="0" y="0"/>
                </a:moveTo>
                <a:lnTo>
                  <a:pt x="169" y="393"/>
                </a:lnTo>
                <a:lnTo>
                  <a:pt x="213" y="283"/>
                </a:lnTo>
                <a:lnTo>
                  <a:pt x="169" y="393"/>
                </a:lnTo>
                <a:lnTo>
                  <a:pt x="39" y="31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451480" y="6165720"/>
            <a:ext cx="75960" cy="0"/>
          </a:xfrm>
          <a:custGeom>
            <a:avLst/>
            <a:gdLst/>
            <a:ahLst/>
            <a:rect l="0" t="0" r="r" b="b"/>
            <a:pathLst>
              <a:path fill="none" w="211" h="0">
                <a:moveTo>
                  <a:pt x="0" y="0"/>
                </a:moveTo>
                <a:lnTo>
                  <a:pt x="211" y="0"/>
                </a:lnTo>
                <a:lnTo>
                  <a:pt x="171" y="0"/>
                </a:lnTo>
                <a:lnTo>
                  <a:pt x="211" y="0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451480" y="598788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73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451480" y="582120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107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451480" y="5641920"/>
            <a:ext cx="76680" cy="63720"/>
          </a:xfrm>
          <a:custGeom>
            <a:avLst/>
            <a:gdLst/>
            <a:ahLst/>
            <a:rect l="0" t="0" r="r" b="b"/>
            <a:pathLst>
              <a:path fill="none" w="213" h="177">
                <a:moveTo>
                  <a:pt x="0" y="17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451480" y="547524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451480" y="5308560"/>
            <a:ext cx="76680" cy="78120"/>
          </a:xfrm>
          <a:custGeom>
            <a:avLst/>
            <a:gdLst/>
            <a:ahLst/>
            <a:rect l="0" t="0" r="r" b="b"/>
            <a:pathLst>
              <a:path fill="none" w="213" h="217">
                <a:moveTo>
                  <a:pt x="0" y="21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451480" y="514332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451480" y="497664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451480" y="48229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451480" y="465624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451480" y="450216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128" y="74"/>
                </a:lnTo>
                <a:lnTo>
                  <a:pt x="213" y="0"/>
                </a:lnTo>
                <a:lnTo>
                  <a:pt x="213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451480" y="434988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51480" y="419580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451480" y="4054320"/>
            <a:ext cx="76680" cy="90720"/>
          </a:xfrm>
          <a:custGeom>
            <a:avLst/>
            <a:gdLst/>
            <a:ahLst/>
            <a:rect l="0" t="0" r="r" b="b"/>
            <a:pathLst>
              <a:path fill="none" w="213" h="252">
                <a:moveTo>
                  <a:pt x="0" y="252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451480" y="390204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451480" y="3760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451480" y="3619440"/>
            <a:ext cx="76680" cy="65520"/>
          </a:xfrm>
          <a:custGeom>
            <a:avLst/>
            <a:gdLst/>
            <a:ahLst/>
            <a:rect l="0" t="0" r="r" b="b"/>
            <a:pathLst>
              <a:path fill="none" w="213" h="182">
                <a:moveTo>
                  <a:pt x="0" y="182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451480" y="347976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14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451480" y="333864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107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451480" y="31971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73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451480" y="305748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72"/>
                </a:lnTo>
                <a:lnTo>
                  <a:pt x="173" y="0"/>
                </a:lnTo>
                <a:lnTo>
                  <a:pt x="213" y="72"/>
                </a:lnTo>
                <a:lnTo>
                  <a:pt x="17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451480" y="290340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0"/>
                </a:moveTo>
                <a:lnTo>
                  <a:pt x="213" y="72"/>
                </a:lnTo>
                <a:lnTo>
                  <a:pt x="173" y="72"/>
                </a:lnTo>
                <a:lnTo>
                  <a:pt x="213" y="72"/>
                </a:lnTo>
                <a:lnTo>
                  <a:pt x="17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451480" y="274968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0"/>
                </a:moveTo>
                <a:lnTo>
                  <a:pt x="213" y="142"/>
                </a:lnTo>
                <a:lnTo>
                  <a:pt x="213" y="106"/>
                </a:lnTo>
                <a:lnTo>
                  <a:pt x="213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451480" y="2595600"/>
            <a:ext cx="76680" cy="78120"/>
          </a:xfrm>
          <a:custGeom>
            <a:avLst/>
            <a:gdLst/>
            <a:ahLst/>
            <a:rect l="0" t="0" r="r" b="b"/>
            <a:pathLst>
              <a:path fill="none" w="213" h="217">
                <a:moveTo>
                  <a:pt x="0" y="0"/>
                </a:moveTo>
                <a:lnTo>
                  <a:pt x="213" y="217"/>
                </a:lnTo>
                <a:lnTo>
                  <a:pt x="213" y="181"/>
                </a:lnTo>
                <a:lnTo>
                  <a:pt x="213" y="217"/>
                </a:lnTo>
                <a:lnTo>
                  <a:pt x="128" y="18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451480" y="24433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0"/>
                </a:moveTo>
                <a:lnTo>
                  <a:pt x="213" y="283"/>
                </a:lnTo>
                <a:lnTo>
                  <a:pt x="213" y="247"/>
                </a:lnTo>
                <a:lnTo>
                  <a:pt x="213" y="283"/>
                </a:lnTo>
                <a:lnTo>
                  <a:pt x="128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451480" y="2289240"/>
            <a:ext cx="92520" cy="141480"/>
          </a:xfrm>
          <a:custGeom>
            <a:avLst/>
            <a:gdLst/>
            <a:ahLst/>
            <a:rect l="0" t="0" r="r" b="b"/>
            <a:pathLst>
              <a:path fill="none" w="257" h="393">
                <a:moveTo>
                  <a:pt x="0" y="0"/>
                </a:moveTo>
                <a:lnTo>
                  <a:pt x="213" y="393"/>
                </a:lnTo>
                <a:lnTo>
                  <a:pt x="257" y="283"/>
                </a:lnTo>
                <a:lnTo>
                  <a:pt x="213" y="393"/>
                </a:lnTo>
                <a:lnTo>
                  <a:pt x="84" y="31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851440" y="6165720"/>
            <a:ext cx="75960" cy="0"/>
          </a:xfrm>
          <a:custGeom>
            <a:avLst/>
            <a:gdLst/>
            <a:ahLst/>
            <a:rect l="0" t="0" r="r" b="b"/>
            <a:pathLst>
              <a:path fill="none" w="211" h="0">
                <a:moveTo>
                  <a:pt x="0" y="0"/>
                </a:moveTo>
                <a:lnTo>
                  <a:pt x="211" y="0"/>
                </a:lnTo>
                <a:lnTo>
                  <a:pt x="171" y="0"/>
                </a:lnTo>
                <a:lnTo>
                  <a:pt x="211" y="0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851440" y="598788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851440" y="582120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107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851440" y="5641920"/>
            <a:ext cx="76680" cy="63720"/>
          </a:xfrm>
          <a:custGeom>
            <a:avLst/>
            <a:gdLst/>
            <a:ahLst/>
            <a:rect l="0" t="0" r="r" b="b"/>
            <a:pathLst>
              <a:path fill="none" w="213" h="177">
                <a:moveTo>
                  <a:pt x="0" y="17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851440" y="547524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851440" y="5308560"/>
            <a:ext cx="76680" cy="78120"/>
          </a:xfrm>
          <a:custGeom>
            <a:avLst/>
            <a:gdLst/>
            <a:ahLst/>
            <a:rect l="0" t="0" r="r" b="b"/>
            <a:pathLst>
              <a:path fill="none" w="213" h="217">
                <a:moveTo>
                  <a:pt x="0" y="21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851440" y="514332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84" y="35"/>
                </a:lnTo>
                <a:lnTo>
                  <a:pt x="213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851440" y="497664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851440" y="48229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84" y="35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51440" y="465624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51440" y="450216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84" y="74"/>
                </a:lnTo>
                <a:lnTo>
                  <a:pt x="213" y="0"/>
                </a:lnTo>
                <a:lnTo>
                  <a:pt x="213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851440" y="434988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851440" y="419580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851440" y="4054320"/>
            <a:ext cx="76680" cy="90720"/>
          </a:xfrm>
          <a:custGeom>
            <a:avLst/>
            <a:gdLst/>
            <a:ahLst/>
            <a:rect l="0" t="0" r="r" b="b"/>
            <a:pathLst>
              <a:path fill="none" w="213" h="252">
                <a:moveTo>
                  <a:pt x="0" y="252"/>
                </a:moveTo>
                <a:lnTo>
                  <a:pt x="213" y="0"/>
                </a:lnTo>
                <a:lnTo>
                  <a:pt x="84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851440" y="390204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84" y="35"/>
                </a:lnTo>
                <a:lnTo>
                  <a:pt x="213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851440" y="3760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851440" y="3619440"/>
            <a:ext cx="76680" cy="65520"/>
          </a:xfrm>
          <a:custGeom>
            <a:avLst/>
            <a:gdLst/>
            <a:ahLst/>
            <a:rect l="0" t="0" r="r" b="b"/>
            <a:pathLst>
              <a:path fill="none" w="213" h="182">
                <a:moveTo>
                  <a:pt x="0" y="182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851440" y="347976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14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851440" y="333864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107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851440" y="31971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851440" y="305748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72"/>
                </a:lnTo>
                <a:lnTo>
                  <a:pt x="173" y="0"/>
                </a:lnTo>
                <a:lnTo>
                  <a:pt x="213" y="72"/>
                </a:lnTo>
                <a:lnTo>
                  <a:pt x="17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851440" y="290340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0"/>
                </a:moveTo>
                <a:lnTo>
                  <a:pt x="213" y="72"/>
                </a:lnTo>
                <a:lnTo>
                  <a:pt x="173" y="72"/>
                </a:lnTo>
                <a:lnTo>
                  <a:pt x="213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851440" y="274968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0"/>
                </a:moveTo>
                <a:lnTo>
                  <a:pt x="213" y="142"/>
                </a:lnTo>
                <a:lnTo>
                  <a:pt x="173" y="106"/>
                </a:lnTo>
                <a:lnTo>
                  <a:pt x="213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51440" y="2595600"/>
            <a:ext cx="76680" cy="78120"/>
          </a:xfrm>
          <a:custGeom>
            <a:avLst/>
            <a:gdLst/>
            <a:ahLst/>
            <a:rect l="0" t="0" r="r" b="b"/>
            <a:pathLst>
              <a:path fill="none" w="213" h="217">
                <a:moveTo>
                  <a:pt x="0" y="0"/>
                </a:moveTo>
                <a:lnTo>
                  <a:pt x="213" y="217"/>
                </a:lnTo>
                <a:lnTo>
                  <a:pt x="213" y="181"/>
                </a:lnTo>
                <a:lnTo>
                  <a:pt x="213" y="217"/>
                </a:lnTo>
                <a:lnTo>
                  <a:pt x="128" y="18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851440" y="24433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0"/>
                </a:moveTo>
                <a:lnTo>
                  <a:pt x="213" y="283"/>
                </a:lnTo>
                <a:lnTo>
                  <a:pt x="213" y="247"/>
                </a:lnTo>
                <a:lnTo>
                  <a:pt x="213" y="283"/>
                </a:lnTo>
                <a:lnTo>
                  <a:pt x="84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851440" y="2289240"/>
            <a:ext cx="76680" cy="141480"/>
          </a:xfrm>
          <a:custGeom>
            <a:avLst/>
            <a:gdLst/>
            <a:ahLst/>
            <a:rect l="0" t="0" r="r" b="b"/>
            <a:pathLst>
              <a:path fill="none" w="213" h="393">
                <a:moveTo>
                  <a:pt x="0" y="0"/>
                </a:moveTo>
                <a:lnTo>
                  <a:pt x="213" y="393"/>
                </a:lnTo>
                <a:lnTo>
                  <a:pt x="213" y="283"/>
                </a:lnTo>
                <a:lnTo>
                  <a:pt x="213" y="393"/>
                </a:lnTo>
                <a:lnTo>
                  <a:pt x="84" y="31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251400" y="6165720"/>
            <a:ext cx="61560" cy="0"/>
          </a:xfrm>
          <a:custGeom>
            <a:avLst/>
            <a:gdLst/>
            <a:ahLst/>
            <a:rect l="0" t="0" r="r" b="b"/>
            <a:pathLst>
              <a:path fill="none" w="171" h="0">
                <a:moveTo>
                  <a:pt x="0" y="0"/>
                </a:moveTo>
                <a:lnTo>
                  <a:pt x="171" y="0"/>
                </a:lnTo>
                <a:lnTo>
                  <a:pt x="127" y="0"/>
                </a:lnTo>
                <a:lnTo>
                  <a:pt x="171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251400" y="598788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72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251400" y="5821200"/>
            <a:ext cx="62280" cy="38520"/>
          </a:xfrm>
          <a:custGeom>
            <a:avLst/>
            <a:gdLst/>
            <a:ahLst/>
            <a:rect l="0" t="0" r="r" b="b"/>
            <a:pathLst>
              <a:path fill="none" w="173" h="107">
                <a:moveTo>
                  <a:pt x="0" y="107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251400" y="5641920"/>
            <a:ext cx="62280" cy="63720"/>
          </a:xfrm>
          <a:custGeom>
            <a:avLst/>
            <a:gdLst/>
            <a:ahLst/>
            <a:rect l="0" t="0" r="r" b="b"/>
            <a:pathLst>
              <a:path fill="none" w="173" h="177">
                <a:moveTo>
                  <a:pt x="0" y="177"/>
                </a:moveTo>
                <a:lnTo>
                  <a:pt x="173" y="0"/>
                </a:lnTo>
                <a:lnTo>
                  <a:pt x="128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251400" y="5475240"/>
            <a:ext cx="62280" cy="76680"/>
          </a:xfrm>
          <a:custGeom>
            <a:avLst/>
            <a:gdLst/>
            <a:ahLst/>
            <a:rect l="0" t="0" r="r" b="b"/>
            <a:pathLst>
              <a:path fill="none" w="173" h="213">
                <a:moveTo>
                  <a:pt x="0" y="213"/>
                </a:moveTo>
                <a:lnTo>
                  <a:pt x="173" y="0"/>
                </a:lnTo>
                <a:lnTo>
                  <a:pt x="89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251400" y="5308560"/>
            <a:ext cx="62280" cy="78120"/>
          </a:xfrm>
          <a:custGeom>
            <a:avLst/>
            <a:gdLst/>
            <a:ahLst/>
            <a:rect l="0" t="0" r="r" b="b"/>
            <a:pathLst>
              <a:path fill="none" w="173" h="217">
                <a:moveTo>
                  <a:pt x="0" y="217"/>
                </a:moveTo>
                <a:lnTo>
                  <a:pt x="173" y="0"/>
                </a:lnTo>
                <a:lnTo>
                  <a:pt x="89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251400" y="514332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172" y="0"/>
                </a:lnTo>
                <a:lnTo>
                  <a:pt x="88" y="35"/>
                </a:lnTo>
                <a:lnTo>
                  <a:pt x="172" y="0"/>
                </a:lnTo>
                <a:lnTo>
                  <a:pt x="21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251400" y="497664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172" y="0"/>
                </a:lnTo>
                <a:lnTo>
                  <a:pt x="88" y="70"/>
                </a:lnTo>
                <a:lnTo>
                  <a:pt x="172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251400" y="482292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172" y="0"/>
                </a:lnTo>
                <a:lnTo>
                  <a:pt x="88" y="35"/>
                </a:lnTo>
                <a:lnTo>
                  <a:pt x="172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251400" y="465624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172" y="0"/>
                </a:lnTo>
                <a:lnTo>
                  <a:pt x="88" y="70"/>
                </a:lnTo>
                <a:lnTo>
                  <a:pt x="172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251400" y="450216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172" y="0"/>
                </a:lnTo>
                <a:lnTo>
                  <a:pt x="88" y="74"/>
                </a:lnTo>
                <a:lnTo>
                  <a:pt x="172" y="0"/>
                </a:lnTo>
                <a:lnTo>
                  <a:pt x="217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251400" y="4349880"/>
            <a:ext cx="78120" cy="114840"/>
          </a:xfrm>
          <a:custGeom>
            <a:avLst/>
            <a:gdLst/>
            <a:ahLst/>
            <a:rect l="0" t="0" r="r" b="b"/>
            <a:pathLst>
              <a:path fill="none" w="217" h="319">
                <a:moveTo>
                  <a:pt x="0" y="319"/>
                </a:moveTo>
                <a:lnTo>
                  <a:pt x="172" y="0"/>
                </a:lnTo>
                <a:lnTo>
                  <a:pt x="88" y="70"/>
                </a:lnTo>
                <a:lnTo>
                  <a:pt x="172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251400" y="419580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172" y="0"/>
                </a:lnTo>
                <a:lnTo>
                  <a:pt x="88" y="70"/>
                </a:lnTo>
                <a:lnTo>
                  <a:pt x="172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251400" y="4054320"/>
            <a:ext cx="78120" cy="90720"/>
          </a:xfrm>
          <a:custGeom>
            <a:avLst/>
            <a:gdLst/>
            <a:ahLst/>
            <a:rect l="0" t="0" r="r" b="b"/>
            <a:pathLst>
              <a:path fill="none" w="217" h="252">
                <a:moveTo>
                  <a:pt x="0" y="252"/>
                </a:moveTo>
                <a:lnTo>
                  <a:pt x="172" y="0"/>
                </a:lnTo>
                <a:lnTo>
                  <a:pt x="88" y="35"/>
                </a:lnTo>
                <a:lnTo>
                  <a:pt x="172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251400" y="390204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172" y="0"/>
                </a:lnTo>
                <a:lnTo>
                  <a:pt x="88" y="35"/>
                </a:lnTo>
                <a:lnTo>
                  <a:pt x="172" y="0"/>
                </a:lnTo>
                <a:lnTo>
                  <a:pt x="21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251400" y="3760920"/>
            <a:ext cx="62280" cy="76680"/>
          </a:xfrm>
          <a:custGeom>
            <a:avLst/>
            <a:gdLst/>
            <a:ahLst/>
            <a:rect l="0" t="0" r="r" b="b"/>
            <a:pathLst>
              <a:path fill="none" w="173" h="213">
                <a:moveTo>
                  <a:pt x="0" y="213"/>
                </a:moveTo>
                <a:lnTo>
                  <a:pt x="173" y="0"/>
                </a:lnTo>
                <a:lnTo>
                  <a:pt x="89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251400" y="3619440"/>
            <a:ext cx="62280" cy="65520"/>
          </a:xfrm>
          <a:custGeom>
            <a:avLst/>
            <a:gdLst/>
            <a:ahLst/>
            <a:rect l="0" t="0" r="r" b="b"/>
            <a:pathLst>
              <a:path fill="none" w="173" h="182">
                <a:moveTo>
                  <a:pt x="0" y="182"/>
                </a:moveTo>
                <a:lnTo>
                  <a:pt x="173" y="0"/>
                </a:lnTo>
                <a:lnTo>
                  <a:pt x="89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251400" y="3479760"/>
            <a:ext cx="62280" cy="51120"/>
          </a:xfrm>
          <a:custGeom>
            <a:avLst/>
            <a:gdLst/>
            <a:ahLst/>
            <a:rect l="0" t="0" r="r" b="b"/>
            <a:pathLst>
              <a:path fill="none" w="173" h="142">
                <a:moveTo>
                  <a:pt x="0" y="142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251400" y="3338640"/>
            <a:ext cx="62280" cy="38520"/>
          </a:xfrm>
          <a:custGeom>
            <a:avLst/>
            <a:gdLst/>
            <a:ahLst/>
            <a:rect l="0" t="0" r="r" b="b"/>
            <a:pathLst>
              <a:path fill="none" w="173" h="107">
                <a:moveTo>
                  <a:pt x="0" y="107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251400" y="319716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72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251400" y="305748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72"/>
                </a:moveTo>
                <a:lnTo>
                  <a:pt x="173" y="72"/>
                </a:lnTo>
                <a:lnTo>
                  <a:pt x="128" y="0"/>
                </a:lnTo>
                <a:lnTo>
                  <a:pt x="173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251400" y="290340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0"/>
                </a:moveTo>
                <a:lnTo>
                  <a:pt x="173" y="72"/>
                </a:lnTo>
                <a:lnTo>
                  <a:pt x="173" y="72"/>
                </a:lnTo>
                <a:lnTo>
                  <a:pt x="173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251400" y="2749680"/>
            <a:ext cx="62280" cy="51120"/>
          </a:xfrm>
          <a:custGeom>
            <a:avLst/>
            <a:gdLst/>
            <a:ahLst/>
            <a:rect l="0" t="0" r="r" b="b"/>
            <a:pathLst>
              <a:path fill="none" w="173" h="142">
                <a:moveTo>
                  <a:pt x="0" y="0"/>
                </a:moveTo>
                <a:lnTo>
                  <a:pt x="173" y="142"/>
                </a:lnTo>
                <a:lnTo>
                  <a:pt x="173" y="106"/>
                </a:lnTo>
                <a:lnTo>
                  <a:pt x="173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251400" y="2595600"/>
            <a:ext cx="62280" cy="78120"/>
          </a:xfrm>
          <a:custGeom>
            <a:avLst/>
            <a:gdLst/>
            <a:ahLst/>
            <a:rect l="0" t="0" r="r" b="b"/>
            <a:pathLst>
              <a:path fill="none" w="173" h="217">
                <a:moveTo>
                  <a:pt x="0" y="0"/>
                </a:moveTo>
                <a:lnTo>
                  <a:pt x="173" y="217"/>
                </a:lnTo>
                <a:lnTo>
                  <a:pt x="173" y="181"/>
                </a:lnTo>
                <a:lnTo>
                  <a:pt x="173" y="217"/>
                </a:lnTo>
                <a:lnTo>
                  <a:pt x="89" y="18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251400" y="244332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0"/>
                </a:moveTo>
                <a:lnTo>
                  <a:pt x="172" y="283"/>
                </a:lnTo>
                <a:lnTo>
                  <a:pt x="217" y="247"/>
                </a:lnTo>
                <a:lnTo>
                  <a:pt x="172" y="283"/>
                </a:lnTo>
                <a:lnTo>
                  <a:pt x="88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251400" y="2289240"/>
            <a:ext cx="78120" cy="141480"/>
          </a:xfrm>
          <a:custGeom>
            <a:avLst/>
            <a:gdLst/>
            <a:ahLst/>
            <a:rect l="0" t="0" r="r" b="b"/>
            <a:pathLst>
              <a:path fill="none" w="217" h="393">
                <a:moveTo>
                  <a:pt x="0" y="0"/>
                </a:moveTo>
                <a:lnTo>
                  <a:pt x="172" y="393"/>
                </a:lnTo>
                <a:lnTo>
                  <a:pt x="217" y="283"/>
                </a:lnTo>
                <a:lnTo>
                  <a:pt x="172" y="393"/>
                </a:lnTo>
                <a:lnTo>
                  <a:pt x="44" y="31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637320" y="6165720"/>
            <a:ext cx="75960" cy="0"/>
          </a:xfrm>
          <a:custGeom>
            <a:avLst/>
            <a:gdLst/>
            <a:ahLst/>
            <a:rect l="0" t="0" r="r" b="b"/>
            <a:pathLst>
              <a:path fill="none" w="211" h="0">
                <a:moveTo>
                  <a:pt x="0" y="0"/>
                </a:moveTo>
                <a:lnTo>
                  <a:pt x="211" y="0"/>
                </a:lnTo>
                <a:lnTo>
                  <a:pt x="167" y="0"/>
                </a:lnTo>
                <a:lnTo>
                  <a:pt x="211" y="0"/>
                </a:lnTo>
                <a:lnTo>
                  <a:pt x="16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637320" y="598788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69" y="0"/>
                </a:lnTo>
                <a:lnTo>
                  <a:pt x="213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637320" y="582120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107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6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637320" y="5641920"/>
            <a:ext cx="76680" cy="63720"/>
          </a:xfrm>
          <a:custGeom>
            <a:avLst/>
            <a:gdLst/>
            <a:ahLst/>
            <a:rect l="0" t="0" r="r" b="b"/>
            <a:pathLst>
              <a:path fill="none" w="213" h="177">
                <a:moveTo>
                  <a:pt x="0" y="17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637320" y="547524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637320" y="5308560"/>
            <a:ext cx="76680" cy="78120"/>
          </a:xfrm>
          <a:custGeom>
            <a:avLst/>
            <a:gdLst/>
            <a:ahLst/>
            <a:rect l="0" t="0" r="r" b="b"/>
            <a:pathLst>
              <a:path fill="none" w="213" h="217">
                <a:moveTo>
                  <a:pt x="0" y="21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637320" y="514332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637320" y="497664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637320" y="48229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637320" y="465624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637320" y="450216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128" y="74"/>
                </a:lnTo>
                <a:lnTo>
                  <a:pt x="213" y="0"/>
                </a:lnTo>
                <a:lnTo>
                  <a:pt x="213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637320" y="434988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637320" y="419580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637320" y="4054320"/>
            <a:ext cx="76680" cy="90720"/>
          </a:xfrm>
          <a:custGeom>
            <a:avLst/>
            <a:gdLst/>
            <a:ahLst/>
            <a:rect l="0" t="0" r="r" b="b"/>
            <a:pathLst>
              <a:path fill="none" w="213" h="252">
                <a:moveTo>
                  <a:pt x="0" y="252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637320" y="390204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637320" y="3760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37320" y="3619440"/>
            <a:ext cx="76680" cy="65520"/>
          </a:xfrm>
          <a:custGeom>
            <a:avLst/>
            <a:gdLst/>
            <a:ahLst/>
            <a:rect l="0" t="0" r="r" b="b"/>
            <a:pathLst>
              <a:path fill="none" w="213" h="182">
                <a:moveTo>
                  <a:pt x="0" y="182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637320" y="347976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14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637320" y="333864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107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637320" y="31971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69" y="0"/>
                </a:lnTo>
                <a:lnTo>
                  <a:pt x="213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637320" y="305748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72"/>
                </a:lnTo>
                <a:lnTo>
                  <a:pt x="169" y="0"/>
                </a:lnTo>
                <a:lnTo>
                  <a:pt x="213" y="72"/>
                </a:lnTo>
                <a:lnTo>
                  <a:pt x="16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637320" y="290340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0"/>
                </a:moveTo>
                <a:lnTo>
                  <a:pt x="213" y="72"/>
                </a:lnTo>
                <a:lnTo>
                  <a:pt x="169" y="72"/>
                </a:lnTo>
                <a:lnTo>
                  <a:pt x="213" y="72"/>
                </a:lnTo>
                <a:lnTo>
                  <a:pt x="16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637320" y="274968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0"/>
                </a:moveTo>
                <a:lnTo>
                  <a:pt x="213" y="142"/>
                </a:lnTo>
                <a:lnTo>
                  <a:pt x="213" y="106"/>
                </a:lnTo>
                <a:lnTo>
                  <a:pt x="213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637320" y="2595600"/>
            <a:ext cx="76680" cy="78120"/>
          </a:xfrm>
          <a:custGeom>
            <a:avLst/>
            <a:gdLst/>
            <a:ahLst/>
            <a:rect l="0" t="0" r="r" b="b"/>
            <a:pathLst>
              <a:path fill="none" w="213" h="217">
                <a:moveTo>
                  <a:pt x="0" y="0"/>
                </a:moveTo>
                <a:lnTo>
                  <a:pt x="213" y="217"/>
                </a:lnTo>
                <a:lnTo>
                  <a:pt x="213" y="181"/>
                </a:lnTo>
                <a:lnTo>
                  <a:pt x="213" y="217"/>
                </a:lnTo>
                <a:lnTo>
                  <a:pt x="128" y="18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637320" y="24433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0"/>
                </a:moveTo>
                <a:lnTo>
                  <a:pt x="213" y="283"/>
                </a:lnTo>
                <a:lnTo>
                  <a:pt x="213" y="247"/>
                </a:lnTo>
                <a:lnTo>
                  <a:pt x="213" y="283"/>
                </a:lnTo>
                <a:lnTo>
                  <a:pt x="128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637320" y="2289240"/>
            <a:ext cx="92520" cy="141480"/>
          </a:xfrm>
          <a:custGeom>
            <a:avLst/>
            <a:gdLst/>
            <a:ahLst/>
            <a:rect l="0" t="0" r="r" b="b"/>
            <a:pathLst>
              <a:path fill="none" w="257" h="393">
                <a:moveTo>
                  <a:pt x="0" y="0"/>
                </a:moveTo>
                <a:lnTo>
                  <a:pt x="213" y="393"/>
                </a:lnTo>
                <a:lnTo>
                  <a:pt x="257" y="283"/>
                </a:lnTo>
                <a:lnTo>
                  <a:pt x="213" y="393"/>
                </a:lnTo>
                <a:lnTo>
                  <a:pt x="84" y="31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7037280" y="6165720"/>
            <a:ext cx="75960" cy="0"/>
          </a:xfrm>
          <a:custGeom>
            <a:avLst/>
            <a:gdLst/>
            <a:ahLst/>
            <a:rect l="0" t="0" r="r" b="b"/>
            <a:pathLst>
              <a:path fill="none" w="211" h="0">
                <a:moveTo>
                  <a:pt x="0" y="0"/>
                </a:moveTo>
                <a:lnTo>
                  <a:pt x="211" y="0"/>
                </a:lnTo>
                <a:lnTo>
                  <a:pt x="167" y="0"/>
                </a:lnTo>
                <a:lnTo>
                  <a:pt x="211" y="0"/>
                </a:lnTo>
                <a:lnTo>
                  <a:pt x="16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37280" y="598788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7037280" y="582120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107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6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7037280" y="5641920"/>
            <a:ext cx="76680" cy="63720"/>
          </a:xfrm>
          <a:custGeom>
            <a:avLst/>
            <a:gdLst/>
            <a:ahLst/>
            <a:rect l="0" t="0" r="r" b="b"/>
            <a:pathLst>
              <a:path fill="none" w="213" h="177">
                <a:moveTo>
                  <a:pt x="0" y="17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037280" y="547524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037280" y="5308560"/>
            <a:ext cx="76680" cy="78120"/>
          </a:xfrm>
          <a:custGeom>
            <a:avLst/>
            <a:gdLst/>
            <a:ahLst/>
            <a:rect l="0" t="0" r="r" b="b"/>
            <a:pathLst>
              <a:path fill="none" w="213" h="217">
                <a:moveTo>
                  <a:pt x="0" y="21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037280" y="514332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84" y="35"/>
                </a:lnTo>
                <a:lnTo>
                  <a:pt x="213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7037280" y="497664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7037280" y="48229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84" y="35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037280" y="465624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037280" y="450216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84" y="74"/>
                </a:lnTo>
                <a:lnTo>
                  <a:pt x="213" y="0"/>
                </a:lnTo>
                <a:lnTo>
                  <a:pt x="213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037280" y="434988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7037280" y="419580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037280" y="4054320"/>
            <a:ext cx="76680" cy="90720"/>
          </a:xfrm>
          <a:custGeom>
            <a:avLst/>
            <a:gdLst/>
            <a:ahLst/>
            <a:rect l="0" t="0" r="r" b="b"/>
            <a:pathLst>
              <a:path fill="none" w="213" h="252">
                <a:moveTo>
                  <a:pt x="0" y="252"/>
                </a:moveTo>
                <a:lnTo>
                  <a:pt x="213" y="0"/>
                </a:lnTo>
                <a:lnTo>
                  <a:pt x="84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037280" y="390204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84" y="35"/>
                </a:lnTo>
                <a:lnTo>
                  <a:pt x="213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037280" y="3760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037280" y="3619440"/>
            <a:ext cx="76680" cy="65520"/>
          </a:xfrm>
          <a:custGeom>
            <a:avLst/>
            <a:gdLst/>
            <a:ahLst/>
            <a:rect l="0" t="0" r="r" b="b"/>
            <a:pathLst>
              <a:path fill="none" w="213" h="182">
                <a:moveTo>
                  <a:pt x="0" y="182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037280" y="347976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14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037280" y="333864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107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037280" y="31971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037280" y="305748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72"/>
                </a:lnTo>
                <a:lnTo>
                  <a:pt x="169" y="0"/>
                </a:lnTo>
                <a:lnTo>
                  <a:pt x="213" y="72"/>
                </a:lnTo>
                <a:lnTo>
                  <a:pt x="16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037280" y="290340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0"/>
                </a:moveTo>
                <a:lnTo>
                  <a:pt x="213" y="72"/>
                </a:lnTo>
                <a:lnTo>
                  <a:pt x="169" y="72"/>
                </a:lnTo>
                <a:lnTo>
                  <a:pt x="213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037280" y="274968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0"/>
                </a:moveTo>
                <a:lnTo>
                  <a:pt x="213" y="142"/>
                </a:lnTo>
                <a:lnTo>
                  <a:pt x="169" y="106"/>
                </a:lnTo>
                <a:lnTo>
                  <a:pt x="213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037280" y="2595600"/>
            <a:ext cx="76680" cy="78120"/>
          </a:xfrm>
          <a:custGeom>
            <a:avLst/>
            <a:gdLst/>
            <a:ahLst/>
            <a:rect l="0" t="0" r="r" b="b"/>
            <a:pathLst>
              <a:path fill="none" w="213" h="217">
                <a:moveTo>
                  <a:pt x="0" y="0"/>
                </a:moveTo>
                <a:lnTo>
                  <a:pt x="213" y="217"/>
                </a:lnTo>
                <a:lnTo>
                  <a:pt x="213" y="181"/>
                </a:lnTo>
                <a:lnTo>
                  <a:pt x="213" y="217"/>
                </a:lnTo>
                <a:lnTo>
                  <a:pt x="128" y="18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037280" y="24433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0"/>
                </a:moveTo>
                <a:lnTo>
                  <a:pt x="213" y="283"/>
                </a:lnTo>
                <a:lnTo>
                  <a:pt x="213" y="247"/>
                </a:lnTo>
                <a:lnTo>
                  <a:pt x="213" y="283"/>
                </a:lnTo>
                <a:lnTo>
                  <a:pt x="84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7037280" y="2289240"/>
            <a:ext cx="76680" cy="141480"/>
          </a:xfrm>
          <a:custGeom>
            <a:avLst/>
            <a:gdLst/>
            <a:ahLst/>
            <a:rect l="0" t="0" r="r" b="b"/>
            <a:pathLst>
              <a:path fill="none" w="213" h="393">
                <a:moveTo>
                  <a:pt x="0" y="0"/>
                </a:moveTo>
                <a:lnTo>
                  <a:pt x="213" y="393"/>
                </a:lnTo>
                <a:lnTo>
                  <a:pt x="213" y="283"/>
                </a:lnTo>
                <a:lnTo>
                  <a:pt x="213" y="393"/>
                </a:lnTo>
                <a:lnTo>
                  <a:pt x="84" y="31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437600" y="6165720"/>
            <a:ext cx="60120" cy="0"/>
          </a:xfrm>
          <a:custGeom>
            <a:avLst/>
            <a:gdLst/>
            <a:ahLst/>
            <a:rect l="0" t="0" r="r" b="b"/>
            <a:pathLst>
              <a:path fill="none" w="167" h="0">
                <a:moveTo>
                  <a:pt x="0" y="0"/>
                </a:moveTo>
                <a:lnTo>
                  <a:pt x="167" y="0"/>
                </a:lnTo>
                <a:lnTo>
                  <a:pt x="127" y="0"/>
                </a:lnTo>
                <a:lnTo>
                  <a:pt x="167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437600" y="598788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72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437600" y="5821200"/>
            <a:ext cx="60840" cy="38520"/>
          </a:xfrm>
          <a:custGeom>
            <a:avLst/>
            <a:gdLst/>
            <a:ahLst/>
            <a:rect l="0" t="0" r="r" b="b"/>
            <a:pathLst>
              <a:path fill="none" w="169" h="107">
                <a:moveTo>
                  <a:pt x="0" y="107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437600" y="5641920"/>
            <a:ext cx="60840" cy="63720"/>
          </a:xfrm>
          <a:custGeom>
            <a:avLst/>
            <a:gdLst/>
            <a:ahLst/>
            <a:rect l="0" t="0" r="r" b="b"/>
            <a:pathLst>
              <a:path fill="none" w="169" h="177">
                <a:moveTo>
                  <a:pt x="0" y="177"/>
                </a:moveTo>
                <a:lnTo>
                  <a:pt x="169" y="0"/>
                </a:lnTo>
                <a:lnTo>
                  <a:pt x="129" y="35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437600" y="5475240"/>
            <a:ext cx="60840" cy="76680"/>
          </a:xfrm>
          <a:custGeom>
            <a:avLst/>
            <a:gdLst/>
            <a:ahLst/>
            <a:rect l="0" t="0" r="r" b="b"/>
            <a:pathLst>
              <a:path fill="none" w="169" h="213">
                <a:moveTo>
                  <a:pt x="0" y="213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7437600" y="5308560"/>
            <a:ext cx="60840" cy="78120"/>
          </a:xfrm>
          <a:custGeom>
            <a:avLst/>
            <a:gdLst/>
            <a:ahLst/>
            <a:rect l="0" t="0" r="r" b="b"/>
            <a:pathLst>
              <a:path fill="none" w="169" h="217">
                <a:moveTo>
                  <a:pt x="0" y="217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437600" y="514332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437600" y="497664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169" y="0"/>
                </a:lnTo>
                <a:lnTo>
                  <a:pt x="84" y="70"/>
                </a:lnTo>
                <a:lnTo>
                  <a:pt x="169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7437600" y="48229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7437600" y="465624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169" y="0"/>
                </a:lnTo>
                <a:lnTo>
                  <a:pt x="84" y="70"/>
                </a:lnTo>
                <a:lnTo>
                  <a:pt x="169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7437600" y="450216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169" y="0"/>
                </a:lnTo>
                <a:lnTo>
                  <a:pt x="84" y="74"/>
                </a:lnTo>
                <a:lnTo>
                  <a:pt x="169" y="0"/>
                </a:lnTo>
                <a:lnTo>
                  <a:pt x="213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7437600" y="434988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169" y="0"/>
                </a:lnTo>
                <a:lnTo>
                  <a:pt x="84" y="70"/>
                </a:lnTo>
                <a:lnTo>
                  <a:pt x="169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437600" y="419580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169" y="0"/>
                </a:lnTo>
                <a:lnTo>
                  <a:pt x="84" y="70"/>
                </a:lnTo>
                <a:lnTo>
                  <a:pt x="169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7437600" y="4054320"/>
            <a:ext cx="76680" cy="90720"/>
          </a:xfrm>
          <a:custGeom>
            <a:avLst/>
            <a:gdLst/>
            <a:ahLst/>
            <a:rect l="0" t="0" r="r" b="b"/>
            <a:pathLst>
              <a:path fill="none" w="213" h="252">
                <a:moveTo>
                  <a:pt x="0" y="252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7437600" y="390204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437600" y="3760920"/>
            <a:ext cx="60840" cy="76680"/>
          </a:xfrm>
          <a:custGeom>
            <a:avLst/>
            <a:gdLst/>
            <a:ahLst/>
            <a:rect l="0" t="0" r="r" b="b"/>
            <a:pathLst>
              <a:path fill="none" w="169" h="213">
                <a:moveTo>
                  <a:pt x="0" y="213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7437600" y="3619440"/>
            <a:ext cx="60840" cy="65520"/>
          </a:xfrm>
          <a:custGeom>
            <a:avLst/>
            <a:gdLst/>
            <a:ahLst/>
            <a:rect l="0" t="0" r="r" b="b"/>
            <a:pathLst>
              <a:path fill="none" w="169" h="182">
                <a:moveTo>
                  <a:pt x="0" y="182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437600" y="3479760"/>
            <a:ext cx="60840" cy="51120"/>
          </a:xfrm>
          <a:custGeom>
            <a:avLst/>
            <a:gdLst/>
            <a:ahLst/>
            <a:rect l="0" t="0" r="r" b="b"/>
            <a:pathLst>
              <a:path fill="none" w="169" h="142">
                <a:moveTo>
                  <a:pt x="0" y="142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7437600" y="3338640"/>
            <a:ext cx="60840" cy="38520"/>
          </a:xfrm>
          <a:custGeom>
            <a:avLst/>
            <a:gdLst/>
            <a:ahLst/>
            <a:rect l="0" t="0" r="r" b="b"/>
            <a:pathLst>
              <a:path fill="none" w="169" h="107">
                <a:moveTo>
                  <a:pt x="0" y="107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7437600" y="319716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72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437600" y="305748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72"/>
                </a:moveTo>
                <a:lnTo>
                  <a:pt x="169" y="72"/>
                </a:lnTo>
                <a:lnTo>
                  <a:pt x="129" y="0"/>
                </a:lnTo>
                <a:lnTo>
                  <a:pt x="169" y="72"/>
                </a:lnTo>
                <a:lnTo>
                  <a:pt x="12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437600" y="290340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0"/>
                </a:moveTo>
                <a:lnTo>
                  <a:pt x="169" y="72"/>
                </a:lnTo>
                <a:lnTo>
                  <a:pt x="169" y="72"/>
                </a:lnTo>
                <a:lnTo>
                  <a:pt x="169" y="72"/>
                </a:lnTo>
                <a:lnTo>
                  <a:pt x="12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7437600" y="2749680"/>
            <a:ext cx="60840" cy="51120"/>
          </a:xfrm>
          <a:custGeom>
            <a:avLst/>
            <a:gdLst/>
            <a:ahLst/>
            <a:rect l="0" t="0" r="r" b="b"/>
            <a:pathLst>
              <a:path fill="none" w="169" h="142">
                <a:moveTo>
                  <a:pt x="0" y="0"/>
                </a:moveTo>
                <a:lnTo>
                  <a:pt x="169" y="142"/>
                </a:lnTo>
                <a:lnTo>
                  <a:pt x="169" y="106"/>
                </a:lnTo>
                <a:lnTo>
                  <a:pt x="169" y="142"/>
                </a:lnTo>
                <a:lnTo>
                  <a:pt x="129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437600" y="2595600"/>
            <a:ext cx="60840" cy="78120"/>
          </a:xfrm>
          <a:custGeom>
            <a:avLst/>
            <a:gdLst/>
            <a:ahLst/>
            <a:rect l="0" t="0" r="r" b="b"/>
            <a:pathLst>
              <a:path fill="none" w="169" h="217">
                <a:moveTo>
                  <a:pt x="0" y="0"/>
                </a:moveTo>
                <a:lnTo>
                  <a:pt x="169" y="217"/>
                </a:lnTo>
                <a:lnTo>
                  <a:pt x="169" y="181"/>
                </a:lnTo>
                <a:lnTo>
                  <a:pt x="169" y="217"/>
                </a:lnTo>
                <a:lnTo>
                  <a:pt x="84" y="18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7437600" y="24433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0"/>
                </a:moveTo>
                <a:lnTo>
                  <a:pt x="169" y="283"/>
                </a:lnTo>
                <a:lnTo>
                  <a:pt x="213" y="247"/>
                </a:lnTo>
                <a:lnTo>
                  <a:pt x="169" y="283"/>
                </a:lnTo>
                <a:lnTo>
                  <a:pt x="84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437600" y="2289240"/>
            <a:ext cx="76680" cy="141480"/>
          </a:xfrm>
          <a:custGeom>
            <a:avLst/>
            <a:gdLst/>
            <a:ahLst/>
            <a:rect l="0" t="0" r="r" b="b"/>
            <a:pathLst>
              <a:path fill="none" w="213" h="393">
                <a:moveTo>
                  <a:pt x="0" y="0"/>
                </a:moveTo>
                <a:lnTo>
                  <a:pt x="169" y="393"/>
                </a:lnTo>
                <a:lnTo>
                  <a:pt x="213" y="283"/>
                </a:lnTo>
                <a:lnTo>
                  <a:pt x="169" y="393"/>
                </a:lnTo>
                <a:lnTo>
                  <a:pt x="39" y="31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821720" y="6165720"/>
            <a:ext cx="77760" cy="0"/>
          </a:xfrm>
          <a:custGeom>
            <a:avLst/>
            <a:gdLst/>
            <a:ahLst/>
            <a:rect l="0" t="0" r="r" b="b"/>
            <a:pathLst>
              <a:path fill="none" w="216" h="0">
                <a:moveTo>
                  <a:pt x="0" y="0"/>
                </a:moveTo>
                <a:lnTo>
                  <a:pt x="216" y="0"/>
                </a:lnTo>
                <a:lnTo>
                  <a:pt x="171" y="0"/>
                </a:lnTo>
                <a:lnTo>
                  <a:pt x="216" y="0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7821720" y="598788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0"/>
                </a:lnTo>
                <a:lnTo>
                  <a:pt x="172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7821720" y="5821200"/>
            <a:ext cx="78120" cy="38520"/>
          </a:xfrm>
          <a:custGeom>
            <a:avLst/>
            <a:gdLst/>
            <a:ahLst/>
            <a:rect l="0" t="0" r="r" b="b"/>
            <a:pathLst>
              <a:path fill="none" w="217" h="107">
                <a:moveTo>
                  <a:pt x="0" y="107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7821720" y="5641920"/>
            <a:ext cx="78120" cy="63720"/>
          </a:xfrm>
          <a:custGeom>
            <a:avLst/>
            <a:gdLst/>
            <a:ahLst/>
            <a:rect l="0" t="0" r="r" b="b"/>
            <a:pathLst>
              <a:path fill="none" w="217" h="177">
                <a:moveTo>
                  <a:pt x="0" y="177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7821720" y="547524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213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821720" y="5308560"/>
            <a:ext cx="78120" cy="78120"/>
          </a:xfrm>
          <a:custGeom>
            <a:avLst/>
            <a:gdLst/>
            <a:ahLst/>
            <a:rect l="0" t="0" r="r" b="b"/>
            <a:pathLst>
              <a:path fill="none" w="217" h="217">
                <a:moveTo>
                  <a:pt x="0" y="217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821720" y="514332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821720" y="497664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217" y="0"/>
                </a:lnTo>
                <a:lnTo>
                  <a:pt x="12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821720" y="482292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7821720" y="465624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12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7821720" y="450216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128" y="74"/>
                </a:lnTo>
                <a:lnTo>
                  <a:pt x="217" y="0"/>
                </a:lnTo>
                <a:lnTo>
                  <a:pt x="217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7821720" y="4349880"/>
            <a:ext cx="78120" cy="114840"/>
          </a:xfrm>
          <a:custGeom>
            <a:avLst/>
            <a:gdLst/>
            <a:ahLst/>
            <a:rect l="0" t="0" r="r" b="b"/>
            <a:pathLst>
              <a:path fill="none" w="217" h="319">
                <a:moveTo>
                  <a:pt x="0" y="319"/>
                </a:moveTo>
                <a:lnTo>
                  <a:pt x="217" y="0"/>
                </a:lnTo>
                <a:lnTo>
                  <a:pt x="12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7821720" y="419580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12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7821720" y="4054320"/>
            <a:ext cx="78120" cy="90720"/>
          </a:xfrm>
          <a:custGeom>
            <a:avLst/>
            <a:gdLst/>
            <a:ahLst/>
            <a:rect l="0" t="0" r="r" b="b"/>
            <a:pathLst>
              <a:path fill="none" w="217" h="252">
                <a:moveTo>
                  <a:pt x="0" y="252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7821720" y="390204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7821720" y="376092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213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821720" y="3619440"/>
            <a:ext cx="78120" cy="65520"/>
          </a:xfrm>
          <a:custGeom>
            <a:avLst/>
            <a:gdLst/>
            <a:ahLst/>
            <a:rect l="0" t="0" r="r" b="b"/>
            <a:pathLst>
              <a:path fill="none" w="217" h="182">
                <a:moveTo>
                  <a:pt x="0" y="182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7821720" y="347976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142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821720" y="3338640"/>
            <a:ext cx="78120" cy="38520"/>
          </a:xfrm>
          <a:custGeom>
            <a:avLst/>
            <a:gdLst/>
            <a:ahLst/>
            <a:rect l="0" t="0" r="r" b="b"/>
            <a:pathLst>
              <a:path fill="none" w="217" h="107">
                <a:moveTo>
                  <a:pt x="0" y="107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821720" y="319716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0"/>
                </a:lnTo>
                <a:lnTo>
                  <a:pt x="172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821720" y="305748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72"/>
                </a:lnTo>
                <a:lnTo>
                  <a:pt x="172" y="0"/>
                </a:lnTo>
                <a:lnTo>
                  <a:pt x="217" y="72"/>
                </a:lnTo>
                <a:lnTo>
                  <a:pt x="17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7821720" y="290340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0"/>
                </a:moveTo>
                <a:lnTo>
                  <a:pt x="217" y="72"/>
                </a:lnTo>
                <a:lnTo>
                  <a:pt x="172" y="72"/>
                </a:lnTo>
                <a:lnTo>
                  <a:pt x="217" y="72"/>
                </a:lnTo>
                <a:lnTo>
                  <a:pt x="17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821720" y="274968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0"/>
                </a:moveTo>
                <a:lnTo>
                  <a:pt x="217" y="142"/>
                </a:lnTo>
                <a:lnTo>
                  <a:pt x="217" y="106"/>
                </a:lnTo>
                <a:lnTo>
                  <a:pt x="217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7821720" y="2595600"/>
            <a:ext cx="78120" cy="78120"/>
          </a:xfrm>
          <a:custGeom>
            <a:avLst/>
            <a:gdLst/>
            <a:ahLst/>
            <a:rect l="0" t="0" r="r" b="b"/>
            <a:pathLst>
              <a:path fill="none" w="217" h="217">
                <a:moveTo>
                  <a:pt x="0" y="0"/>
                </a:moveTo>
                <a:lnTo>
                  <a:pt x="217" y="217"/>
                </a:lnTo>
                <a:lnTo>
                  <a:pt x="217" y="181"/>
                </a:lnTo>
                <a:lnTo>
                  <a:pt x="217" y="217"/>
                </a:lnTo>
                <a:lnTo>
                  <a:pt x="128" y="18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821720" y="244332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0"/>
                </a:moveTo>
                <a:lnTo>
                  <a:pt x="217" y="283"/>
                </a:lnTo>
                <a:lnTo>
                  <a:pt x="217" y="247"/>
                </a:lnTo>
                <a:lnTo>
                  <a:pt x="217" y="283"/>
                </a:lnTo>
                <a:lnTo>
                  <a:pt x="128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821720" y="2289240"/>
            <a:ext cx="92520" cy="141480"/>
          </a:xfrm>
          <a:custGeom>
            <a:avLst/>
            <a:gdLst/>
            <a:ahLst/>
            <a:rect l="0" t="0" r="r" b="b"/>
            <a:pathLst>
              <a:path fill="none" w="257" h="393">
                <a:moveTo>
                  <a:pt x="0" y="0"/>
                </a:moveTo>
                <a:lnTo>
                  <a:pt x="218" y="393"/>
                </a:lnTo>
                <a:lnTo>
                  <a:pt x="257" y="283"/>
                </a:lnTo>
                <a:lnTo>
                  <a:pt x="218" y="393"/>
                </a:lnTo>
                <a:lnTo>
                  <a:pt x="84" y="31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8221680" y="6165720"/>
            <a:ext cx="77760" cy="0"/>
          </a:xfrm>
          <a:custGeom>
            <a:avLst/>
            <a:gdLst/>
            <a:ahLst/>
            <a:rect l="0" t="0" r="r" b="b"/>
            <a:pathLst>
              <a:path fill="none" w="216" h="0">
                <a:moveTo>
                  <a:pt x="0" y="0"/>
                </a:moveTo>
                <a:lnTo>
                  <a:pt x="216" y="0"/>
                </a:lnTo>
                <a:lnTo>
                  <a:pt x="171" y="0"/>
                </a:lnTo>
                <a:lnTo>
                  <a:pt x="216" y="0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221680" y="598788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8221680" y="5821200"/>
            <a:ext cx="78120" cy="38520"/>
          </a:xfrm>
          <a:custGeom>
            <a:avLst/>
            <a:gdLst/>
            <a:ahLst/>
            <a:rect l="0" t="0" r="r" b="b"/>
            <a:pathLst>
              <a:path fill="none" w="217" h="107">
                <a:moveTo>
                  <a:pt x="0" y="107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8221680" y="5641920"/>
            <a:ext cx="78120" cy="63720"/>
          </a:xfrm>
          <a:custGeom>
            <a:avLst/>
            <a:gdLst/>
            <a:ahLst/>
            <a:rect l="0" t="0" r="r" b="b"/>
            <a:pathLst>
              <a:path fill="none" w="217" h="177">
                <a:moveTo>
                  <a:pt x="0" y="177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1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8221680" y="547524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213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8221680" y="5308560"/>
            <a:ext cx="78120" cy="78120"/>
          </a:xfrm>
          <a:custGeom>
            <a:avLst/>
            <a:gdLst/>
            <a:ahLst/>
            <a:rect l="0" t="0" r="r" b="b"/>
            <a:pathLst>
              <a:path fill="none" w="217" h="217">
                <a:moveTo>
                  <a:pt x="0" y="217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8221680" y="514332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217" y="0"/>
                </a:lnTo>
                <a:lnTo>
                  <a:pt x="88" y="35"/>
                </a:lnTo>
                <a:lnTo>
                  <a:pt x="217" y="0"/>
                </a:lnTo>
                <a:lnTo>
                  <a:pt x="21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8221680" y="497664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8221680" y="482292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217" y="0"/>
                </a:lnTo>
                <a:lnTo>
                  <a:pt x="88" y="35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8221680" y="465624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8221680" y="450216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88" y="74"/>
                </a:lnTo>
                <a:lnTo>
                  <a:pt x="217" y="0"/>
                </a:lnTo>
                <a:lnTo>
                  <a:pt x="217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8221680" y="4349880"/>
            <a:ext cx="78120" cy="114840"/>
          </a:xfrm>
          <a:custGeom>
            <a:avLst/>
            <a:gdLst/>
            <a:ahLst/>
            <a:rect l="0" t="0" r="r" b="b"/>
            <a:pathLst>
              <a:path fill="none" w="217" h="319">
                <a:moveTo>
                  <a:pt x="0" y="319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8221680" y="419580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8221680" y="4054320"/>
            <a:ext cx="78120" cy="90720"/>
          </a:xfrm>
          <a:custGeom>
            <a:avLst/>
            <a:gdLst/>
            <a:ahLst/>
            <a:rect l="0" t="0" r="r" b="b"/>
            <a:pathLst>
              <a:path fill="none" w="217" h="252">
                <a:moveTo>
                  <a:pt x="0" y="252"/>
                </a:moveTo>
                <a:lnTo>
                  <a:pt x="217" y="0"/>
                </a:lnTo>
                <a:lnTo>
                  <a:pt x="8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8221680" y="390204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217" y="0"/>
                </a:lnTo>
                <a:lnTo>
                  <a:pt x="88" y="35"/>
                </a:lnTo>
                <a:lnTo>
                  <a:pt x="217" y="0"/>
                </a:lnTo>
                <a:lnTo>
                  <a:pt x="21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8221680" y="376092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213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8221680" y="3619440"/>
            <a:ext cx="78120" cy="65520"/>
          </a:xfrm>
          <a:custGeom>
            <a:avLst/>
            <a:gdLst/>
            <a:ahLst/>
            <a:rect l="0" t="0" r="r" b="b"/>
            <a:pathLst>
              <a:path fill="none" w="217" h="182">
                <a:moveTo>
                  <a:pt x="0" y="182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8221680" y="347976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142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8221680" y="3338640"/>
            <a:ext cx="78120" cy="38520"/>
          </a:xfrm>
          <a:custGeom>
            <a:avLst/>
            <a:gdLst/>
            <a:ahLst/>
            <a:rect l="0" t="0" r="r" b="b"/>
            <a:pathLst>
              <a:path fill="none" w="217" h="107">
                <a:moveTo>
                  <a:pt x="0" y="107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8221680" y="319716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8221680" y="305748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72"/>
                </a:lnTo>
                <a:lnTo>
                  <a:pt x="172" y="0"/>
                </a:lnTo>
                <a:lnTo>
                  <a:pt x="217" y="72"/>
                </a:lnTo>
                <a:lnTo>
                  <a:pt x="17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8221680" y="290340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0"/>
                </a:moveTo>
                <a:lnTo>
                  <a:pt x="217" y="72"/>
                </a:lnTo>
                <a:lnTo>
                  <a:pt x="172" y="72"/>
                </a:lnTo>
                <a:lnTo>
                  <a:pt x="217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8221680" y="274968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0"/>
                </a:moveTo>
                <a:lnTo>
                  <a:pt x="217" y="142"/>
                </a:lnTo>
                <a:lnTo>
                  <a:pt x="172" y="106"/>
                </a:lnTo>
                <a:lnTo>
                  <a:pt x="217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8221680" y="2595600"/>
            <a:ext cx="78120" cy="78120"/>
          </a:xfrm>
          <a:custGeom>
            <a:avLst/>
            <a:gdLst/>
            <a:ahLst/>
            <a:rect l="0" t="0" r="r" b="b"/>
            <a:pathLst>
              <a:path fill="none" w="217" h="217">
                <a:moveTo>
                  <a:pt x="0" y="0"/>
                </a:moveTo>
                <a:lnTo>
                  <a:pt x="217" y="217"/>
                </a:lnTo>
                <a:lnTo>
                  <a:pt x="217" y="181"/>
                </a:lnTo>
                <a:lnTo>
                  <a:pt x="217" y="217"/>
                </a:lnTo>
                <a:lnTo>
                  <a:pt x="128" y="18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8221680" y="244332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0"/>
                </a:moveTo>
                <a:lnTo>
                  <a:pt x="217" y="283"/>
                </a:lnTo>
                <a:lnTo>
                  <a:pt x="217" y="247"/>
                </a:lnTo>
                <a:lnTo>
                  <a:pt x="217" y="283"/>
                </a:lnTo>
                <a:lnTo>
                  <a:pt x="88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8221680" y="2289240"/>
            <a:ext cx="78120" cy="141480"/>
          </a:xfrm>
          <a:custGeom>
            <a:avLst/>
            <a:gdLst/>
            <a:ahLst/>
            <a:rect l="0" t="0" r="r" b="b"/>
            <a:pathLst>
              <a:path fill="none" w="217" h="393">
                <a:moveTo>
                  <a:pt x="0" y="0"/>
                </a:moveTo>
                <a:lnTo>
                  <a:pt x="217" y="393"/>
                </a:lnTo>
                <a:lnTo>
                  <a:pt x="217" y="283"/>
                </a:lnTo>
                <a:lnTo>
                  <a:pt x="217" y="393"/>
                </a:lnTo>
                <a:lnTo>
                  <a:pt x="88" y="31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619360" y="1905120"/>
            <a:ext cx="3770640" cy="1165680"/>
          </a:xfrm>
          <a:custGeom>
            <a:avLst/>
            <a:gdLst/>
            <a:ahLst/>
            <a:rect l="0" t="0" r="r" b="b"/>
            <a:pathLst>
              <a:path fill="none" w="10474" h="3238">
                <a:moveTo>
                  <a:pt x="0" y="0"/>
                </a:moveTo>
                <a:lnTo>
                  <a:pt x="83" y="282"/>
                </a:lnTo>
                <a:lnTo>
                  <a:pt x="255" y="745"/>
                </a:lnTo>
                <a:lnTo>
                  <a:pt x="427" y="1138"/>
                </a:lnTo>
                <a:lnTo>
                  <a:pt x="599" y="1460"/>
                </a:lnTo>
                <a:lnTo>
                  <a:pt x="767" y="1707"/>
                </a:lnTo>
                <a:lnTo>
                  <a:pt x="895" y="1919"/>
                </a:lnTo>
                <a:lnTo>
                  <a:pt x="1067" y="2100"/>
                </a:lnTo>
                <a:lnTo>
                  <a:pt x="1239" y="2241"/>
                </a:lnTo>
                <a:lnTo>
                  <a:pt x="1411" y="2382"/>
                </a:lnTo>
                <a:lnTo>
                  <a:pt x="1583" y="2489"/>
                </a:lnTo>
                <a:lnTo>
                  <a:pt x="1750" y="2594"/>
                </a:lnTo>
                <a:lnTo>
                  <a:pt x="1878" y="2669"/>
                </a:lnTo>
                <a:lnTo>
                  <a:pt x="2050" y="2740"/>
                </a:lnTo>
                <a:lnTo>
                  <a:pt x="2222" y="2810"/>
                </a:lnTo>
                <a:lnTo>
                  <a:pt x="2394" y="2846"/>
                </a:lnTo>
                <a:lnTo>
                  <a:pt x="2566" y="2916"/>
                </a:lnTo>
                <a:lnTo>
                  <a:pt x="2734" y="2952"/>
                </a:lnTo>
                <a:lnTo>
                  <a:pt x="2906" y="2987"/>
                </a:lnTo>
                <a:lnTo>
                  <a:pt x="3033" y="3022"/>
                </a:lnTo>
                <a:lnTo>
                  <a:pt x="3205" y="3022"/>
                </a:lnTo>
                <a:lnTo>
                  <a:pt x="3377" y="3057"/>
                </a:lnTo>
                <a:lnTo>
                  <a:pt x="3549" y="3057"/>
                </a:lnTo>
                <a:lnTo>
                  <a:pt x="3717" y="3093"/>
                </a:lnTo>
                <a:lnTo>
                  <a:pt x="3889" y="3093"/>
                </a:lnTo>
                <a:lnTo>
                  <a:pt x="4017" y="3128"/>
                </a:lnTo>
                <a:lnTo>
                  <a:pt x="4189" y="3128"/>
                </a:lnTo>
                <a:lnTo>
                  <a:pt x="4361" y="3128"/>
                </a:lnTo>
                <a:lnTo>
                  <a:pt x="4533" y="3163"/>
                </a:lnTo>
                <a:lnTo>
                  <a:pt x="4700" y="3163"/>
                </a:lnTo>
                <a:lnTo>
                  <a:pt x="4872" y="3163"/>
                </a:lnTo>
                <a:lnTo>
                  <a:pt x="5044" y="3163"/>
                </a:lnTo>
                <a:lnTo>
                  <a:pt x="5172" y="3163"/>
                </a:lnTo>
                <a:lnTo>
                  <a:pt x="5345" y="3203"/>
                </a:lnTo>
                <a:lnTo>
                  <a:pt x="5517" y="3203"/>
                </a:lnTo>
                <a:lnTo>
                  <a:pt x="5685" y="3203"/>
                </a:lnTo>
                <a:lnTo>
                  <a:pt x="5857" y="3203"/>
                </a:lnTo>
                <a:lnTo>
                  <a:pt x="6029" y="3203"/>
                </a:lnTo>
                <a:lnTo>
                  <a:pt x="6201" y="3203"/>
                </a:lnTo>
                <a:lnTo>
                  <a:pt x="6328" y="3203"/>
                </a:lnTo>
                <a:lnTo>
                  <a:pt x="6500" y="3203"/>
                </a:lnTo>
                <a:lnTo>
                  <a:pt x="6668" y="3203"/>
                </a:lnTo>
                <a:lnTo>
                  <a:pt x="6840" y="3203"/>
                </a:lnTo>
                <a:lnTo>
                  <a:pt x="7012" y="3203"/>
                </a:lnTo>
                <a:lnTo>
                  <a:pt x="7184" y="3203"/>
                </a:lnTo>
                <a:lnTo>
                  <a:pt x="7356" y="3203"/>
                </a:lnTo>
                <a:lnTo>
                  <a:pt x="7484" y="3203"/>
                </a:lnTo>
                <a:lnTo>
                  <a:pt x="7651" y="3203"/>
                </a:lnTo>
                <a:lnTo>
                  <a:pt x="7823" y="3203"/>
                </a:lnTo>
                <a:lnTo>
                  <a:pt x="7995" y="3203"/>
                </a:lnTo>
                <a:lnTo>
                  <a:pt x="8167" y="3203"/>
                </a:lnTo>
                <a:lnTo>
                  <a:pt x="8339" y="3238"/>
                </a:lnTo>
                <a:lnTo>
                  <a:pt x="8467" y="3238"/>
                </a:lnTo>
                <a:lnTo>
                  <a:pt x="8635" y="3238"/>
                </a:lnTo>
                <a:lnTo>
                  <a:pt x="8807" y="3238"/>
                </a:lnTo>
                <a:lnTo>
                  <a:pt x="8979" y="3238"/>
                </a:lnTo>
                <a:lnTo>
                  <a:pt x="9151" y="3238"/>
                </a:lnTo>
                <a:lnTo>
                  <a:pt x="9323" y="3238"/>
                </a:lnTo>
                <a:lnTo>
                  <a:pt x="9490" y="3238"/>
                </a:lnTo>
                <a:lnTo>
                  <a:pt x="9618" y="3238"/>
                </a:lnTo>
                <a:lnTo>
                  <a:pt x="9790" y="3238"/>
                </a:lnTo>
                <a:lnTo>
                  <a:pt x="9962" y="3238"/>
                </a:lnTo>
                <a:lnTo>
                  <a:pt x="10134" y="3238"/>
                </a:lnTo>
                <a:lnTo>
                  <a:pt x="10306" y="3238"/>
                </a:lnTo>
                <a:lnTo>
                  <a:pt x="10474" y="323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389640" y="3070080"/>
            <a:ext cx="1831680" cy="0"/>
          </a:xfrm>
          <a:custGeom>
            <a:avLst/>
            <a:gdLst/>
            <a:ahLst/>
            <a:rect l="0" t="0" r="r" b="b"/>
            <a:pathLst>
              <a:path fill="none" w="5088" h="0">
                <a:moveTo>
                  <a:pt x="0" y="0"/>
                </a:moveTo>
                <a:lnTo>
                  <a:pt x="171" y="0"/>
                </a:lnTo>
                <a:lnTo>
                  <a:pt x="299" y="0"/>
                </a:lnTo>
                <a:lnTo>
                  <a:pt x="471" y="0"/>
                </a:lnTo>
                <a:lnTo>
                  <a:pt x="643" y="0"/>
                </a:lnTo>
                <a:lnTo>
                  <a:pt x="815" y="0"/>
                </a:lnTo>
                <a:lnTo>
                  <a:pt x="983" y="0"/>
                </a:lnTo>
                <a:lnTo>
                  <a:pt x="1155" y="0"/>
                </a:lnTo>
                <a:lnTo>
                  <a:pt x="1283" y="0"/>
                </a:lnTo>
                <a:lnTo>
                  <a:pt x="1455" y="0"/>
                </a:lnTo>
                <a:lnTo>
                  <a:pt x="1627" y="0"/>
                </a:lnTo>
                <a:lnTo>
                  <a:pt x="1799" y="0"/>
                </a:lnTo>
                <a:lnTo>
                  <a:pt x="1966" y="0"/>
                </a:lnTo>
                <a:lnTo>
                  <a:pt x="2138" y="0"/>
                </a:lnTo>
                <a:lnTo>
                  <a:pt x="2310" y="0"/>
                </a:lnTo>
                <a:lnTo>
                  <a:pt x="2438" y="0"/>
                </a:lnTo>
                <a:lnTo>
                  <a:pt x="2610" y="0"/>
                </a:lnTo>
                <a:lnTo>
                  <a:pt x="2782" y="0"/>
                </a:lnTo>
                <a:lnTo>
                  <a:pt x="2950" y="0"/>
                </a:lnTo>
                <a:lnTo>
                  <a:pt x="3122" y="0"/>
                </a:lnTo>
                <a:lnTo>
                  <a:pt x="3294" y="0"/>
                </a:lnTo>
                <a:lnTo>
                  <a:pt x="3421" y="0"/>
                </a:lnTo>
                <a:lnTo>
                  <a:pt x="3593" y="0"/>
                </a:lnTo>
                <a:lnTo>
                  <a:pt x="3765" y="0"/>
                </a:lnTo>
                <a:lnTo>
                  <a:pt x="3933" y="0"/>
                </a:lnTo>
                <a:lnTo>
                  <a:pt x="4105" y="0"/>
                </a:lnTo>
                <a:lnTo>
                  <a:pt x="4277" y="0"/>
                </a:lnTo>
                <a:lnTo>
                  <a:pt x="4449" y="0"/>
                </a:lnTo>
                <a:lnTo>
                  <a:pt x="4577" y="0"/>
                </a:lnTo>
                <a:lnTo>
                  <a:pt x="4749" y="0"/>
                </a:lnTo>
                <a:lnTo>
                  <a:pt x="4916" y="0"/>
                </a:lnTo>
                <a:lnTo>
                  <a:pt x="508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295360" y="2289240"/>
            <a:ext cx="3786480" cy="781560"/>
          </a:xfrm>
          <a:custGeom>
            <a:avLst/>
            <a:gdLst/>
            <a:ahLst/>
            <a:rect l="0" t="0" r="r" b="b"/>
            <a:pathLst>
              <a:path fill="none" w="10518" h="2171">
                <a:moveTo>
                  <a:pt x="0" y="0"/>
                </a:moveTo>
                <a:lnTo>
                  <a:pt x="171" y="317"/>
                </a:lnTo>
                <a:lnTo>
                  <a:pt x="343" y="605"/>
                </a:lnTo>
                <a:lnTo>
                  <a:pt x="515" y="816"/>
                </a:lnTo>
                <a:lnTo>
                  <a:pt x="643" y="997"/>
                </a:lnTo>
                <a:lnTo>
                  <a:pt x="811" y="1138"/>
                </a:lnTo>
                <a:lnTo>
                  <a:pt x="983" y="1279"/>
                </a:lnTo>
                <a:lnTo>
                  <a:pt x="1155" y="1385"/>
                </a:lnTo>
                <a:lnTo>
                  <a:pt x="1327" y="1491"/>
                </a:lnTo>
                <a:lnTo>
                  <a:pt x="1499" y="1601"/>
                </a:lnTo>
                <a:lnTo>
                  <a:pt x="1666" y="1673"/>
                </a:lnTo>
                <a:lnTo>
                  <a:pt x="1794" y="1708"/>
                </a:lnTo>
                <a:lnTo>
                  <a:pt x="1966" y="1779"/>
                </a:lnTo>
                <a:lnTo>
                  <a:pt x="2138" y="1814"/>
                </a:lnTo>
                <a:lnTo>
                  <a:pt x="2310" y="1849"/>
                </a:lnTo>
                <a:lnTo>
                  <a:pt x="2482" y="1884"/>
                </a:lnTo>
                <a:lnTo>
                  <a:pt x="2650" y="1920"/>
                </a:lnTo>
                <a:lnTo>
                  <a:pt x="2778" y="1955"/>
                </a:lnTo>
                <a:lnTo>
                  <a:pt x="2950" y="1990"/>
                </a:lnTo>
                <a:lnTo>
                  <a:pt x="3122" y="1990"/>
                </a:lnTo>
                <a:lnTo>
                  <a:pt x="3294" y="2026"/>
                </a:lnTo>
                <a:lnTo>
                  <a:pt x="3466" y="2026"/>
                </a:lnTo>
                <a:lnTo>
                  <a:pt x="3633" y="2061"/>
                </a:lnTo>
                <a:lnTo>
                  <a:pt x="3805" y="2061"/>
                </a:lnTo>
                <a:lnTo>
                  <a:pt x="3933" y="2061"/>
                </a:lnTo>
                <a:lnTo>
                  <a:pt x="4105" y="2096"/>
                </a:lnTo>
                <a:lnTo>
                  <a:pt x="4277" y="2096"/>
                </a:lnTo>
                <a:lnTo>
                  <a:pt x="4449" y="2096"/>
                </a:lnTo>
                <a:lnTo>
                  <a:pt x="4616" y="2096"/>
                </a:lnTo>
                <a:lnTo>
                  <a:pt x="4788" y="2096"/>
                </a:lnTo>
                <a:lnTo>
                  <a:pt x="4916" y="2136"/>
                </a:lnTo>
                <a:lnTo>
                  <a:pt x="5088" y="2136"/>
                </a:lnTo>
                <a:lnTo>
                  <a:pt x="5261" y="2136"/>
                </a:lnTo>
                <a:lnTo>
                  <a:pt x="5433" y="2136"/>
                </a:lnTo>
                <a:lnTo>
                  <a:pt x="5601" y="2136"/>
                </a:lnTo>
                <a:lnTo>
                  <a:pt x="5773" y="2136"/>
                </a:lnTo>
                <a:lnTo>
                  <a:pt x="5945" y="2136"/>
                </a:lnTo>
                <a:lnTo>
                  <a:pt x="6073" y="2136"/>
                </a:lnTo>
                <a:lnTo>
                  <a:pt x="6245" y="2136"/>
                </a:lnTo>
                <a:lnTo>
                  <a:pt x="6417" y="2136"/>
                </a:lnTo>
                <a:lnTo>
                  <a:pt x="6584" y="2136"/>
                </a:lnTo>
                <a:lnTo>
                  <a:pt x="6756" y="2136"/>
                </a:lnTo>
                <a:lnTo>
                  <a:pt x="6928" y="2136"/>
                </a:lnTo>
                <a:lnTo>
                  <a:pt x="7100" y="2136"/>
                </a:lnTo>
                <a:lnTo>
                  <a:pt x="7228" y="2136"/>
                </a:lnTo>
                <a:lnTo>
                  <a:pt x="7400" y="2136"/>
                </a:lnTo>
                <a:lnTo>
                  <a:pt x="7568" y="2136"/>
                </a:lnTo>
                <a:lnTo>
                  <a:pt x="7740" y="2136"/>
                </a:lnTo>
                <a:lnTo>
                  <a:pt x="7912" y="2136"/>
                </a:lnTo>
                <a:lnTo>
                  <a:pt x="8084" y="2171"/>
                </a:lnTo>
                <a:lnTo>
                  <a:pt x="8256" y="2171"/>
                </a:lnTo>
                <a:lnTo>
                  <a:pt x="8383" y="2171"/>
                </a:lnTo>
                <a:lnTo>
                  <a:pt x="8551" y="2171"/>
                </a:lnTo>
                <a:lnTo>
                  <a:pt x="8723" y="2171"/>
                </a:lnTo>
                <a:lnTo>
                  <a:pt x="8895" y="2171"/>
                </a:lnTo>
                <a:lnTo>
                  <a:pt x="9067" y="2171"/>
                </a:lnTo>
                <a:lnTo>
                  <a:pt x="9239" y="2171"/>
                </a:lnTo>
                <a:lnTo>
                  <a:pt x="9367" y="2171"/>
                </a:lnTo>
                <a:lnTo>
                  <a:pt x="9534" y="2171"/>
                </a:lnTo>
                <a:lnTo>
                  <a:pt x="9706" y="2171"/>
                </a:lnTo>
                <a:lnTo>
                  <a:pt x="9878" y="2171"/>
                </a:lnTo>
                <a:lnTo>
                  <a:pt x="10050" y="2171"/>
                </a:lnTo>
                <a:lnTo>
                  <a:pt x="10222" y="2171"/>
                </a:lnTo>
                <a:lnTo>
                  <a:pt x="10390" y="2171"/>
                </a:lnTo>
                <a:lnTo>
                  <a:pt x="10518" y="21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081840" y="3070080"/>
            <a:ext cx="2139840" cy="0"/>
          </a:xfrm>
          <a:custGeom>
            <a:avLst/>
            <a:gdLst/>
            <a:ahLst/>
            <a:rect l="0" t="0" r="r" b="b"/>
            <a:pathLst>
              <a:path fill="none" w="5944" h="0">
                <a:moveTo>
                  <a:pt x="0" y="0"/>
                </a:moveTo>
                <a:lnTo>
                  <a:pt x="171" y="0"/>
                </a:lnTo>
                <a:lnTo>
                  <a:pt x="343" y="0"/>
                </a:lnTo>
                <a:lnTo>
                  <a:pt x="515" y="0"/>
                </a:lnTo>
                <a:lnTo>
                  <a:pt x="687" y="0"/>
                </a:lnTo>
                <a:lnTo>
                  <a:pt x="855" y="0"/>
                </a:lnTo>
                <a:lnTo>
                  <a:pt x="1027" y="0"/>
                </a:lnTo>
                <a:lnTo>
                  <a:pt x="1155" y="0"/>
                </a:lnTo>
                <a:lnTo>
                  <a:pt x="1327" y="0"/>
                </a:lnTo>
                <a:lnTo>
                  <a:pt x="1499" y="0"/>
                </a:lnTo>
                <a:lnTo>
                  <a:pt x="1671" y="0"/>
                </a:lnTo>
                <a:lnTo>
                  <a:pt x="1838" y="0"/>
                </a:lnTo>
                <a:lnTo>
                  <a:pt x="2010" y="0"/>
                </a:lnTo>
                <a:lnTo>
                  <a:pt x="2138" y="0"/>
                </a:lnTo>
                <a:lnTo>
                  <a:pt x="2310" y="0"/>
                </a:lnTo>
                <a:lnTo>
                  <a:pt x="2482" y="0"/>
                </a:lnTo>
                <a:lnTo>
                  <a:pt x="2654" y="0"/>
                </a:lnTo>
                <a:lnTo>
                  <a:pt x="2822" y="0"/>
                </a:lnTo>
                <a:lnTo>
                  <a:pt x="2994" y="0"/>
                </a:lnTo>
                <a:lnTo>
                  <a:pt x="3166" y="0"/>
                </a:lnTo>
                <a:lnTo>
                  <a:pt x="3294" y="0"/>
                </a:lnTo>
                <a:lnTo>
                  <a:pt x="3466" y="0"/>
                </a:lnTo>
                <a:lnTo>
                  <a:pt x="3638" y="0"/>
                </a:lnTo>
                <a:lnTo>
                  <a:pt x="3805" y="0"/>
                </a:lnTo>
                <a:lnTo>
                  <a:pt x="3977" y="0"/>
                </a:lnTo>
                <a:lnTo>
                  <a:pt x="4149" y="0"/>
                </a:lnTo>
                <a:lnTo>
                  <a:pt x="4277" y="0"/>
                </a:lnTo>
                <a:lnTo>
                  <a:pt x="4449" y="0"/>
                </a:lnTo>
                <a:lnTo>
                  <a:pt x="4621" y="0"/>
                </a:lnTo>
                <a:lnTo>
                  <a:pt x="4788" y="0"/>
                </a:lnTo>
                <a:lnTo>
                  <a:pt x="4960" y="0"/>
                </a:lnTo>
                <a:lnTo>
                  <a:pt x="5132" y="0"/>
                </a:lnTo>
                <a:lnTo>
                  <a:pt x="5304" y="0"/>
                </a:lnTo>
                <a:lnTo>
                  <a:pt x="5432" y="0"/>
                </a:lnTo>
                <a:lnTo>
                  <a:pt x="5604" y="0"/>
                </a:lnTo>
                <a:lnTo>
                  <a:pt x="5772" y="0"/>
                </a:lnTo>
                <a:lnTo>
                  <a:pt x="59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295360" y="3070080"/>
            <a:ext cx="3786480" cy="1163880"/>
          </a:xfrm>
          <a:custGeom>
            <a:avLst/>
            <a:gdLst/>
            <a:ahLst/>
            <a:rect l="0" t="0" r="r" b="b"/>
            <a:pathLst>
              <a:path fill="none" w="10518" h="3233">
                <a:moveTo>
                  <a:pt x="0" y="3233"/>
                </a:moveTo>
                <a:lnTo>
                  <a:pt x="171" y="2986"/>
                </a:lnTo>
                <a:lnTo>
                  <a:pt x="343" y="2735"/>
                </a:lnTo>
                <a:lnTo>
                  <a:pt x="515" y="2523"/>
                </a:lnTo>
                <a:lnTo>
                  <a:pt x="643" y="2311"/>
                </a:lnTo>
                <a:lnTo>
                  <a:pt x="811" y="2095"/>
                </a:lnTo>
                <a:lnTo>
                  <a:pt x="983" y="1919"/>
                </a:lnTo>
                <a:lnTo>
                  <a:pt x="1155" y="1742"/>
                </a:lnTo>
                <a:lnTo>
                  <a:pt x="1327" y="1561"/>
                </a:lnTo>
                <a:lnTo>
                  <a:pt x="1499" y="1419"/>
                </a:lnTo>
                <a:lnTo>
                  <a:pt x="1666" y="1278"/>
                </a:lnTo>
                <a:lnTo>
                  <a:pt x="1794" y="1137"/>
                </a:lnTo>
                <a:lnTo>
                  <a:pt x="1966" y="1027"/>
                </a:lnTo>
                <a:lnTo>
                  <a:pt x="2138" y="886"/>
                </a:lnTo>
                <a:lnTo>
                  <a:pt x="2310" y="815"/>
                </a:lnTo>
                <a:lnTo>
                  <a:pt x="2482" y="709"/>
                </a:lnTo>
                <a:lnTo>
                  <a:pt x="2650" y="639"/>
                </a:lnTo>
                <a:lnTo>
                  <a:pt x="2778" y="568"/>
                </a:lnTo>
                <a:lnTo>
                  <a:pt x="2950" y="493"/>
                </a:lnTo>
                <a:lnTo>
                  <a:pt x="3122" y="423"/>
                </a:lnTo>
                <a:lnTo>
                  <a:pt x="3294" y="388"/>
                </a:lnTo>
                <a:lnTo>
                  <a:pt x="3466" y="352"/>
                </a:lnTo>
                <a:lnTo>
                  <a:pt x="3633" y="317"/>
                </a:lnTo>
                <a:lnTo>
                  <a:pt x="3805" y="246"/>
                </a:lnTo>
                <a:lnTo>
                  <a:pt x="3933" y="246"/>
                </a:lnTo>
                <a:lnTo>
                  <a:pt x="4105" y="211"/>
                </a:lnTo>
                <a:lnTo>
                  <a:pt x="4277" y="176"/>
                </a:lnTo>
                <a:lnTo>
                  <a:pt x="4449" y="141"/>
                </a:lnTo>
                <a:lnTo>
                  <a:pt x="4616" y="141"/>
                </a:lnTo>
                <a:lnTo>
                  <a:pt x="4788" y="105"/>
                </a:lnTo>
                <a:lnTo>
                  <a:pt x="4916" y="105"/>
                </a:lnTo>
                <a:lnTo>
                  <a:pt x="5088" y="105"/>
                </a:lnTo>
                <a:lnTo>
                  <a:pt x="5261" y="70"/>
                </a:lnTo>
                <a:lnTo>
                  <a:pt x="5433" y="70"/>
                </a:lnTo>
                <a:lnTo>
                  <a:pt x="5601" y="70"/>
                </a:lnTo>
                <a:lnTo>
                  <a:pt x="5773" y="35"/>
                </a:lnTo>
                <a:lnTo>
                  <a:pt x="5945" y="35"/>
                </a:lnTo>
                <a:lnTo>
                  <a:pt x="6073" y="35"/>
                </a:lnTo>
                <a:lnTo>
                  <a:pt x="6245" y="35"/>
                </a:lnTo>
                <a:lnTo>
                  <a:pt x="6417" y="35"/>
                </a:lnTo>
                <a:lnTo>
                  <a:pt x="6584" y="35"/>
                </a:lnTo>
                <a:lnTo>
                  <a:pt x="6756" y="0"/>
                </a:lnTo>
                <a:lnTo>
                  <a:pt x="6928" y="0"/>
                </a:lnTo>
                <a:lnTo>
                  <a:pt x="7100" y="0"/>
                </a:lnTo>
                <a:lnTo>
                  <a:pt x="7228" y="0"/>
                </a:lnTo>
                <a:lnTo>
                  <a:pt x="7400" y="0"/>
                </a:lnTo>
                <a:lnTo>
                  <a:pt x="7568" y="0"/>
                </a:lnTo>
                <a:lnTo>
                  <a:pt x="7740" y="0"/>
                </a:lnTo>
                <a:lnTo>
                  <a:pt x="7912" y="0"/>
                </a:lnTo>
                <a:lnTo>
                  <a:pt x="8084" y="0"/>
                </a:lnTo>
                <a:lnTo>
                  <a:pt x="8256" y="0"/>
                </a:lnTo>
                <a:lnTo>
                  <a:pt x="8383" y="0"/>
                </a:lnTo>
                <a:lnTo>
                  <a:pt x="8551" y="0"/>
                </a:lnTo>
                <a:lnTo>
                  <a:pt x="8723" y="0"/>
                </a:lnTo>
                <a:lnTo>
                  <a:pt x="8895" y="0"/>
                </a:lnTo>
                <a:lnTo>
                  <a:pt x="9067" y="0"/>
                </a:lnTo>
                <a:lnTo>
                  <a:pt x="9239" y="0"/>
                </a:lnTo>
                <a:lnTo>
                  <a:pt x="9367" y="0"/>
                </a:lnTo>
                <a:lnTo>
                  <a:pt x="9534" y="0"/>
                </a:lnTo>
                <a:lnTo>
                  <a:pt x="9706" y="0"/>
                </a:lnTo>
                <a:lnTo>
                  <a:pt x="9878" y="0"/>
                </a:lnTo>
                <a:lnTo>
                  <a:pt x="10050" y="0"/>
                </a:lnTo>
                <a:lnTo>
                  <a:pt x="10222" y="0"/>
                </a:lnTo>
                <a:lnTo>
                  <a:pt x="10390" y="0"/>
                </a:lnTo>
                <a:lnTo>
                  <a:pt x="1051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081840" y="3070080"/>
            <a:ext cx="2139840" cy="0"/>
          </a:xfrm>
          <a:custGeom>
            <a:avLst/>
            <a:gdLst/>
            <a:ahLst/>
            <a:rect l="0" t="0" r="r" b="b"/>
            <a:pathLst>
              <a:path fill="none" w="5944" h="0">
                <a:moveTo>
                  <a:pt x="0" y="0"/>
                </a:moveTo>
                <a:lnTo>
                  <a:pt x="171" y="0"/>
                </a:lnTo>
                <a:lnTo>
                  <a:pt x="343" y="0"/>
                </a:lnTo>
                <a:lnTo>
                  <a:pt x="515" y="0"/>
                </a:lnTo>
                <a:lnTo>
                  <a:pt x="687" y="0"/>
                </a:lnTo>
                <a:lnTo>
                  <a:pt x="855" y="0"/>
                </a:lnTo>
                <a:lnTo>
                  <a:pt x="1027" y="0"/>
                </a:lnTo>
                <a:lnTo>
                  <a:pt x="1155" y="0"/>
                </a:lnTo>
                <a:lnTo>
                  <a:pt x="1327" y="0"/>
                </a:lnTo>
                <a:lnTo>
                  <a:pt x="1499" y="0"/>
                </a:lnTo>
                <a:lnTo>
                  <a:pt x="1671" y="0"/>
                </a:lnTo>
                <a:lnTo>
                  <a:pt x="1838" y="0"/>
                </a:lnTo>
                <a:lnTo>
                  <a:pt x="2010" y="0"/>
                </a:lnTo>
                <a:lnTo>
                  <a:pt x="2138" y="0"/>
                </a:lnTo>
                <a:lnTo>
                  <a:pt x="2310" y="0"/>
                </a:lnTo>
                <a:lnTo>
                  <a:pt x="2482" y="0"/>
                </a:lnTo>
                <a:lnTo>
                  <a:pt x="2654" y="0"/>
                </a:lnTo>
                <a:lnTo>
                  <a:pt x="2822" y="0"/>
                </a:lnTo>
                <a:lnTo>
                  <a:pt x="2994" y="0"/>
                </a:lnTo>
                <a:lnTo>
                  <a:pt x="3166" y="0"/>
                </a:lnTo>
                <a:lnTo>
                  <a:pt x="3294" y="0"/>
                </a:lnTo>
                <a:lnTo>
                  <a:pt x="3466" y="0"/>
                </a:lnTo>
                <a:lnTo>
                  <a:pt x="3638" y="0"/>
                </a:lnTo>
                <a:lnTo>
                  <a:pt x="3805" y="0"/>
                </a:lnTo>
                <a:lnTo>
                  <a:pt x="3977" y="0"/>
                </a:lnTo>
                <a:lnTo>
                  <a:pt x="4149" y="0"/>
                </a:lnTo>
                <a:lnTo>
                  <a:pt x="4277" y="0"/>
                </a:lnTo>
                <a:lnTo>
                  <a:pt x="4449" y="0"/>
                </a:lnTo>
                <a:lnTo>
                  <a:pt x="4621" y="0"/>
                </a:lnTo>
                <a:lnTo>
                  <a:pt x="4788" y="0"/>
                </a:lnTo>
                <a:lnTo>
                  <a:pt x="4960" y="0"/>
                </a:lnTo>
                <a:lnTo>
                  <a:pt x="5132" y="0"/>
                </a:lnTo>
                <a:lnTo>
                  <a:pt x="5304" y="0"/>
                </a:lnTo>
                <a:lnTo>
                  <a:pt x="5432" y="0"/>
                </a:lnTo>
                <a:lnTo>
                  <a:pt x="5604" y="0"/>
                </a:lnTo>
                <a:lnTo>
                  <a:pt x="5772" y="0"/>
                </a:lnTo>
                <a:lnTo>
                  <a:pt x="5944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295360" y="3121200"/>
            <a:ext cx="3786480" cy="2968920"/>
          </a:xfrm>
          <a:custGeom>
            <a:avLst/>
            <a:gdLst/>
            <a:ahLst/>
            <a:rect l="0" t="0" r="r" b="b"/>
            <a:pathLst>
              <a:path fill="none" w="10518" h="8247">
                <a:moveTo>
                  <a:pt x="0" y="8247"/>
                </a:moveTo>
                <a:lnTo>
                  <a:pt x="171" y="8211"/>
                </a:lnTo>
                <a:lnTo>
                  <a:pt x="343" y="8176"/>
                </a:lnTo>
                <a:lnTo>
                  <a:pt x="515" y="8176"/>
                </a:lnTo>
                <a:lnTo>
                  <a:pt x="643" y="8141"/>
                </a:lnTo>
                <a:lnTo>
                  <a:pt x="811" y="8070"/>
                </a:lnTo>
                <a:lnTo>
                  <a:pt x="983" y="8035"/>
                </a:lnTo>
                <a:lnTo>
                  <a:pt x="1155" y="8000"/>
                </a:lnTo>
                <a:lnTo>
                  <a:pt x="1327" y="7929"/>
                </a:lnTo>
                <a:lnTo>
                  <a:pt x="1499" y="7889"/>
                </a:lnTo>
                <a:lnTo>
                  <a:pt x="1666" y="7819"/>
                </a:lnTo>
                <a:lnTo>
                  <a:pt x="1794" y="7748"/>
                </a:lnTo>
                <a:lnTo>
                  <a:pt x="1966" y="7678"/>
                </a:lnTo>
                <a:lnTo>
                  <a:pt x="2138" y="7572"/>
                </a:lnTo>
                <a:lnTo>
                  <a:pt x="2310" y="7501"/>
                </a:lnTo>
                <a:lnTo>
                  <a:pt x="2482" y="7396"/>
                </a:lnTo>
                <a:lnTo>
                  <a:pt x="2650" y="7285"/>
                </a:lnTo>
                <a:lnTo>
                  <a:pt x="2778" y="7144"/>
                </a:lnTo>
                <a:lnTo>
                  <a:pt x="2950" y="7038"/>
                </a:lnTo>
                <a:lnTo>
                  <a:pt x="3122" y="6862"/>
                </a:lnTo>
                <a:lnTo>
                  <a:pt x="3294" y="6717"/>
                </a:lnTo>
                <a:lnTo>
                  <a:pt x="3466" y="6540"/>
                </a:lnTo>
                <a:lnTo>
                  <a:pt x="3633" y="6364"/>
                </a:lnTo>
                <a:lnTo>
                  <a:pt x="3805" y="6183"/>
                </a:lnTo>
                <a:lnTo>
                  <a:pt x="3933" y="5971"/>
                </a:lnTo>
                <a:lnTo>
                  <a:pt x="4105" y="5760"/>
                </a:lnTo>
                <a:lnTo>
                  <a:pt x="4277" y="5544"/>
                </a:lnTo>
                <a:lnTo>
                  <a:pt x="4449" y="5332"/>
                </a:lnTo>
                <a:lnTo>
                  <a:pt x="4616" y="5085"/>
                </a:lnTo>
                <a:lnTo>
                  <a:pt x="4788" y="4834"/>
                </a:lnTo>
                <a:lnTo>
                  <a:pt x="4916" y="4587"/>
                </a:lnTo>
                <a:lnTo>
                  <a:pt x="5088" y="4335"/>
                </a:lnTo>
                <a:lnTo>
                  <a:pt x="5261" y="4087"/>
                </a:lnTo>
                <a:lnTo>
                  <a:pt x="5433" y="3801"/>
                </a:lnTo>
                <a:lnTo>
                  <a:pt x="5601" y="3554"/>
                </a:lnTo>
                <a:lnTo>
                  <a:pt x="5773" y="3307"/>
                </a:lnTo>
                <a:lnTo>
                  <a:pt x="5945" y="3055"/>
                </a:lnTo>
                <a:lnTo>
                  <a:pt x="6073" y="2808"/>
                </a:lnTo>
                <a:lnTo>
                  <a:pt x="6245" y="2592"/>
                </a:lnTo>
                <a:lnTo>
                  <a:pt x="6417" y="2345"/>
                </a:lnTo>
                <a:lnTo>
                  <a:pt x="6584" y="2134"/>
                </a:lnTo>
                <a:lnTo>
                  <a:pt x="6756" y="1953"/>
                </a:lnTo>
                <a:lnTo>
                  <a:pt x="6928" y="1741"/>
                </a:lnTo>
                <a:lnTo>
                  <a:pt x="7100" y="1565"/>
                </a:lnTo>
                <a:lnTo>
                  <a:pt x="7228" y="1419"/>
                </a:lnTo>
                <a:lnTo>
                  <a:pt x="7400" y="1243"/>
                </a:lnTo>
                <a:lnTo>
                  <a:pt x="7568" y="1102"/>
                </a:lnTo>
                <a:lnTo>
                  <a:pt x="7740" y="996"/>
                </a:lnTo>
                <a:lnTo>
                  <a:pt x="7912" y="851"/>
                </a:lnTo>
                <a:lnTo>
                  <a:pt x="8084" y="745"/>
                </a:lnTo>
                <a:lnTo>
                  <a:pt x="8256" y="639"/>
                </a:lnTo>
                <a:lnTo>
                  <a:pt x="8383" y="568"/>
                </a:lnTo>
                <a:lnTo>
                  <a:pt x="8551" y="498"/>
                </a:lnTo>
                <a:lnTo>
                  <a:pt x="8723" y="427"/>
                </a:lnTo>
                <a:lnTo>
                  <a:pt x="8895" y="352"/>
                </a:lnTo>
                <a:lnTo>
                  <a:pt x="9067" y="282"/>
                </a:lnTo>
                <a:lnTo>
                  <a:pt x="9239" y="246"/>
                </a:lnTo>
                <a:lnTo>
                  <a:pt x="9367" y="211"/>
                </a:lnTo>
                <a:lnTo>
                  <a:pt x="9534" y="141"/>
                </a:lnTo>
                <a:lnTo>
                  <a:pt x="9706" y="105"/>
                </a:lnTo>
                <a:lnTo>
                  <a:pt x="9878" y="70"/>
                </a:lnTo>
                <a:lnTo>
                  <a:pt x="10050" y="70"/>
                </a:lnTo>
                <a:lnTo>
                  <a:pt x="10222" y="35"/>
                </a:lnTo>
                <a:lnTo>
                  <a:pt x="10390" y="0"/>
                </a:lnTo>
                <a:lnTo>
                  <a:pt x="1051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081840" y="3070080"/>
            <a:ext cx="2140200" cy="51120"/>
          </a:xfrm>
          <a:custGeom>
            <a:avLst/>
            <a:gdLst/>
            <a:ahLst/>
            <a:rect l="0" t="0" r="r" b="b"/>
            <a:pathLst>
              <a:path fill="none" w="5945" h="142">
                <a:moveTo>
                  <a:pt x="0" y="142"/>
                </a:moveTo>
                <a:lnTo>
                  <a:pt x="171" y="106"/>
                </a:lnTo>
                <a:lnTo>
                  <a:pt x="343" y="106"/>
                </a:lnTo>
                <a:lnTo>
                  <a:pt x="515" y="70"/>
                </a:lnTo>
                <a:lnTo>
                  <a:pt x="687" y="70"/>
                </a:lnTo>
                <a:lnTo>
                  <a:pt x="855" y="70"/>
                </a:lnTo>
                <a:lnTo>
                  <a:pt x="1027" y="70"/>
                </a:lnTo>
                <a:lnTo>
                  <a:pt x="1155" y="35"/>
                </a:lnTo>
                <a:lnTo>
                  <a:pt x="1327" y="35"/>
                </a:lnTo>
                <a:lnTo>
                  <a:pt x="1499" y="35"/>
                </a:lnTo>
                <a:lnTo>
                  <a:pt x="1671" y="35"/>
                </a:lnTo>
                <a:lnTo>
                  <a:pt x="1838" y="35"/>
                </a:lnTo>
                <a:lnTo>
                  <a:pt x="2010" y="35"/>
                </a:lnTo>
                <a:lnTo>
                  <a:pt x="2138" y="0"/>
                </a:lnTo>
                <a:lnTo>
                  <a:pt x="2310" y="0"/>
                </a:lnTo>
                <a:lnTo>
                  <a:pt x="2482" y="0"/>
                </a:lnTo>
                <a:lnTo>
                  <a:pt x="2654" y="0"/>
                </a:lnTo>
                <a:lnTo>
                  <a:pt x="2822" y="0"/>
                </a:lnTo>
                <a:lnTo>
                  <a:pt x="2995" y="0"/>
                </a:lnTo>
                <a:lnTo>
                  <a:pt x="3167" y="0"/>
                </a:lnTo>
                <a:lnTo>
                  <a:pt x="3295" y="0"/>
                </a:lnTo>
                <a:lnTo>
                  <a:pt x="3467" y="0"/>
                </a:lnTo>
                <a:lnTo>
                  <a:pt x="3639" y="0"/>
                </a:lnTo>
                <a:lnTo>
                  <a:pt x="3806" y="0"/>
                </a:lnTo>
                <a:lnTo>
                  <a:pt x="3978" y="0"/>
                </a:lnTo>
                <a:lnTo>
                  <a:pt x="4150" y="0"/>
                </a:lnTo>
                <a:lnTo>
                  <a:pt x="4278" y="0"/>
                </a:lnTo>
                <a:lnTo>
                  <a:pt x="4450" y="0"/>
                </a:lnTo>
                <a:lnTo>
                  <a:pt x="4622" y="0"/>
                </a:lnTo>
                <a:lnTo>
                  <a:pt x="4789" y="0"/>
                </a:lnTo>
                <a:lnTo>
                  <a:pt x="4961" y="0"/>
                </a:lnTo>
                <a:lnTo>
                  <a:pt x="5133" y="0"/>
                </a:lnTo>
                <a:lnTo>
                  <a:pt x="5305" y="0"/>
                </a:lnTo>
                <a:lnTo>
                  <a:pt x="5433" y="0"/>
                </a:lnTo>
                <a:lnTo>
                  <a:pt x="5605" y="0"/>
                </a:lnTo>
                <a:lnTo>
                  <a:pt x="5773" y="0"/>
                </a:lnTo>
                <a:lnTo>
                  <a:pt x="59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295360" y="3657600"/>
            <a:ext cx="3786480" cy="2495880"/>
          </a:xfrm>
          <a:custGeom>
            <a:avLst/>
            <a:gdLst/>
            <a:ahLst/>
            <a:rect l="0" t="0" r="r" b="b"/>
            <a:pathLst>
              <a:path fill="none" w="10518" h="6933">
                <a:moveTo>
                  <a:pt x="0" y="6933"/>
                </a:moveTo>
                <a:lnTo>
                  <a:pt x="171" y="6933"/>
                </a:lnTo>
                <a:lnTo>
                  <a:pt x="343" y="6933"/>
                </a:lnTo>
                <a:lnTo>
                  <a:pt x="515" y="6933"/>
                </a:lnTo>
                <a:lnTo>
                  <a:pt x="643" y="6933"/>
                </a:lnTo>
                <a:lnTo>
                  <a:pt x="811" y="6933"/>
                </a:lnTo>
                <a:lnTo>
                  <a:pt x="983" y="6933"/>
                </a:lnTo>
                <a:lnTo>
                  <a:pt x="1155" y="6933"/>
                </a:lnTo>
                <a:lnTo>
                  <a:pt x="1327" y="6933"/>
                </a:lnTo>
                <a:lnTo>
                  <a:pt x="1499" y="6897"/>
                </a:lnTo>
                <a:lnTo>
                  <a:pt x="1666" y="6897"/>
                </a:lnTo>
                <a:lnTo>
                  <a:pt x="1794" y="6897"/>
                </a:lnTo>
                <a:lnTo>
                  <a:pt x="1966" y="6897"/>
                </a:lnTo>
                <a:lnTo>
                  <a:pt x="2138" y="6862"/>
                </a:lnTo>
                <a:lnTo>
                  <a:pt x="2310" y="6862"/>
                </a:lnTo>
                <a:lnTo>
                  <a:pt x="2482" y="6862"/>
                </a:lnTo>
                <a:lnTo>
                  <a:pt x="2650" y="6827"/>
                </a:lnTo>
                <a:lnTo>
                  <a:pt x="2778" y="6827"/>
                </a:lnTo>
                <a:lnTo>
                  <a:pt x="2950" y="6791"/>
                </a:lnTo>
                <a:lnTo>
                  <a:pt x="3122" y="6791"/>
                </a:lnTo>
                <a:lnTo>
                  <a:pt x="3294" y="6756"/>
                </a:lnTo>
                <a:lnTo>
                  <a:pt x="3466" y="6756"/>
                </a:lnTo>
                <a:lnTo>
                  <a:pt x="3633" y="6721"/>
                </a:lnTo>
                <a:lnTo>
                  <a:pt x="3805" y="6686"/>
                </a:lnTo>
                <a:lnTo>
                  <a:pt x="3933" y="6650"/>
                </a:lnTo>
                <a:lnTo>
                  <a:pt x="4105" y="6615"/>
                </a:lnTo>
                <a:lnTo>
                  <a:pt x="4277" y="6580"/>
                </a:lnTo>
                <a:lnTo>
                  <a:pt x="4449" y="6545"/>
                </a:lnTo>
                <a:lnTo>
                  <a:pt x="4616" y="6474"/>
                </a:lnTo>
                <a:lnTo>
                  <a:pt x="4788" y="6439"/>
                </a:lnTo>
                <a:lnTo>
                  <a:pt x="4916" y="6364"/>
                </a:lnTo>
                <a:lnTo>
                  <a:pt x="5088" y="6293"/>
                </a:lnTo>
                <a:lnTo>
                  <a:pt x="5261" y="6223"/>
                </a:lnTo>
                <a:lnTo>
                  <a:pt x="5433" y="6152"/>
                </a:lnTo>
                <a:lnTo>
                  <a:pt x="5601" y="6046"/>
                </a:lnTo>
                <a:lnTo>
                  <a:pt x="5773" y="5940"/>
                </a:lnTo>
                <a:lnTo>
                  <a:pt x="5945" y="5830"/>
                </a:lnTo>
                <a:lnTo>
                  <a:pt x="6073" y="5724"/>
                </a:lnTo>
                <a:lnTo>
                  <a:pt x="6245" y="5583"/>
                </a:lnTo>
                <a:lnTo>
                  <a:pt x="6417" y="5477"/>
                </a:lnTo>
                <a:lnTo>
                  <a:pt x="6584" y="5301"/>
                </a:lnTo>
                <a:lnTo>
                  <a:pt x="6756" y="5155"/>
                </a:lnTo>
                <a:lnTo>
                  <a:pt x="6928" y="4979"/>
                </a:lnTo>
                <a:lnTo>
                  <a:pt x="7100" y="4803"/>
                </a:lnTo>
                <a:lnTo>
                  <a:pt x="7228" y="4587"/>
                </a:lnTo>
                <a:lnTo>
                  <a:pt x="7400" y="4375"/>
                </a:lnTo>
                <a:lnTo>
                  <a:pt x="7568" y="4163"/>
                </a:lnTo>
                <a:lnTo>
                  <a:pt x="7740" y="3947"/>
                </a:lnTo>
                <a:lnTo>
                  <a:pt x="7912" y="3700"/>
                </a:lnTo>
                <a:lnTo>
                  <a:pt x="8084" y="3484"/>
                </a:lnTo>
                <a:lnTo>
                  <a:pt x="8256" y="3236"/>
                </a:lnTo>
                <a:lnTo>
                  <a:pt x="8383" y="2950"/>
                </a:lnTo>
                <a:lnTo>
                  <a:pt x="8551" y="2703"/>
                </a:lnTo>
                <a:lnTo>
                  <a:pt x="8723" y="2456"/>
                </a:lnTo>
                <a:lnTo>
                  <a:pt x="8895" y="2204"/>
                </a:lnTo>
                <a:lnTo>
                  <a:pt x="9067" y="1922"/>
                </a:lnTo>
                <a:lnTo>
                  <a:pt x="9239" y="1671"/>
                </a:lnTo>
                <a:lnTo>
                  <a:pt x="9367" y="1424"/>
                </a:lnTo>
                <a:lnTo>
                  <a:pt x="9534" y="1208"/>
                </a:lnTo>
                <a:lnTo>
                  <a:pt x="9706" y="961"/>
                </a:lnTo>
                <a:lnTo>
                  <a:pt x="9878" y="749"/>
                </a:lnTo>
                <a:lnTo>
                  <a:pt x="10050" y="533"/>
                </a:lnTo>
                <a:lnTo>
                  <a:pt x="10222" y="357"/>
                </a:lnTo>
                <a:lnTo>
                  <a:pt x="10390" y="180"/>
                </a:lnTo>
                <a:lnTo>
                  <a:pt x="10518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081840" y="3070080"/>
            <a:ext cx="2140200" cy="587880"/>
          </a:xfrm>
          <a:custGeom>
            <a:avLst/>
            <a:gdLst/>
            <a:ahLst/>
            <a:rect l="0" t="0" r="r" b="b"/>
            <a:pathLst>
              <a:path fill="none" w="5945" h="1633">
                <a:moveTo>
                  <a:pt x="0" y="1633"/>
                </a:moveTo>
                <a:lnTo>
                  <a:pt x="171" y="1457"/>
                </a:lnTo>
                <a:lnTo>
                  <a:pt x="343" y="1316"/>
                </a:lnTo>
                <a:lnTo>
                  <a:pt x="515" y="1173"/>
                </a:lnTo>
                <a:lnTo>
                  <a:pt x="687" y="1063"/>
                </a:lnTo>
                <a:lnTo>
                  <a:pt x="855" y="957"/>
                </a:lnTo>
                <a:lnTo>
                  <a:pt x="1027" y="852"/>
                </a:lnTo>
                <a:lnTo>
                  <a:pt x="1155" y="746"/>
                </a:lnTo>
                <a:lnTo>
                  <a:pt x="1327" y="675"/>
                </a:lnTo>
                <a:lnTo>
                  <a:pt x="1499" y="605"/>
                </a:lnTo>
                <a:lnTo>
                  <a:pt x="1671" y="534"/>
                </a:lnTo>
                <a:lnTo>
                  <a:pt x="1838" y="459"/>
                </a:lnTo>
                <a:lnTo>
                  <a:pt x="2010" y="424"/>
                </a:lnTo>
                <a:lnTo>
                  <a:pt x="2138" y="352"/>
                </a:lnTo>
                <a:lnTo>
                  <a:pt x="2310" y="317"/>
                </a:lnTo>
                <a:lnTo>
                  <a:pt x="2482" y="282"/>
                </a:lnTo>
                <a:lnTo>
                  <a:pt x="2654" y="246"/>
                </a:lnTo>
                <a:lnTo>
                  <a:pt x="2822" y="211"/>
                </a:lnTo>
                <a:lnTo>
                  <a:pt x="2995" y="176"/>
                </a:lnTo>
                <a:lnTo>
                  <a:pt x="3167" y="176"/>
                </a:lnTo>
                <a:lnTo>
                  <a:pt x="3295" y="141"/>
                </a:lnTo>
                <a:lnTo>
                  <a:pt x="3467" y="141"/>
                </a:lnTo>
                <a:lnTo>
                  <a:pt x="3639" y="105"/>
                </a:lnTo>
                <a:lnTo>
                  <a:pt x="3806" y="105"/>
                </a:lnTo>
                <a:lnTo>
                  <a:pt x="3978" y="70"/>
                </a:lnTo>
                <a:lnTo>
                  <a:pt x="4150" y="70"/>
                </a:lnTo>
                <a:lnTo>
                  <a:pt x="4278" y="70"/>
                </a:lnTo>
                <a:lnTo>
                  <a:pt x="4450" y="35"/>
                </a:lnTo>
                <a:lnTo>
                  <a:pt x="4622" y="35"/>
                </a:lnTo>
                <a:lnTo>
                  <a:pt x="4789" y="35"/>
                </a:lnTo>
                <a:lnTo>
                  <a:pt x="4961" y="35"/>
                </a:lnTo>
                <a:lnTo>
                  <a:pt x="5133" y="35"/>
                </a:lnTo>
                <a:lnTo>
                  <a:pt x="5305" y="35"/>
                </a:lnTo>
                <a:lnTo>
                  <a:pt x="5433" y="0"/>
                </a:lnTo>
                <a:lnTo>
                  <a:pt x="5605" y="0"/>
                </a:lnTo>
                <a:lnTo>
                  <a:pt x="5773" y="0"/>
                </a:lnTo>
                <a:lnTo>
                  <a:pt x="5945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295360" y="3657600"/>
            <a:ext cx="3786480" cy="2495880"/>
          </a:xfrm>
          <a:custGeom>
            <a:avLst/>
            <a:gdLst/>
            <a:ahLst/>
            <a:rect l="0" t="0" r="r" b="b"/>
            <a:pathLst>
              <a:path fill="none" w="10518" h="6933">
                <a:moveTo>
                  <a:pt x="0" y="6933"/>
                </a:moveTo>
                <a:lnTo>
                  <a:pt x="171" y="6933"/>
                </a:lnTo>
                <a:lnTo>
                  <a:pt x="343" y="6933"/>
                </a:lnTo>
                <a:lnTo>
                  <a:pt x="515" y="6933"/>
                </a:lnTo>
                <a:lnTo>
                  <a:pt x="643" y="6933"/>
                </a:lnTo>
                <a:lnTo>
                  <a:pt x="811" y="6933"/>
                </a:lnTo>
                <a:lnTo>
                  <a:pt x="983" y="6933"/>
                </a:lnTo>
                <a:lnTo>
                  <a:pt x="1155" y="6933"/>
                </a:lnTo>
                <a:lnTo>
                  <a:pt x="1327" y="6933"/>
                </a:lnTo>
                <a:lnTo>
                  <a:pt x="1499" y="6897"/>
                </a:lnTo>
                <a:lnTo>
                  <a:pt x="1666" y="6897"/>
                </a:lnTo>
                <a:lnTo>
                  <a:pt x="1794" y="6897"/>
                </a:lnTo>
                <a:lnTo>
                  <a:pt x="1966" y="6897"/>
                </a:lnTo>
                <a:lnTo>
                  <a:pt x="2138" y="6862"/>
                </a:lnTo>
                <a:lnTo>
                  <a:pt x="2310" y="6862"/>
                </a:lnTo>
                <a:lnTo>
                  <a:pt x="2482" y="6862"/>
                </a:lnTo>
                <a:lnTo>
                  <a:pt x="2650" y="6827"/>
                </a:lnTo>
                <a:lnTo>
                  <a:pt x="2778" y="6827"/>
                </a:lnTo>
                <a:lnTo>
                  <a:pt x="2950" y="6791"/>
                </a:lnTo>
                <a:lnTo>
                  <a:pt x="3122" y="6791"/>
                </a:lnTo>
                <a:lnTo>
                  <a:pt x="3294" y="6756"/>
                </a:lnTo>
                <a:lnTo>
                  <a:pt x="3466" y="6756"/>
                </a:lnTo>
                <a:lnTo>
                  <a:pt x="3633" y="6721"/>
                </a:lnTo>
                <a:lnTo>
                  <a:pt x="3805" y="6686"/>
                </a:lnTo>
                <a:lnTo>
                  <a:pt x="3933" y="6650"/>
                </a:lnTo>
                <a:lnTo>
                  <a:pt x="4105" y="6615"/>
                </a:lnTo>
                <a:lnTo>
                  <a:pt x="4277" y="6580"/>
                </a:lnTo>
                <a:lnTo>
                  <a:pt x="4449" y="6545"/>
                </a:lnTo>
                <a:lnTo>
                  <a:pt x="4616" y="6474"/>
                </a:lnTo>
                <a:lnTo>
                  <a:pt x="4788" y="6439"/>
                </a:lnTo>
                <a:lnTo>
                  <a:pt x="4916" y="6364"/>
                </a:lnTo>
                <a:lnTo>
                  <a:pt x="5088" y="6293"/>
                </a:lnTo>
                <a:lnTo>
                  <a:pt x="5261" y="6223"/>
                </a:lnTo>
                <a:lnTo>
                  <a:pt x="5433" y="6152"/>
                </a:lnTo>
                <a:lnTo>
                  <a:pt x="5601" y="6046"/>
                </a:lnTo>
                <a:lnTo>
                  <a:pt x="5773" y="5940"/>
                </a:lnTo>
                <a:lnTo>
                  <a:pt x="5945" y="5830"/>
                </a:lnTo>
                <a:lnTo>
                  <a:pt x="6073" y="5724"/>
                </a:lnTo>
                <a:lnTo>
                  <a:pt x="6245" y="5583"/>
                </a:lnTo>
                <a:lnTo>
                  <a:pt x="6417" y="5477"/>
                </a:lnTo>
                <a:lnTo>
                  <a:pt x="6584" y="5301"/>
                </a:lnTo>
                <a:lnTo>
                  <a:pt x="6756" y="5155"/>
                </a:lnTo>
                <a:lnTo>
                  <a:pt x="6928" y="4979"/>
                </a:lnTo>
                <a:lnTo>
                  <a:pt x="7100" y="4803"/>
                </a:lnTo>
                <a:lnTo>
                  <a:pt x="7228" y="4587"/>
                </a:lnTo>
                <a:lnTo>
                  <a:pt x="7400" y="4375"/>
                </a:lnTo>
                <a:lnTo>
                  <a:pt x="7568" y="4163"/>
                </a:lnTo>
                <a:lnTo>
                  <a:pt x="7740" y="3947"/>
                </a:lnTo>
                <a:lnTo>
                  <a:pt x="7912" y="3700"/>
                </a:lnTo>
                <a:lnTo>
                  <a:pt x="8084" y="3484"/>
                </a:lnTo>
                <a:lnTo>
                  <a:pt x="8256" y="3236"/>
                </a:lnTo>
                <a:lnTo>
                  <a:pt x="8383" y="2950"/>
                </a:lnTo>
                <a:lnTo>
                  <a:pt x="8551" y="2703"/>
                </a:lnTo>
                <a:lnTo>
                  <a:pt x="8723" y="2456"/>
                </a:lnTo>
                <a:lnTo>
                  <a:pt x="8895" y="2204"/>
                </a:lnTo>
                <a:lnTo>
                  <a:pt x="9067" y="1922"/>
                </a:lnTo>
                <a:lnTo>
                  <a:pt x="9239" y="1671"/>
                </a:lnTo>
                <a:lnTo>
                  <a:pt x="9367" y="1424"/>
                </a:lnTo>
                <a:lnTo>
                  <a:pt x="9534" y="1208"/>
                </a:lnTo>
                <a:lnTo>
                  <a:pt x="9706" y="961"/>
                </a:lnTo>
                <a:lnTo>
                  <a:pt x="9878" y="749"/>
                </a:lnTo>
                <a:lnTo>
                  <a:pt x="10050" y="533"/>
                </a:lnTo>
                <a:lnTo>
                  <a:pt x="10222" y="357"/>
                </a:lnTo>
                <a:lnTo>
                  <a:pt x="10390" y="180"/>
                </a:lnTo>
                <a:lnTo>
                  <a:pt x="10518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81840" y="3070080"/>
            <a:ext cx="2140200" cy="587880"/>
          </a:xfrm>
          <a:custGeom>
            <a:avLst/>
            <a:gdLst/>
            <a:ahLst/>
            <a:rect l="0" t="0" r="r" b="b"/>
            <a:pathLst>
              <a:path fill="none" w="5945" h="1633">
                <a:moveTo>
                  <a:pt x="0" y="1633"/>
                </a:moveTo>
                <a:lnTo>
                  <a:pt x="171" y="1457"/>
                </a:lnTo>
                <a:lnTo>
                  <a:pt x="343" y="1316"/>
                </a:lnTo>
                <a:lnTo>
                  <a:pt x="515" y="1173"/>
                </a:lnTo>
                <a:lnTo>
                  <a:pt x="687" y="1063"/>
                </a:lnTo>
                <a:lnTo>
                  <a:pt x="855" y="957"/>
                </a:lnTo>
                <a:lnTo>
                  <a:pt x="1027" y="852"/>
                </a:lnTo>
                <a:lnTo>
                  <a:pt x="1155" y="746"/>
                </a:lnTo>
                <a:lnTo>
                  <a:pt x="1327" y="675"/>
                </a:lnTo>
                <a:lnTo>
                  <a:pt x="1499" y="605"/>
                </a:lnTo>
                <a:lnTo>
                  <a:pt x="1671" y="534"/>
                </a:lnTo>
                <a:lnTo>
                  <a:pt x="1838" y="459"/>
                </a:lnTo>
                <a:lnTo>
                  <a:pt x="2010" y="424"/>
                </a:lnTo>
                <a:lnTo>
                  <a:pt x="2138" y="352"/>
                </a:lnTo>
                <a:lnTo>
                  <a:pt x="2310" y="317"/>
                </a:lnTo>
                <a:lnTo>
                  <a:pt x="2482" y="282"/>
                </a:lnTo>
                <a:lnTo>
                  <a:pt x="2654" y="246"/>
                </a:lnTo>
                <a:lnTo>
                  <a:pt x="2822" y="211"/>
                </a:lnTo>
                <a:lnTo>
                  <a:pt x="2995" y="176"/>
                </a:lnTo>
                <a:lnTo>
                  <a:pt x="3167" y="176"/>
                </a:lnTo>
                <a:lnTo>
                  <a:pt x="3295" y="141"/>
                </a:lnTo>
                <a:lnTo>
                  <a:pt x="3467" y="141"/>
                </a:lnTo>
                <a:lnTo>
                  <a:pt x="3639" y="105"/>
                </a:lnTo>
                <a:lnTo>
                  <a:pt x="3806" y="105"/>
                </a:lnTo>
                <a:lnTo>
                  <a:pt x="3978" y="70"/>
                </a:lnTo>
                <a:lnTo>
                  <a:pt x="4150" y="70"/>
                </a:lnTo>
                <a:lnTo>
                  <a:pt x="4278" y="70"/>
                </a:lnTo>
                <a:lnTo>
                  <a:pt x="4450" y="35"/>
                </a:lnTo>
                <a:lnTo>
                  <a:pt x="4622" y="35"/>
                </a:lnTo>
                <a:lnTo>
                  <a:pt x="4789" y="35"/>
                </a:lnTo>
                <a:lnTo>
                  <a:pt x="4961" y="35"/>
                </a:lnTo>
                <a:lnTo>
                  <a:pt x="5133" y="35"/>
                </a:lnTo>
                <a:lnTo>
                  <a:pt x="5305" y="35"/>
                </a:lnTo>
                <a:lnTo>
                  <a:pt x="5433" y="0"/>
                </a:lnTo>
                <a:lnTo>
                  <a:pt x="5605" y="0"/>
                </a:lnTo>
                <a:lnTo>
                  <a:pt x="5773" y="0"/>
                </a:lnTo>
                <a:lnTo>
                  <a:pt x="5945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295360" y="3121200"/>
            <a:ext cx="3786480" cy="2968920"/>
          </a:xfrm>
          <a:custGeom>
            <a:avLst/>
            <a:gdLst/>
            <a:ahLst/>
            <a:rect l="0" t="0" r="r" b="b"/>
            <a:pathLst>
              <a:path fill="none" w="10518" h="8247">
                <a:moveTo>
                  <a:pt x="0" y="8247"/>
                </a:moveTo>
                <a:lnTo>
                  <a:pt x="171" y="8211"/>
                </a:lnTo>
                <a:lnTo>
                  <a:pt x="343" y="8176"/>
                </a:lnTo>
                <a:lnTo>
                  <a:pt x="515" y="8176"/>
                </a:lnTo>
                <a:lnTo>
                  <a:pt x="643" y="8141"/>
                </a:lnTo>
                <a:lnTo>
                  <a:pt x="811" y="8070"/>
                </a:lnTo>
                <a:lnTo>
                  <a:pt x="983" y="8035"/>
                </a:lnTo>
                <a:lnTo>
                  <a:pt x="1155" y="8000"/>
                </a:lnTo>
                <a:lnTo>
                  <a:pt x="1327" y="7929"/>
                </a:lnTo>
                <a:lnTo>
                  <a:pt x="1499" y="7889"/>
                </a:lnTo>
                <a:lnTo>
                  <a:pt x="1666" y="7819"/>
                </a:lnTo>
                <a:lnTo>
                  <a:pt x="1794" y="7748"/>
                </a:lnTo>
                <a:lnTo>
                  <a:pt x="1966" y="7678"/>
                </a:lnTo>
                <a:lnTo>
                  <a:pt x="2138" y="7572"/>
                </a:lnTo>
                <a:lnTo>
                  <a:pt x="2310" y="7501"/>
                </a:lnTo>
                <a:lnTo>
                  <a:pt x="2482" y="7396"/>
                </a:lnTo>
                <a:lnTo>
                  <a:pt x="2650" y="7285"/>
                </a:lnTo>
                <a:lnTo>
                  <a:pt x="2778" y="7144"/>
                </a:lnTo>
                <a:lnTo>
                  <a:pt x="2950" y="7038"/>
                </a:lnTo>
                <a:lnTo>
                  <a:pt x="3122" y="6862"/>
                </a:lnTo>
                <a:lnTo>
                  <a:pt x="3294" y="6717"/>
                </a:lnTo>
                <a:lnTo>
                  <a:pt x="3466" y="6540"/>
                </a:lnTo>
                <a:lnTo>
                  <a:pt x="3633" y="6364"/>
                </a:lnTo>
                <a:lnTo>
                  <a:pt x="3805" y="6183"/>
                </a:lnTo>
                <a:lnTo>
                  <a:pt x="3933" y="5971"/>
                </a:lnTo>
                <a:lnTo>
                  <a:pt x="4105" y="5760"/>
                </a:lnTo>
                <a:lnTo>
                  <a:pt x="4277" y="5544"/>
                </a:lnTo>
                <a:lnTo>
                  <a:pt x="4449" y="5332"/>
                </a:lnTo>
                <a:lnTo>
                  <a:pt x="4616" y="5085"/>
                </a:lnTo>
                <a:lnTo>
                  <a:pt x="4788" y="4834"/>
                </a:lnTo>
                <a:lnTo>
                  <a:pt x="4916" y="4587"/>
                </a:lnTo>
                <a:lnTo>
                  <a:pt x="5088" y="4335"/>
                </a:lnTo>
                <a:lnTo>
                  <a:pt x="5261" y="4087"/>
                </a:lnTo>
                <a:lnTo>
                  <a:pt x="5433" y="3801"/>
                </a:lnTo>
                <a:lnTo>
                  <a:pt x="5601" y="3554"/>
                </a:lnTo>
                <a:lnTo>
                  <a:pt x="5773" y="3307"/>
                </a:lnTo>
                <a:lnTo>
                  <a:pt x="5945" y="3055"/>
                </a:lnTo>
                <a:lnTo>
                  <a:pt x="6073" y="2808"/>
                </a:lnTo>
                <a:lnTo>
                  <a:pt x="6245" y="2592"/>
                </a:lnTo>
                <a:lnTo>
                  <a:pt x="6417" y="2345"/>
                </a:lnTo>
                <a:lnTo>
                  <a:pt x="6584" y="2134"/>
                </a:lnTo>
                <a:lnTo>
                  <a:pt x="6756" y="1953"/>
                </a:lnTo>
                <a:lnTo>
                  <a:pt x="6928" y="1741"/>
                </a:lnTo>
                <a:lnTo>
                  <a:pt x="7100" y="1565"/>
                </a:lnTo>
                <a:lnTo>
                  <a:pt x="7228" y="1419"/>
                </a:lnTo>
                <a:lnTo>
                  <a:pt x="7400" y="1243"/>
                </a:lnTo>
                <a:lnTo>
                  <a:pt x="7568" y="1102"/>
                </a:lnTo>
                <a:lnTo>
                  <a:pt x="7740" y="996"/>
                </a:lnTo>
                <a:lnTo>
                  <a:pt x="7912" y="851"/>
                </a:lnTo>
                <a:lnTo>
                  <a:pt x="8084" y="745"/>
                </a:lnTo>
                <a:lnTo>
                  <a:pt x="8256" y="639"/>
                </a:lnTo>
                <a:lnTo>
                  <a:pt x="8383" y="568"/>
                </a:lnTo>
                <a:lnTo>
                  <a:pt x="8551" y="498"/>
                </a:lnTo>
                <a:lnTo>
                  <a:pt x="8723" y="427"/>
                </a:lnTo>
                <a:lnTo>
                  <a:pt x="8895" y="352"/>
                </a:lnTo>
                <a:lnTo>
                  <a:pt x="9067" y="282"/>
                </a:lnTo>
                <a:lnTo>
                  <a:pt x="9239" y="246"/>
                </a:lnTo>
                <a:lnTo>
                  <a:pt x="9367" y="211"/>
                </a:lnTo>
                <a:lnTo>
                  <a:pt x="9534" y="141"/>
                </a:lnTo>
                <a:lnTo>
                  <a:pt x="9706" y="105"/>
                </a:lnTo>
                <a:lnTo>
                  <a:pt x="9878" y="70"/>
                </a:lnTo>
                <a:lnTo>
                  <a:pt x="10050" y="70"/>
                </a:lnTo>
                <a:lnTo>
                  <a:pt x="10222" y="35"/>
                </a:lnTo>
                <a:lnTo>
                  <a:pt x="10390" y="0"/>
                </a:lnTo>
                <a:lnTo>
                  <a:pt x="10518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081840" y="3070080"/>
            <a:ext cx="2140200" cy="51120"/>
          </a:xfrm>
          <a:custGeom>
            <a:avLst/>
            <a:gdLst/>
            <a:ahLst/>
            <a:rect l="0" t="0" r="r" b="b"/>
            <a:pathLst>
              <a:path fill="none" w="5945" h="142">
                <a:moveTo>
                  <a:pt x="0" y="142"/>
                </a:moveTo>
                <a:lnTo>
                  <a:pt x="171" y="106"/>
                </a:lnTo>
                <a:lnTo>
                  <a:pt x="343" y="106"/>
                </a:lnTo>
                <a:lnTo>
                  <a:pt x="515" y="70"/>
                </a:lnTo>
                <a:lnTo>
                  <a:pt x="687" y="70"/>
                </a:lnTo>
                <a:lnTo>
                  <a:pt x="855" y="70"/>
                </a:lnTo>
                <a:lnTo>
                  <a:pt x="1027" y="70"/>
                </a:lnTo>
                <a:lnTo>
                  <a:pt x="1155" y="35"/>
                </a:lnTo>
                <a:lnTo>
                  <a:pt x="1327" y="35"/>
                </a:lnTo>
                <a:lnTo>
                  <a:pt x="1499" y="35"/>
                </a:lnTo>
                <a:lnTo>
                  <a:pt x="1671" y="35"/>
                </a:lnTo>
                <a:lnTo>
                  <a:pt x="1838" y="35"/>
                </a:lnTo>
                <a:lnTo>
                  <a:pt x="2010" y="35"/>
                </a:lnTo>
                <a:lnTo>
                  <a:pt x="2138" y="0"/>
                </a:lnTo>
                <a:lnTo>
                  <a:pt x="2310" y="0"/>
                </a:lnTo>
                <a:lnTo>
                  <a:pt x="2482" y="0"/>
                </a:lnTo>
                <a:lnTo>
                  <a:pt x="2654" y="0"/>
                </a:lnTo>
                <a:lnTo>
                  <a:pt x="2822" y="0"/>
                </a:lnTo>
                <a:lnTo>
                  <a:pt x="2995" y="0"/>
                </a:lnTo>
                <a:lnTo>
                  <a:pt x="3167" y="0"/>
                </a:lnTo>
                <a:lnTo>
                  <a:pt x="3295" y="0"/>
                </a:lnTo>
                <a:lnTo>
                  <a:pt x="3467" y="0"/>
                </a:lnTo>
                <a:lnTo>
                  <a:pt x="3639" y="0"/>
                </a:lnTo>
                <a:lnTo>
                  <a:pt x="3806" y="0"/>
                </a:lnTo>
                <a:lnTo>
                  <a:pt x="3978" y="0"/>
                </a:lnTo>
                <a:lnTo>
                  <a:pt x="4150" y="0"/>
                </a:lnTo>
                <a:lnTo>
                  <a:pt x="4278" y="0"/>
                </a:lnTo>
                <a:lnTo>
                  <a:pt x="4450" y="0"/>
                </a:lnTo>
                <a:lnTo>
                  <a:pt x="4622" y="0"/>
                </a:lnTo>
                <a:lnTo>
                  <a:pt x="4789" y="0"/>
                </a:lnTo>
                <a:lnTo>
                  <a:pt x="4961" y="0"/>
                </a:lnTo>
                <a:lnTo>
                  <a:pt x="5133" y="0"/>
                </a:lnTo>
                <a:lnTo>
                  <a:pt x="5305" y="0"/>
                </a:lnTo>
                <a:lnTo>
                  <a:pt x="5433" y="0"/>
                </a:lnTo>
                <a:lnTo>
                  <a:pt x="5605" y="0"/>
                </a:lnTo>
                <a:lnTo>
                  <a:pt x="5773" y="0"/>
                </a:lnTo>
                <a:lnTo>
                  <a:pt x="5945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295360" y="3070080"/>
            <a:ext cx="3786480" cy="2316600"/>
          </a:xfrm>
          <a:custGeom>
            <a:avLst/>
            <a:gdLst/>
            <a:ahLst/>
            <a:rect l="0" t="0" r="r" b="b"/>
            <a:pathLst>
              <a:path fill="none" w="10518" h="6435">
                <a:moveTo>
                  <a:pt x="0" y="6435"/>
                </a:moveTo>
                <a:lnTo>
                  <a:pt x="171" y="6254"/>
                </a:lnTo>
                <a:lnTo>
                  <a:pt x="343" y="6043"/>
                </a:lnTo>
                <a:lnTo>
                  <a:pt x="515" y="5831"/>
                </a:lnTo>
                <a:lnTo>
                  <a:pt x="643" y="5615"/>
                </a:lnTo>
                <a:lnTo>
                  <a:pt x="811" y="5368"/>
                </a:lnTo>
                <a:lnTo>
                  <a:pt x="983" y="5117"/>
                </a:lnTo>
                <a:lnTo>
                  <a:pt x="1155" y="4870"/>
                </a:lnTo>
                <a:lnTo>
                  <a:pt x="1327" y="4622"/>
                </a:lnTo>
                <a:lnTo>
                  <a:pt x="1499" y="4371"/>
                </a:lnTo>
                <a:lnTo>
                  <a:pt x="1666" y="4124"/>
                </a:lnTo>
                <a:lnTo>
                  <a:pt x="1794" y="3837"/>
                </a:lnTo>
                <a:lnTo>
                  <a:pt x="1966" y="3590"/>
                </a:lnTo>
                <a:lnTo>
                  <a:pt x="2138" y="3339"/>
                </a:lnTo>
                <a:lnTo>
                  <a:pt x="2310" y="3092"/>
                </a:lnTo>
                <a:lnTo>
                  <a:pt x="2482" y="2880"/>
                </a:lnTo>
                <a:lnTo>
                  <a:pt x="2650" y="2629"/>
                </a:lnTo>
                <a:lnTo>
                  <a:pt x="2778" y="2417"/>
                </a:lnTo>
                <a:lnTo>
                  <a:pt x="2950" y="2201"/>
                </a:lnTo>
                <a:lnTo>
                  <a:pt x="3122" y="1989"/>
                </a:lnTo>
                <a:lnTo>
                  <a:pt x="3294" y="1813"/>
                </a:lnTo>
                <a:lnTo>
                  <a:pt x="3466" y="1632"/>
                </a:lnTo>
                <a:lnTo>
                  <a:pt x="3633" y="1490"/>
                </a:lnTo>
                <a:lnTo>
                  <a:pt x="3805" y="1349"/>
                </a:lnTo>
                <a:lnTo>
                  <a:pt x="3933" y="1208"/>
                </a:lnTo>
                <a:lnTo>
                  <a:pt x="4105" y="1062"/>
                </a:lnTo>
                <a:lnTo>
                  <a:pt x="4277" y="956"/>
                </a:lnTo>
                <a:lnTo>
                  <a:pt x="4449" y="851"/>
                </a:lnTo>
                <a:lnTo>
                  <a:pt x="4616" y="745"/>
                </a:lnTo>
                <a:lnTo>
                  <a:pt x="4788" y="674"/>
                </a:lnTo>
                <a:lnTo>
                  <a:pt x="4916" y="604"/>
                </a:lnTo>
                <a:lnTo>
                  <a:pt x="5088" y="533"/>
                </a:lnTo>
                <a:lnTo>
                  <a:pt x="5261" y="458"/>
                </a:lnTo>
                <a:lnTo>
                  <a:pt x="5433" y="423"/>
                </a:lnTo>
                <a:lnTo>
                  <a:pt x="5601" y="352"/>
                </a:lnTo>
                <a:lnTo>
                  <a:pt x="5773" y="317"/>
                </a:lnTo>
                <a:lnTo>
                  <a:pt x="5945" y="282"/>
                </a:lnTo>
                <a:lnTo>
                  <a:pt x="6073" y="246"/>
                </a:lnTo>
                <a:lnTo>
                  <a:pt x="6245" y="211"/>
                </a:lnTo>
                <a:lnTo>
                  <a:pt x="6417" y="176"/>
                </a:lnTo>
                <a:lnTo>
                  <a:pt x="6584" y="176"/>
                </a:lnTo>
                <a:lnTo>
                  <a:pt x="6756" y="141"/>
                </a:lnTo>
                <a:lnTo>
                  <a:pt x="6928" y="141"/>
                </a:lnTo>
                <a:lnTo>
                  <a:pt x="7100" y="105"/>
                </a:lnTo>
                <a:lnTo>
                  <a:pt x="7228" y="105"/>
                </a:lnTo>
                <a:lnTo>
                  <a:pt x="7400" y="70"/>
                </a:lnTo>
                <a:lnTo>
                  <a:pt x="7568" y="70"/>
                </a:lnTo>
                <a:lnTo>
                  <a:pt x="7740" y="70"/>
                </a:lnTo>
                <a:lnTo>
                  <a:pt x="7912" y="35"/>
                </a:lnTo>
                <a:lnTo>
                  <a:pt x="8084" y="35"/>
                </a:lnTo>
                <a:lnTo>
                  <a:pt x="8256" y="35"/>
                </a:lnTo>
                <a:lnTo>
                  <a:pt x="8383" y="35"/>
                </a:lnTo>
                <a:lnTo>
                  <a:pt x="8551" y="35"/>
                </a:lnTo>
                <a:lnTo>
                  <a:pt x="8723" y="35"/>
                </a:lnTo>
                <a:lnTo>
                  <a:pt x="8895" y="0"/>
                </a:lnTo>
                <a:lnTo>
                  <a:pt x="9067" y="0"/>
                </a:lnTo>
                <a:lnTo>
                  <a:pt x="9239" y="0"/>
                </a:lnTo>
                <a:lnTo>
                  <a:pt x="9367" y="0"/>
                </a:lnTo>
                <a:lnTo>
                  <a:pt x="9534" y="0"/>
                </a:lnTo>
                <a:lnTo>
                  <a:pt x="9706" y="0"/>
                </a:lnTo>
                <a:lnTo>
                  <a:pt x="9878" y="0"/>
                </a:lnTo>
                <a:lnTo>
                  <a:pt x="10050" y="0"/>
                </a:lnTo>
                <a:lnTo>
                  <a:pt x="10222" y="0"/>
                </a:lnTo>
                <a:lnTo>
                  <a:pt x="10390" y="0"/>
                </a:lnTo>
                <a:lnTo>
                  <a:pt x="10518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081840" y="3070080"/>
            <a:ext cx="2139840" cy="0"/>
          </a:xfrm>
          <a:custGeom>
            <a:avLst/>
            <a:gdLst/>
            <a:ahLst/>
            <a:rect l="0" t="0" r="r" b="b"/>
            <a:pathLst>
              <a:path fill="none" w="5944" h="0">
                <a:moveTo>
                  <a:pt x="0" y="0"/>
                </a:moveTo>
                <a:lnTo>
                  <a:pt x="171" y="0"/>
                </a:lnTo>
                <a:lnTo>
                  <a:pt x="343" y="0"/>
                </a:lnTo>
                <a:lnTo>
                  <a:pt x="515" y="0"/>
                </a:lnTo>
                <a:lnTo>
                  <a:pt x="687" y="0"/>
                </a:lnTo>
                <a:lnTo>
                  <a:pt x="855" y="0"/>
                </a:lnTo>
                <a:lnTo>
                  <a:pt x="1027" y="0"/>
                </a:lnTo>
                <a:lnTo>
                  <a:pt x="1155" y="0"/>
                </a:lnTo>
                <a:lnTo>
                  <a:pt x="1327" y="0"/>
                </a:lnTo>
                <a:lnTo>
                  <a:pt x="1499" y="0"/>
                </a:lnTo>
                <a:lnTo>
                  <a:pt x="1671" y="0"/>
                </a:lnTo>
                <a:lnTo>
                  <a:pt x="1838" y="0"/>
                </a:lnTo>
                <a:lnTo>
                  <a:pt x="2010" y="0"/>
                </a:lnTo>
                <a:lnTo>
                  <a:pt x="2138" y="0"/>
                </a:lnTo>
                <a:lnTo>
                  <a:pt x="2310" y="0"/>
                </a:lnTo>
                <a:lnTo>
                  <a:pt x="2482" y="0"/>
                </a:lnTo>
                <a:lnTo>
                  <a:pt x="2654" y="0"/>
                </a:lnTo>
                <a:lnTo>
                  <a:pt x="2822" y="0"/>
                </a:lnTo>
                <a:lnTo>
                  <a:pt x="2994" y="0"/>
                </a:lnTo>
                <a:lnTo>
                  <a:pt x="3166" y="0"/>
                </a:lnTo>
                <a:lnTo>
                  <a:pt x="3294" y="0"/>
                </a:lnTo>
                <a:lnTo>
                  <a:pt x="3466" y="0"/>
                </a:lnTo>
                <a:lnTo>
                  <a:pt x="3638" y="0"/>
                </a:lnTo>
                <a:lnTo>
                  <a:pt x="3805" y="0"/>
                </a:lnTo>
                <a:lnTo>
                  <a:pt x="3977" y="0"/>
                </a:lnTo>
                <a:lnTo>
                  <a:pt x="4149" y="0"/>
                </a:lnTo>
                <a:lnTo>
                  <a:pt x="4277" y="0"/>
                </a:lnTo>
                <a:lnTo>
                  <a:pt x="4449" y="0"/>
                </a:lnTo>
                <a:lnTo>
                  <a:pt x="4621" y="0"/>
                </a:lnTo>
                <a:lnTo>
                  <a:pt x="4788" y="0"/>
                </a:lnTo>
                <a:lnTo>
                  <a:pt x="4960" y="0"/>
                </a:lnTo>
                <a:lnTo>
                  <a:pt x="5132" y="0"/>
                </a:lnTo>
                <a:lnTo>
                  <a:pt x="5304" y="0"/>
                </a:lnTo>
                <a:lnTo>
                  <a:pt x="5432" y="0"/>
                </a:lnTo>
                <a:lnTo>
                  <a:pt x="5604" y="0"/>
                </a:lnTo>
                <a:lnTo>
                  <a:pt x="5772" y="0"/>
                </a:lnTo>
                <a:lnTo>
                  <a:pt x="5944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295360" y="3070080"/>
            <a:ext cx="3786480" cy="1163880"/>
          </a:xfrm>
          <a:custGeom>
            <a:avLst/>
            <a:gdLst/>
            <a:ahLst/>
            <a:rect l="0" t="0" r="r" b="b"/>
            <a:pathLst>
              <a:path fill="none" w="10518" h="3233">
                <a:moveTo>
                  <a:pt x="0" y="3233"/>
                </a:moveTo>
                <a:lnTo>
                  <a:pt x="171" y="2986"/>
                </a:lnTo>
                <a:lnTo>
                  <a:pt x="343" y="2735"/>
                </a:lnTo>
                <a:lnTo>
                  <a:pt x="515" y="2523"/>
                </a:lnTo>
                <a:lnTo>
                  <a:pt x="643" y="2311"/>
                </a:lnTo>
                <a:lnTo>
                  <a:pt x="811" y="2095"/>
                </a:lnTo>
                <a:lnTo>
                  <a:pt x="983" y="1919"/>
                </a:lnTo>
                <a:lnTo>
                  <a:pt x="1155" y="1742"/>
                </a:lnTo>
                <a:lnTo>
                  <a:pt x="1327" y="1561"/>
                </a:lnTo>
                <a:lnTo>
                  <a:pt x="1499" y="1419"/>
                </a:lnTo>
                <a:lnTo>
                  <a:pt x="1666" y="1278"/>
                </a:lnTo>
                <a:lnTo>
                  <a:pt x="1794" y="1137"/>
                </a:lnTo>
                <a:lnTo>
                  <a:pt x="1966" y="1027"/>
                </a:lnTo>
                <a:lnTo>
                  <a:pt x="2138" y="886"/>
                </a:lnTo>
                <a:lnTo>
                  <a:pt x="2310" y="815"/>
                </a:lnTo>
                <a:lnTo>
                  <a:pt x="2482" y="709"/>
                </a:lnTo>
                <a:lnTo>
                  <a:pt x="2650" y="639"/>
                </a:lnTo>
                <a:lnTo>
                  <a:pt x="2778" y="568"/>
                </a:lnTo>
                <a:lnTo>
                  <a:pt x="2950" y="493"/>
                </a:lnTo>
                <a:lnTo>
                  <a:pt x="3122" y="423"/>
                </a:lnTo>
                <a:lnTo>
                  <a:pt x="3294" y="388"/>
                </a:lnTo>
                <a:lnTo>
                  <a:pt x="3466" y="352"/>
                </a:lnTo>
                <a:lnTo>
                  <a:pt x="3633" y="317"/>
                </a:lnTo>
                <a:lnTo>
                  <a:pt x="3805" y="246"/>
                </a:lnTo>
                <a:lnTo>
                  <a:pt x="3933" y="246"/>
                </a:lnTo>
                <a:lnTo>
                  <a:pt x="4105" y="211"/>
                </a:lnTo>
                <a:lnTo>
                  <a:pt x="4277" y="176"/>
                </a:lnTo>
                <a:lnTo>
                  <a:pt x="4449" y="141"/>
                </a:lnTo>
                <a:lnTo>
                  <a:pt x="4616" y="141"/>
                </a:lnTo>
                <a:lnTo>
                  <a:pt x="4788" y="105"/>
                </a:lnTo>
                <a:lnTo>
                  <a:pt x="4916" y="105"/>
                </a:lnTo>
                <a:lnTo>
                  <a:pt x="5088" y="105"/>
                </a:lnTo>
                <a:lnTo>
                  <a:pt x="5261" y="70"/>
                </a:lnTo>
                <a:lnTo>
                  <a:pt x="5433" y="70"/>
                </a:lnTo>
                <a:lnTo>
                  <a:pt x="5601" y="70"/>
                </a:lnTo>
                <a:lnTo>
                  <a:pt x="5773" y="35"/>
                </a:lnTo>
                <a:lnTo>
                  <a:pt x="5945" y="35"/>
                </a:lnTo>
                <a:lnTo>
                  <a:pt x="6073" y="35"/>
                </a:lnTo>
                <a:lnTo>
                  <a:pt x="6245" y="35"/>
                </a:lnTo>
                <a:lnTo>
                  <a:pt x="6417" y="35"/>
                </a:lnTo>
                <a:lnTo>
                  <a:pt x="6584" y="35"/>
                </a:lnTo>
                <a:lnTo>
                  <a:pt x="6756" y="0"/>
                </a:lnTo>
                <a:lnTo>
                  <a:pt x="6928" y="0"/>
                </a:lnTo>
                <a:lnTo>
                  <a:pt x="7100" y="0"/>
                </a:lnTo>
                <a:lnTo>
                  <a:pt x="7228" y="0"/>
                </a:lnTo>
                <a:lnTo>
                  <a:pt x="7400" y="0"/>
                </a:lnTo>
                <a:lnTo>
                  <a:pt x="7568" y="0"/>
                </a:lnTo>
                <a:lnTo>
                  <a:pt x="7740" y="0"/>
                </a:lnTo>
                <a:lnTo>
                  <a:pt x="7912" y="0"/>
                </a:lnTo>
                <a:lnTo>
                  <a:pt x="8084" y="0"/>
                </a:lnTo>
                <a:lnTo>
                  <a:pt x="8256" y="0"/>
                </a:lnTo>
                <a:lnTo>
                  <a:pt x="8383" y="0"/>
                </a:lnTo>
                <a:lnTo>
                  <a:pt x="8551" y="0"/>
                </a:lnTo>
                <a:lnTo>
                  <a:pt x="8723" y="0"/>
                </a:lnTo>
                <a:lnTo>
                  <a:pt x="8895" y="0"/>
                </a:lnTo>
                <a:lnTo>
                  <a:pt x="9067" y="0"/>
                </a:lnTo>
                <a:lnTo>
                  <a:pt x="9239" y="0"/>
                </a:lnTo>
                <a:lnTo>
                  <a:pt x="9367" y="0"/>
                </a:lnTo>
                <a:lnTo>
                  <a:pt x="9534" y="0"/>
                </a:lnTo>
                <a:lnTo>
                  <a:pt x="9706" y="0"/>
                </a:lnTo>
                <a:lnTo>
                  <a:pt x="9878" y="0"/>
                </a:lnTo>
                <a:lnTo>
                  <a:pt x="10050" y="0"/>
                </a:lnTo>
                <a:lnTo>
                  <a:pt x="10222" y="0"/>
                </a:lnTo>
                <a:lnTo>
                  <a:pt x="10390" y="0"/>
                </a:lnTo>
                <a:lnTo>
                  <a:pt x="10518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081840" y="3070080"/>
            <a:ext cx="2139840" cy="0"/>
          </a:xfrm>
          <a:custGeom>
            <a:avLst/>
            <a:gdLst/>
            <a:ahLst/>
            <a:rect l="0" t="0" r="r" b="b"/>
            <a:pathLst>
              <a:path fill="none" w="5944" h="0">
                <a:moveTo>
                  <a:pt x="0" y="0"/>
                </a:moveTo>
                <a:lnTo>
                  <a:pt x="171" y="0"/>
                </a:lnTo>
                <a:lnTo>
                  <a:pt x="343" y="0"/>
                </a:lnTo>
                <a:lnTo>
                  <a:pt x="515" y="0"/>
                </a:lnTo>
                <a:lnTo>
                  <a:pt x="687" y="0"/>
                </a:lnTo>
                <a:lnTo>
                  <a:pt x="855" y="0"/>
                </a:lnTo>
                <a:lnTo>
                  <a:pt x="1027" y="0"/>
                </a:lnTo>
                <a:lnTo>
                  <a:pt x="1155" y="0"/>
                </a:lnTo>
                <a:lnTo>
                  <a:pt x="1327" y="0"/>
                </a:lnTo>
                <a:lnTo>
                  <a:pt x="1499" y="0"/>
                </a:lnTo>
                <a:lnTo>
                  <a:pt x="1671" y="0"/>
                </a:lnTo>
                <a:lnTo>
                  <a:pt x="1838" y="0"/>
                </a:lnTo>
                <a:lnTo>
                  <a:pt x="2010" y="0"/>
                </a:lnTo>
                <a:lnTo>
                  <a:pt x="2138" y="0"/>
                </a:lnTo>
                <a:lnTo>
                  <a:pt x="2310" y="0"/>
                </a:lnTo>
                <a:lnTo>
                  <a:pt x="2482" y="0"/>
                </a:lnTo>
                <a:lnTo>
                  <a:pt x="2654" y="0"/>
                </a:lnTo>
                <a:lnTo>
                  <a:pt x="2822" y="0"/>
                </a:lnTo>
                <a:lnTo>
                  <a:pt x="2994" y="0"/>
                </a:lnTo>
                <a:lnTo>
                  <a:pt x="3166" y="0"/>
                </a:lnTo>
                <a:lnTo>
                  <a:pt x="3294" y="0"/>
                </a:lnTo>
                <a:lnTo>
                  <a:pt x="3466" y="0"/>
                </a:lnTo>
                <a:lnTo>
                  <a:pt x="3638" y="0"/>
                </a:lnTo>
                <a:lnTo>
                  <a:pt x="3805" y="0"/>
                </a:lnTo>
                <a:lnTo>
                  <a:pt x="3977" y="0"/>
                </a:lnTo>
                <a:lnTo>
                  <a:pt x="4149" y="0"/>
                </a:lnTo>
                <a:lnTo>
                  <a:pt x="4277" y="0"/>
                </a:lnTo>
                <a:lnTo>
                  <a:pt x="4449" y="0"/>
                </a:lnTo>
                <a:lnTo>
                  <a:pt x="4621" y="0"/>
                </a:lnTo>
                <a:lnTo>
                  <a:pt x="4788" y="0"/>
                </a:lnTo>
                <a:lnTo>
                  <a:pt x="4960" y="0"/>
                </a:lnTo>
                <a:lnTo>
                  <a:pt x="5132" y="0"/>
                </a:lnTo>
                <a:lnTo>
                  <a:pt x="5304" y="0"/>
                </a:lnTo>
                <a:lnTo>
                  <a:pt x="5432" y="0"/>
                </a:lnTo>
                <a:lnTo>
                  <a:pt x="5604" y="0"/>
                </a:lnTo>
                <a:lnTo>
                  <a:pt x="5772" y="0"/>
                </a:lnTo>
                <a:lnTo>
                  <a:pt x="5944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295360" y="2289240"/>
            <a:ext cx="3786480" cy="781560"/>
          </a:xfrm>
          <a:custGeom>
            <a:avLst/>
            <a:gdLst/>
            <a:ahLst/>
            <a:rect l="0" t="0" r="r" b="b"/>
            <a:pathLst>
              <a:path fill="none" w="10518" h="2171">
                <a:moveTo>
                  <a:pt x="0" y="0"/>
                </a:moveTo>
                <a:lnTo>
                  <a:pt x="171" y="317"/>
                </a:lnTo>
                <a:lnTo>
                  <a:pt x="343" y="605"/>
                </a:lnTo>
                <a:lnTo>
                  <a:pt x="515" y="816"/>
                </a:lnTo>
                <a:lnTo>
                  <a:pt x="643" y="997"/>
                </a:lnTo>
                <a:lnTo>
                  <a:pt x="811" y="1138"/>
                </a:lnTo>
                <a:lnTo>
                  <a:pt x="983" y="1279"/>
                </a:lnTo>
                <a:lnTo>
                  <a:pt x="1155" y="1385"/>
                </a:lnTo>
                <a:lnTo>
                  <a:pt x="1327" y="1491"/>
                </a:lnTo>
                <a:lnTo>
                  <a:pt x="1499" y="1601"/>
                </a:lnTo>
                <a:lnTo>
                  <a:pt x="1666" y="1673"/>
                </a:lnTo>
                <a:lnTo>
                  <a:pt x="1794" y="1708"/>
                </a:lnTo>
                <a:lnTo>
                  <a:pt x="1966" y="1779"/>
                </a:lnTo>
                <a:lnTo>
                  <a:pt x="2138" y="1814"/>
                </a:lnTo>
                <a:lnTo>
                  <a:pt x="2310" y="1849"/>
                </a:lnTo>
                <a:lnTo>
                  <a:pt x="2482" y="1884"/>
                </a:lnTo>
                <a:lnTo>
                  <a:pt x="2650" y="1920"/>
                </a:lnTo>
                <a:lnTo>
                  <a:pt x="2778" y="1955"/>
                </a:lnTo>
                <a:lnTo>
                  <a:pt x="2950" y="1990"/>
                </a:lnTo>
                <a:lnTo>
                  <a:pt x="3122" y="1990"/>
                </a:lnTo>
                <a:lnTo>
                  <a:pt x="3294" y="2026"/>
                </a:lnTo>
                <a:lnTo>
                  <a:pt x="3466" y="2026"/>
                </a:lnTo>
                <a:lnTo>
                  <a:pt x="3633" y="2061"/>
                </a:lnTo>
                <a:lnTo>
                  <a:pt x="3805" y="2061"/>
                </a:lnTo>
                <a:lnTo>
                  <a:pt x="3933" y="2061"/>
                </a:lnTo>
                <a:lnTo>
                  <a:pt x="4105" y="2096"/>
                </a:lnTo>
                <a:lnTo>
                  <a:pt x="4277" y="2096"/>
                </a:lnTo>
                <a:lnTo>
                  <a:pt x="4449" y="2096"/>
                </a:lnTo>
                <a:lnTo>
                  <a:pt x="4616" y="2096"/>
                </a:lnTo>
                <a:lnTo>
                  <a:pt x="4788" y="2096"/>
                </a:lnTo>
                <a:lnTo>
                  <a:pt x="4916" y="2136"/>
                </a:lnTo>
                <a:lnTo>
                  <a:pt x="5088" y="2136"/>
                </a:lnTo>
                <a:lnTo>
                  <a:pt x="5261" y="2136"/>
                </a:lnTo>
                <a:lnTo>
                  <a:pt x="5433" y="2136"/>
                </a:lnTo>
                <a:lnTo>
                  <a:pt x="5601" y="2136"/>
                </a:lnTo>
                <a:lnTo>
                  <a:pt x="5773" y="2136"/>
                </a:lnTo>
                <a:lnTo>
                  <a:pt x="5945" y="2136"/>
                </a:lnTo>
                <a:lnTo>
                  <a:pt x="6073" y="2136"/>
                </a:lnTo>
                <a:lnTo>
                  <a:pt x="6245" y="2136"/>
                </a:lnTo>
                <a:lnTo>
                  <a:pt x="6417" y="2136"/>
                </a:lnTo>
                <a:lnTo>
                  <a:pt x="6584" y="2136"/>
                </a:lnTo>
                <a:lnTo>
                  <a:pt x="6756" y="2136"/>
                </a:lnTo>
                <a:lnTo>
                  <a:pt x="6928" y="2136"/>
                </a:lnTo>
                <a:lnTo>
                  <a:pt x="7100" y="2136"/>
                </a:lnTo>
                <a:lnTo>
                  <a:pt x="7228" y="2136"/>
                </a:lnTo>
                <a:lnTo>
                  <a:pt x="7400" y="2136"/>
                </a:lnTo>
                <a:lnTo>
                  <a:pt x="7568" y="2136"/>
                </a:lnTo>
                <a:lnTo>
                  <a:pt x="7740" y="2136"/>
                </a:lnTo>
                <a:lnTo>
                  <a:pt x="7912" y="2136"/>
                </a:lnTo>
                <a:lnTo>
                  <a:pt x="8084" y="2171"/>
                </a:lnTo>
                <a:lnTo>
                  <a:pt x="8256" y="2171"/>
                </a:lnTo>
                <a:lnTo>
                  <a:pt x="8383" y="2171"/>
                </a:lnTo>
                <a:lnTo>
                  <a:pt x="8551" y="2171"/>
                </a:lnTo>
                <a:lnTo>
                  <a:pt x="8723" y="2171"/>
                </a:lnTo>
                <a:lnTo>
                  <a:pt x="8895" y="2171"/>
                </a:lnTo>
                <a:lnTo>
                  <a:pt x="9067" y="2171"/>
                </a:lnTo>
                <a:lnTo>
                  <a:pt x="9239" y="2171"/>
                </a:lnTo>
                <a:lnTo>
                  <a:pt x="9367" y="2171"/>
                </a:lnTo>
                <a:lnTo>
                  <a:pt x="9534" y="2171"/>
                </a:lnTo>
                <a:lnTo>
                  <a:pt x="9706" y="2171"/>
                </a:lnTo>
                <a:lnTo>
                  <a:pt x="9878" y="2171"/>
                </a:lnTo>
                <a:lnTo>
                  <a:pt x="10050" y="2171"/>
                </a:lnTo>
                <a:lnTo>
                  <a:pt x="10222" y="2171"/>
                </a:lnTo>
                <a:lnTo>
                  <a:pt x="10390" y="2171"/>
                </a:lnTo>
                <a:lnTo>
                  <a:pt x="10518" y="2171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6081840" y="3070080"/>
            <a:ext cx="2139840" cy="0"/>
          </a:xfrm>
          <a:custGeom>
            <a:avLst/>
            <a:gdLst/>
            <a:ahLst/>
            <a:rect l="0" t="0" r="r" b="b"/>
            <a:pathLst>
              <a:path fill="none" w="5944" h="0">
                <a:moveTo>
                  <a:pt x="0" y="0"/>
                </a:moveTo>
                <a:lnTo>
                  <a:pt x="171" y="0"/>
                </a:lnTo>
                <a:lnTo>
                  <a:pt x="343" y="0"/>
                </a:lnTo>
                <a:lnTo>
                  <a:pt x="515" y="0"/>
                </a:lnTo>
                <a:lnTo>
                  <a:pt x="687" y="0"/>
                </a:lnTo>
                <a:lnTo>
                  <a:pt x="855" y="0"/>
                </a:lnTo>
                <a:lnTo>
                  <a:pt x="1027" y="0"/>
                </a:lnTo>
                <a:lnTo>
                  <a:pt x="1155" y="0"/>
                </a:lnTo>
                <a:lnTo>
                  <a:pt x="1327" y="0"/>
                </a:lnTo>
                <a:lnTo>
                  <a:pt x="1499" y="0"/>
                </a:lnTo>
                <a:lnTo>
                  <a:pt x="1671" y="0"/>
                </a:lnTo>
                <a:lnTo>
                  <a:pt x="1838" y="0"/>
                </a:lnTo>
                <a:lnTo>
                  <a:pt x="2010" y="0"/>
                </a:lnTo>
                <a:lnTo>
                  <a:pt x="2138" y="0"/>
                </a:lnTo>
                <a:lnTo>
                  <a:pt x="2310" y="0"/>
                </a:lnTo>
                <a:lnTo>
                  <a:pt x="2482" y="0"/>
                </a:lnTo>
                <a:lnTo>
                  <a:pt x="2654" y="0"/>
                </a:lnTo>
                <a:lnTo>
                  <a:pt x="2822" y="0"/>
                </a:lnTo>
                <a:lnTo>
                  <a:pt x="2994" y="0"/>
                </a:lnTo>
                <a:lnTo>
                  <a:pt x="3166" y="0"/>
                </a:lnTo>
                <a:lnTo>
                  <a:pt x="3294" y="0"/>
                </a:lnTo>
                <a:lnTo>
                  <a:pt x="3466" y="0"/>
                </a:lnTo>
                <a:lnTo>
                  <a:pt x="3638" y="0"/>
                </a:lnTo>
                <a:lnTo>
                  <a:pt x="3805" y="0"/>
                </a:lnTo>
                <a:lnTo>
                  <a:pt x="3977" y="0"/>
                </a:lnTo>
                <a:lnTo>
                  <a:pt x="4149" y="0"/>
                </a:lnTo>
                <a:lnTo>
                  <a:pt x="4277" y="0"/>
                </a:lnTo>
                <a:lnTo>
                  <a:pt x="4449" y="0"/>
                </a:lnTo>
                <a:lnTo>
                  <a:pt x="4621" y="0"/>
                </a:lnTo>
                <a:lnTo>
                  <a:pt x="4788" y="0"/>
                </a:lnTo>
                <a:lnTo>
                  <a:pt x="4960" y="0"/>
                </a:lnTo>
                <a:lnTo>
                  <a:pt x="5132" y="0"/>
                </a:lnTo>
                <a:lnTo>
                  <a:pt x="5304" y="0"/>
                </a:lnTo>
                <a:lnTo>
                  <a:pt x="5432" y="0"/>
                </a:lnTo>
                <a:lnTo>
                  <a:pt x="5604" y="0"/>
                </a:lnTo>
                <a:lnTo>
                  <a:pt x="5772" y="0"/>
                </a:lnTo>
                <a:lnTo>
                  <a:pt x="5944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619360" y="1905120"/>
            <a:ext cx="3770640" cy="1165680"/>
          </a:xfrm>
          <a:custGeom>
            <a:avLst/>
            <a:gdLst/>
            <a:ahLst/>
            <a:rect l="0" t="0" r="r" b="b"/>
            <a:pathLst>
              <a:path fill="none" w="10474" h="3238">
                <a:moveTo>
                  <a:pt x="0" y="0"/>
                </a:moveTo>
                <a:lnTo>
                  <a:pt x="83" y="282"/>
                </a:lnTo>
                <a:lnTo>
                  <a:pt x="255" y="745"/>
                </a:lnTo>
                <a:lnTo>
                  <a:pt x="427" y="1138"/>
                </a:lnTo>
                <a:lnTo>
                  <a:pt x="599" y="1460"/>
                </a:lnTo>
                <a:lnTo>
                  <a:pt x="767" y="1707"/>
                </a:lnTo>
                <a:lnTo>
                  <a:pt x="895" y="1919"/>
                </a:lnTo>
                <a:lnTo>
                  <a:pt x="1067" y="2100"/>
                </a:lnTo>
                <a:lnTo>
                  <a:pt x="1239" y="2241"/>
                </a:lnTo>
                <a:lnTo>
                  <a:pt x="1411" y="2382"/>
                </a:lnTo>
                <a:lnTo>
                  <a:pt x="1583" y="2489"/>
                </a:lnTo>
                <a:lnTo>
                  <a:pt x="1750" y="2594"/>
                </a:lnTo>
                <a:lnTo>
                  <a:pt x="1878" y="2669"/>
                </a:lnTo>
                <a:lnTo>
                  <a:pt x="2050" y="2740"/>
                </a:lnTo>
                <a:lnTo>
                  <a:pt x="2222" y="2810"/>
                </a:lnTo>
                <a:lnTo>
                  <a:pt x="2394" y="2846"/>
                </a:lnTo>
                <a:lnTo>
                  <a:pt x="2566" y="2916"/>
                </a:lnTo>
                <a:lnTo>
                  <a:pt x="2734" y="2952"/>
                </a:lnTo>
                <a:lnTo>
                  <a:pt x="2906" y="2987"/>
                </a:lnTo>
                <a:lnTo>
                  <a:pt x="3033" y="3022"/>
                </a:lnTo>
                <a:lnTo>
                  <a:pt x="3205" y="3022"/>
                </a:lnTo>
                <a:lnTo>
                  <a:pt x="3377" y="3057"/>
                </a:lnTo>
                <a:lnTo>
                  <a:pt x="3549" y="3057"/>
                </a:lnTo>
                <a:lnTo>
                  <a:pt x="3717" y="3093"/>
                </a:lnTo>
                <a:lnTo>
                  <a:pt x="3889" y="3093"/>
                </a:lnTo>
                <a:lnTo>
                  <a:pt x="4017" y="3128"/>
                </a:lnTo>
                <a:lnTo>
                  <a:pt x="4189" y="3128"/>
                </a:lnTo>
                <a:lnTo>
                  <a:pt x="4361" y="3128"/>
                </a:lnTo>
                <a:lnTo>
                  <a:pt x="4533" y="3163"/>
                </a:lnTo>
                <a:lnTo>
                  <a:pt x="4700" y="3163"/>
                </a:lnTo>
                <a:lnTo>
                  <a:pt x="4872" y="3163"/>
                </a:lnTo>
                <a:lnTo>
                  <a:pt x="5044" y="3163"/>
                </a:lnTo>
                <a:lnTo>
                  <a:pt x="5172" y="3163"/>
                </a:lnTo>
                <a:lnTo>
                  <a:pt x="5345" y="3203"/>
                </a:lnTo>
                <a:lnTo>
                  <a:pt x="5517" y="3203"/>
                </a:lnTo>
                <a:lnTo>
                  <a:pt x="5685" y="3203"/>
                </a:lnTo>
                <a:lnTo>
                  <a:pt x="5857" y="3203"/>
                </a:lnTo>
                <a:lnTo>
                  <a:pt x="6029" y="3203"/>
                </a:lnTo>
                <a:lnTo>
                  <a:pt x="6201" y="3203"/>
                </a:lnTo>
                <a:lnTo>
                  <a:pt x="6328" y="3203"/>
                </a:lnTo>
                <a:lnTo>
                  <a:pt x="6500" y="3203"/>
                </a:lnTo>
                <a:lnTo>
                  <a:pt x="6668" y="3203"/>
                </a:lnTo>
                <a:lnTo>
                  <a:pt x="6840" y="3203"/>
                </a:lnTo>
                <a:lnTo>
                  <a:pt x="7012" y="3203"/>
                </a:lnTo>
                <a:lnTo>
                  <a:pt x="7184" y="3203"/>
                </a:lnTo>
                <a:lnTo>
                  <a:pt x="7356" y="3203"/>
                </a:lnTo>
                <a:lnTo>
                  <a:pt x="7484" y="3203"/>
                </a:lnTo>
                <a:lnTo>
                  <a:pt x="7651" y="3203"/>
                </a:lnTo>
                <a:lnTo>
                  <a:pt x="7823" y="3203"/>
                </a:lnTo>
                <a:lnTo>
                  <a:pt x="7995" y="3203"/>
                </a:lnTo>
                <a:lnTo>
                  <a:pt x="8167" y="3203"/>
                </a:lnTo>
                <a:lnTo>
                  <a:pt x="8339" y="3238"/>
                </a:lnTo>
                <a:lnTo>
                  <a:pt x="8467" y="3238"/>
                </a:lnTo>
                <a:lnTo>
                  <a:pt x="8635" y="3238"/>
                </a:lnTo>
                <a:lnTo>
                  <a:pt x="8807" y="3238"/>
                </a:lnTo>
                <a:lnTo>
                  <a:pt x="8979" y="3238"/>
                </a:lnTo>
                <a:lnTo>
                  <a:pt x="9151" y="3238"/>
                </a:lnTo>
                <a:lnTo>
                  <a:pt x="9323" y="3238"/>
                </a:lnTo>
                <a:lnTo>
                  <a:pt x="9490" y="3238"/>
                </a:lnTo>
                <a:lnTo>
                  <a:pt x="9618" y="3238"/>
                </a:lnTo>
                <a:lnTo>
                  <a:pt x="9790" y="3238"/>
                </a:lnTo>
                <a:lnTo>
                  <a:pt x="9962" y="3238"/>
                </a:lnTo>
                <a:lnTo>
                  <a:pt x="10134" y="3238"/>
                </a:lnTo>
                <a:lnTo>
                  <a:pt x="10306" y="3238"/>
                </a:lnTo>
                <a:lnTo>
                  <a:pt x="10474" y="3238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89640" y="3070080"/>
            <a:ext cx="1831680" cy="0"/>
          </a:xfrm>
          <a:custGeom>
            <a:avLst/>
            <a:gdLst/>
            <a:ahLst/>
            <a:rect l="0" t="0" r="r" b="b"/>
            <a:pathLst>
              <a:path fill="none" w="5088" h="0">
                <a:moveTo>
                  <a:pt x="0" y="0"/>
                </a:moveTo>
                <a:lnTo>
                  <a:pt x="171" y="0"/>
                </a:lnTo>
                <a:lnTo>
                  <a:pt x="299" y="0"/>
                </a:lnTo>
                <a:lnTo>
                  <a:pt x="471" y="0"/>
                </a:lnTo>
                <a:lnTo>
                  <a:pt x="643" y="0"/>
                </a:lnTo>
                <a:lnTo>
                  <a:pt x="815" y="0"/>
                </a:lnTo>
                <a:lnTo>
                  <a:pt x="983" y="0"/>
                </a:lnTo>
                <a:lnTo>
                  <a:pt x="1155" y="0"/>
                </a:lnTo>
                <a:lnTo>
                  <a:pt x="1283" y="0"/>
                </a:lnTo>
                <a:lnTo>
                  <a:pt x="1455" y="0"/>
                </a:lnTo>
                <a:lnTo>
                  <a:pt x="1627" y="0"/>
                </a:lnTo>
                <a:lnTo>
                  <a:pt x="1799" y="0"/>
                </a:lnTo>
                <a:lnTo>
                  <a:pt x="1966" y="0"/>
                </a:lnTo>
                <a:lnTo>
                  <a:pt x="2138" y="0"/>
                </a:lnTo>
                <a:lnTo>
                  <a:pt x="2310" y="0"/>
                </a:lnTo>
                <a:lnTo>
                  <a:pt x="2438" y="0"/>
                </a:lnTo>
                <a:lnTo>
                  <a:pt x="2610" y="0"/>
                </a:lnTo>
                <a:lnTo>
                  <a:pt x="2782" y="0"/>
                </a:lnTo>
                <a:lnTo>
                  <a:pt x="2950" y="0"/>
                </a:lnTo>
                <a:lnTo>
                  <a:pt x="3122" y="0"/>
                </a:lnTo>
                <a:lnTo>
                  <a:pt x="3294" y="0"/>
                </a:lnTo>
                <a:lnTo>
                  <a:pt x="3421" y="0"/>
                </a:lnTo>
                <a:lnTo>
                  <a:pt x="3593" y="0"/>
                </a:lnTo>
                <a:lnTo>
                  <a:pt x="3765" y="0"/>
                </a:lnTo>
                <a:lnTo>
                  <a:pt x="3933" y="0"/>
                </a:lnTo>
                <a:lnTo>
                  <a:pt x="4105" y="0"/>
                </a:lnTo>
                <a:lnTo>
                  <a:pt x="4277" y="0"/>
                </a:lnTo>
                <a:lnTo>
                  <a:pt x="4449" y="0"/>
                </a:lnTo>
                <a:lnTo>
                  <a:pt x="4577" y="0"/>
                </a:lnTo>
                <a:lnTo>
                  <a:pt x="4749" y="0"/>
                </a:lnTo>
                <a:lnTo>
                  <a:pt x="4916" y="0"/>
                </a:lnTo>
                <a:lnTo>
                  <a:pt x="5088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091040" y="1868400"/>
            <a:ext cx="2316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cuación Logí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étodo de He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880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 integral de la ecuación difere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spcAft>
                <a:spcPts val="2880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oximación (Fórmula de los trapeci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880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oximación por Euler (predi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spcAft>
                <a:spcPts val="2880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étodo de Heun (correc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" descr=""/>
          <p:cNvPicPr/>
          <p:nvPr/>
        </p:nvPicPr>
        <p:blipFill>
          <a:blip r:embed="rId1"/>
          <a:stretch/>
        </p:blipFill>
        <p:spPr>
          <a:xfrm>
            <a:off x="2519280" y="2314440"/>
            <a:ext cx="4791240" cy="90324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/>
          <p:cNvPicPr/>
          <p:nvPr/>
        </p:nvPicPr>
        <p:blipFill>
          <a:blip r:embed="rId2"/>
          <a:stretch/>
        </p:blipFill>
        <p:spPr>
          <a:xfrm>
            <a:off x="1730520" y="3618000"/>
            <a:ext cx="6353280" cy="860400"/>
          </a:xfrm>
          <a:prstGeom prst="rect">
            <a:avLst/>
          </a:prstGeom>
          <a:ln w="0">
            <a:noFill/>
          </a:ln>
        </p:spPr>
      </p:pic>
      <p:pic>
        <p:nvPicPr>
          <p:cNvPr id="1115" name="" descr=""/>
          <p:cNvPicPr/>
          <p:nvPr/>
        </p:nvPicPr>
        <p:blipFill>
          <a:blip r:embed="rId3"/>
          <a:stretch/>
        </p:blipFill>
        <p:spPr>
          <a:xfrm>
            <a:off x="3259080" y="4840200"/>
            <a:ext cx="3305160" cy="549360"/>
          </a:xfrm>
          <a:prstGeom prst="rect">
            <a:avLst/>
          </a:prstGeom>
          <a:ln w="0">
            <a:noFill/>
          </a:ln>
        </p:spPr>
      </p:pic>
      <p:pic>
        <p:nvPicPr>
          <p:cNvPr id="1116" name="" descr=""/>
          <p:cNvPicPr/>
          <p:nvPr/>
        </p:nvPicPr>
        <p:blipFill>
          <a:blip r:embed="rId4"/>
          <a:stretch/>
        </p:blipFill>
        <p:spPr>
          <a:xfrm>
            <a:off x="1630440" y="5908680"/>
            <a:ext cx="656280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étodo de He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 [t,y]=heun(a,b,y0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h=(b-a)/n; t=a:h:b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y=zeros(size(t)); y(1)=y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or k=1: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k1=f(t(k),y(k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ykp=y(k)+h*k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k2=f(t(k+1),yk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y(k+1)=y(k)+h/2*(k1+k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en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étodo de Euler modifi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880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 integral de la ecuación difere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spcAft>
                <a:spcPts val="2880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oximación (Fórmula del punto med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880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oximación por Eul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880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étodo de Euler modifi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1"/>
          <a:stretch/>
        </p:blipFill>
        <p:spPr>
          <a:xfrm>
            <a:off x="2519280" y="2314440"/>
            <a:ext cx="4791240" cy="90324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/>
          <p:cNvPicPr/>
          <p:nvPr/>
        </p:nvPicPr>
        <p:blipFill>
          <a:blip r:embed="rId2"/>
          <a:stretch/>
        </p:blipFill>
        <p:spPr>
          <a:xfrm>
            <a:off x="1679400" y="3618000"/>
            <a:ext cx="6446880" cy="851040"/>
          </a:xfrm>
          <a:prstGeom prst="rect">
            <a:avLst/>
          </a:prstGeom>
          <a:ln w="0">
            <a:noFill/>
          </a:ln>
        </p:spPr>
      </p:pic>
      <p:pic>
        <p:nvPicPr>
          <p:cNvPr id="1123" name="" descr=""/>
          <p:cNvPicPr/>
          <p:nvPr/>
        </p:nvPicPr>
        <p:blipFill>
          <a:blip r:embed="rId3"/>
          <a:stretch/>
        </p:blipFill>
        <p:spPr>
          <a:xfrm>
            <a:off x="1762200" y="4870440"/>
            <a:ext cx="6289560" cy="47952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/>
          <p:cNvPicPr/>
          <p:nvPr/>
        </p:nvPicPr>
        <p:blipFill>
          <a:blip r:embed="rId4"/>
          <a:stretch/>
        </p:blipFill>
        <p:spPr>
          <a:xfrm>
            <a:off x="2336760" y="5942160"/>
            <a:ext cx="51386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étodo de Euler modifi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720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 [t,y]=eulermod(a,b,y0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720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h=(b-a)/n; t=a:h:b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720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y=zeros(size(t)); y(1)=y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720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or k=1: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720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yk2=y(k)+h/2*f(t(k),y(k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720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y(k+1)=y(k)+h*f(t(k)+h/2,yk2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720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en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étodo de Runge-Kut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880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 integral de la ecuación difere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60"/>
              </a:spcBef>
              <a:spcAft>
                <a:spcPts val="2880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oximación de la integral (Regla de Simp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2519280" y="2390760"/>
            <a:ext cx="4791240" cy="903240"/>
          </a:xfrm>
          <a:prstGeom prst="rect">
            <a:avLst/>
          </a:prstGeom>
          <a:ln w="0">
            <a:noFill/>
          </a:ln>
        </p:spPr>
      </p:pic>
      <p:pic>
        <p:nvPicPr>
          <p:cNvPr id="1130" name="" descr=""/>
          <p:cNvPicPr/>
          <p:nvPr/>
        </p:nvPicPr>
        <p:blipFill>
          <a:blip r:embed="rId2"/>
          <a:stretch/>
        </p:blipFill>
        <p:spPr>
          <a:xfrm>
            <a:off x="1486080" y="4105440"/>
            <a:ext cx="680256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étodo de Runge-Kutta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880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imaciones prev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spcAft>
                <a:spcPts val="2880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licación de la fórmu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1969920" y="5556240"/>
            <a:ext cx="5834160" cy="465120"/>
          </a:xfrm>
          <a:prstGeom prst="rect">
            <a:avLst/>
          </a:prstGeom>
          <a:ln w="0">
            <a:noFill/>
          </a:ln>
        </p:spPr>
      </p:pic>
      <p:pic>
        <p:nvPicPr>
          <p:cNvPr id="1134" name="" descr=""/>
          <p:cNvPicPr/>
          <p:nvPr/>
        </p:nvPicPr>
        <p:blipFill>
          <a:blip r:embed="rId2"/>
          <a:stretch/>
        </p:blipFill>
        <p:spPr>
          <a:xfrm>
            <a:off x="1969920" y="2449440"/>
            <a:ext cx="510228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étodo de Runge-Kut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1143000" y="1752480"/>
            <a:ext cx="7999560" cy="45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 [t,y]=rungekut(a,b,y0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h=(b-a)/n; t=a:h:b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y=zeros(size(t)); y(1)=y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or k=1: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k1=f(t(k),y(k)); tk2=t(k)+h/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k2=f(tk2,y(k)+h/2*k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k3=f(tk2,y(k)+h/2*k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k4=f(t(k+1),y(k)+h*k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y(k+1)=y(k)+h/6*(k1+2*k2+2*k3+k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en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uaciones Diferenciales Ordinari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oblemas de valor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ampo de dire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étodos numéricos para el problema de valor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étodo de E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étodo de He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étodo de Euler modifi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étodo de Runge-Ku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blemas de valor in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4079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uación difere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4079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ición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4079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: modelo de población de Verhul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336760" y="2664000"/>
            <a:ext cx="5062680" cy="536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030560" y="4008600"/>
            <a:ext cx="1674720" cy="552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676520" y="5468760"/>
            <a:ext cx="638172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mpo de dir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4079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vas solución de una ecuación difere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4079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diente de las curvas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4079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po de dire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317760" y="2664000"/>
            <a:ext cx="3691080" cy="527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52520" y="4035600"/>
            <a:ext cx="5821200" cy="527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577880" y="5559480"/>
            <a:ext cx="71708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mpo de dir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t=a:h:b; y=c:h: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[tt,yy] = meshgrid(t,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uno = ones(size(tt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dy = f(tt,y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iver(tt,yy,uno,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mpo de dir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1905120"/>
            <a:ext cx="7696080" cy="4791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6159600"/>
            <a:ext cx="592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95360" y="2287440"/>
            <a:ext cx="592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295360" y="2287440"/>
            <a:ext cx="0" cy="3872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221680" y="2287440"/>
            <a:ext cx="0" cy="3872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95360" y="22874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21680" y="6159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95360" y="6159600"/>
            <a:ext cx="592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295360" y="2287440"/>
            <a:ext cx="0" cy="3872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95360" y="6159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295360" y="61088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228744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44880" y="624060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281400" y="61088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81400" y="228744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38400" y="6240600"/>
            <a:ext cx="414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0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265640" y="61088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5640" y="228744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14800" y="624060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267160" y="61088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67160" y="228744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022720" y="6240600"/>
            <a:ext cx="414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251400" y="61088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51400" y="228744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00920" y="624060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237440" y="61088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7440" y="228744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993000" y="6240600"/>
            <a:ext cx="414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8221680" y="61088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21680" y="2287440"/>
            <a:ext cx="0" cy="52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070840" y="624060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95360" y="615960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8159760" y="615960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049480" y="595944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95360" y="57769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8159760" y="57769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881360" y="5576760"/>
            <a:ext cx="414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0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95360" y="538020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8159760" y="538020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049480" y="518004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95360" y="49975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8159760" y="49975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881360" y="4797360"/>
            <a:ext cx="414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95360" y="461340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8159760" y="461340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049480" y="441468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95360" y="42307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8159760" y="42307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881360" y="4030560"/>
            <a:ext cx="414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95360" y="383364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8159760" y="383364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049480" y="363528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95360" y="34513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8159760" y="34513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881360" y="3251160"/>
            <a:ext cx="414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95360" y="306720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8159760" y="306720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049480" y="286848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95360" y="26719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8159760" y="26719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881360" y="2471760"/>
            <a:ext cx="414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4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95360" y="228744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8159760" y="228744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049480" y="2089080"/>
            <a:ext cx="276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95360" y="6159600"/>
            <a:ext cx="592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95360" y="2287440"/>
            <a:ext cx="592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295360" y="2287440"/>
            <a:ext cx="0" cy="3872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8221680" y="2287440"/>
            <a:ext cx="0" cy="3872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95360" y="6159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21680" y="228744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95360" y="6159600"/>
            <a:ext cx="77760" cy="0"/>
          </a:xfrm>
          <a:custGeom>
            <a:avLst/>
            <a:gdLst/>
            <a:ahLst/>
            <a:rect l="0" t="0" r="r" b="b"/>
            <a:pathLst>
              <a:path fill="none" w="216" h="0">
                <a:moveTo>
                  <a:pt x="0" y="0"/>
                </a:moveTo>
                <a:lnTo>
                  <a:pt x="216" y="0"/>
                </a:lnTo>
                <a:lnTo>
                  <a:pt x="171" y="0"/>
                </a:lnTo>
                <a:lnTo>
                  <a:pt x="216" y="0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95360" y="597996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95360" y="5815080"/>
            <a:ext cx="78120" cy="38520"/>
          </a:xfrm>
          <a:custGeom>
            <a:avLst/>
            <a:gdLst/>
            <a:ahLst/>
            <a:rect l="0" t="0" r="r" b="b"/>
            <a:pathLst>
              <a:path fill="none" w="217" h="107">
                <a:moveTo>
                  <a:pt x="0" y="107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95360" y="5635800"/>
            <a:ext cx="78120" cy="63720"/>
          </a:xfrm>
          <a:custGeom>
            <a:avLst/>
            <a:gdLst/>
            <a:ahLst/>
            <a:rect l="0" t="0" r="r" b="b"/>
            <a:pathLst>
              <a:path fill="none" w="217" h="177">
                <a:moveTo>
                  <a:pt x="0" y="177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1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95360" y="5468760"/>
            <a:ext cx="78120" cy="78120"/>
          </a:xfrm>
          <a:custGeom>
            <a:avLst/>
            <a:gdLst/>
            <a:ahLst/>
            <a:rect l="0" t="0" r="r" b="b"/>
            <a:pathLst>
              <a:path fill="none" w="217" h="217">
                <a:moveTo>
                  <a:pt x="0" y="217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95360" y="530388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213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95360" y="513720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217" y="0"/>
                </a:lnTo>
                <a:lnTo>
                  <a:pt x="88" y="35"/>
                </a:lnTo>
                <a:lnTo>
                  <a:pt x="217" y="0"/>
                </a:lnTo>
                <a:lnTo>
                  <a:pt x="21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95360" y="497196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95360" y="481824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217" y="0"/>
                </a:lnTo>
                <a:lnTo>
                  <a:pt x="88" y="35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95360" y="465120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95360" y="4498920"/>
            <a:ext cx="78120" cy="114840"/>
          </a:xfrm>
          <a:custGeom>
            <a:avLst/>
            <a:gdLst/>
            <a:ahLst/>
            <a:rect l="0" t="0" r="r" b="b"/>
            <a:pathLst>
              <a:path fill="none" w="217" h="319">
                <a:moveTo>
                  <a:pt x="0" y="319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95360" y="434484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95360" y="4192560"/>
            <a:ext cx="78120" cy="114840"/>
          </a:xfrm>
          <a:custGeom>
            <a:avLst/>
            <a:gdLst/>
            <a:ahLst/>
            <a:rect l="0" t="0" r="r" b="b"/>
            <a:pathLst>
              <a:path fill="none" w="217" h="319">
                <a:moveTo>
                  <a:pt x="0" y="319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95360" y="405144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217" y="0"/>
                </a:lnTo>
                <a:lnTo>
                  <a:pt x="8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95360" y="3897360"/>
            <a:ext cx="78120" cy="90720"/>
          </a:xfrm>
          <a:custGeom>
            <a:avLst/>
            <a:gdLst/>
            <a:ahLst/>
            <a:rect l="0" t="0" r="r" b="b"/>
            <a:pathLst>
              <a:path fill="none" w="217" h="252">
                <a:moveTo>
                  <a:pt x="0" y="252"/>
                </a:moveTo>
                <a:lnTo>
                  <a:pt x="217" y="0"/>
                </a:lnTo>
                <a:lnTo>
                  <a:pt x="88" y="39"/>
                </a:lnTo>
                <a:lnTo>
                  <a:pt x="217" y="0"/>
                </a:lnTo>
                <a:lnTo>
                  <a:pt x="217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95360" y="375768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213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95360" y="3616200"/>
            <a:ext cx="78120" cy="65520"/>
          </a:xfrm>
          <a:custGeom>
            <a:avLst/>
            <a:gdLst/>
            <a:ahLst/>
            <a:rect l="0" t="0" r="r" b="b"/>
            <a:pathLst>
              <a:path fill="none" w="217" h="182">
                <a:moveTo>
                  <a:pt x="0" y="182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95360" y="347652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142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95360" y="3335400"/>
            <a:ext cx="78120" cy="39960"/>
          </a:xfrm>
          <a:custGeom>
            <a:avLst/>
            <a:gdLst/>
            <a:ahLst/>
            <a:rect l="0" t="0" r="r" b="b"/>
            <a:pathLst>
              <a:path fill="none" w="217" h="111">
                <a:moveTo>
                  <a:pt x="0" y="111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95360" y="319572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95360" y="305424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72"/>
                </a:lnTo>
                <a:lnTo>
                  <a:pt x="172" y="0"/>
                </a:lnTo>
                <a:lnTo>
                  <a:pt x="217" y="72"/>
                </a:lnTo>
                <a:lnTo>
                  <a:pt x="17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95360" y="290196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0"/>
                </a:moveTo>
                <a:lnTo>
                  <a:pt x="217" y="72"/>
                </a:lnTo>
                <a:lnTo>
                  <a:pt x="172" y="72"/>
                </a:lnTo>
                <a:lnTo>
                  <a:pt x="217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95360" y="274788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0"/>
                </a:moveTo>
                <a:lnTo>
                  <a:pt x="217" y="142"/>
                </a:lnTo>
                <a:lnTo>
                  <a:pt x="172" y="106"/>
                </a:lnTo>
                <a:lnTo>
                  <a:pt x="217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95360" y="259560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0"/>
                </a:moveTo>
                <a:lnTo>
                  <a:pt x="217" y="213"/>
                </a:lnTo>
                <a:lnTo>
                  <a:pt x="217" y="178"/>
                </a:lnTo>
                <a:lnTo>
                  <a:pt x="217" y="213"/>
                </a:lnTo>
                <a:lnTo>
                  <a:pt x="128" y="17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95360" y="244152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0"/>
                </a:moveTo>
                <a:lnTo>
                  <a:pt x="217" y="283"/>
                </a:lnTo>
                <a:lnTo>
                  <a:pt x="217" y="247"/>
                </a:lnTo>
                <a:lnTo>
                  <a:pt x="217" y="283"/>
                </a:lnTo>
                <a:lnTo>
                  <a:pt x="88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95360" y="2287440"/>
            <a:ext cx="78120" cy="141480"/>
          </a:xfrm>
          <a:custGeom>
            <a:avLst/>
            <a:gdLst/>
            <a:ahLst/>
            <a:rect l="0" t="0" r="r" b="b"/>
            <a:pathLst>
              <a:path fill="none" w="217" h="393">
                <a:moveTo>
                  <a:pt x="0" y="0"/>
                </a:moveTo>
                <a:lnTo>
                  <a:pt x="217" y="393"/>
                </a:lnTo>
                <a:lnTo>
                  <a:pt x="217" y="287"/>
                </a:lnTo>
                <a:lnTo>
                  <a:pt x="217" y="393"/>
                </a:lnTo>
                <a:lnTo>
                  <a:pt x="88" y="32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95680" y="6159600"/>
            <a:ext cx="61560" cy="0"/>
          </a:xfrm>
          <a:custGeom>
            <a:avLst/>
            <a:gdLst/>
            <a:ahLst/>
            <a:rect l="0" t="0" r="r" b="b"/>
            <a:pathLst>
              <a:path fill="none" w="171" h="0">
                <a:moveTo>
                  <a:pt x="0" y="0"/>
                </a:moveTo>
                <a:lnTo>
                  <a:pt x="171" y="0"/>
                </a:lnTo>
                <a:lnTo>
                  <a:pt x="127" y="0"/>
                </a:lnTo>
                <a:lnTo>
                  <a:pt x="171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95680" y="597996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72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95680" y="5815080"/>
            <a:ext cx="62280" cy="38520"/>
          </a:xfrm>
          <a:custGeom>
            <a:avLst/>
            <a:gdLst/>
            <a:ahLst/>
            <a:rect l="0" t="0" r="r" b="b"/>
            <a:pathLst>
              <a:path fill="none" w="173" h="107">
                <a:moveTo>
                  <a:pt x="0" y="107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95680" y="5635800"/>
            <a:ext cx="62280" cy="63720"/>
          </a:xfrm>
          <a:custGeom>
            <a:avLst/>
            <a:gdLst/>
            <a:ahLst/>
            <a:rect l="0" t="0" r="r" b="b"/>
            <a:pathLst>
              <a:path fill="none" w="173" h="177">
                <a:moveTo>
                  <a:pt x="0" y="177"/>
                </a:moveTo>
                <a:lnTo>
                  <a:pt x="173" y="0"/>
                </a:lnTo>
                <a:lnTo>
                  <a:pt x="128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95680" y="5468760"/>
            <a:ext cx="62280" cy="78120"/>
          </a:xfrm>
          <a:custGeom>
            <a:avLst/>
            <a:gdLst/>
            <a:ahLst/>
            <a:rect l="0" t="0" r="r" b="b"/>
            <a:pathLst>
              <a:path fill="none" w="173" h="217">
                <a:moveTo>
                  <a:pt x="0" y="217"/>
                </a:moveTo>
                <a:lnTo>
                  <a:pt x="173" y="0"/>
                </a:lnTo>
                <a:lnTo>
                  <a:pt x="89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95680" y="5303880"/>
            <a:ext cx="62280" cy="76680"/>
          </a:xfrm>
          <a:custGeom>
            <a:avLst/>
            <a:gdLst/>
            <a:ahLst/>
            <a:rect l="0" t="0" r="r" b="b"/>
            <a:pathLst>
              <a:path fill="none" w="173" h="213">
                <a:moveTo>
                  <a:pt x="0" y="213"/>
                </a:moveTo>
                <a:lnTo>
                  <a:pt x="173" y="0"/>
                </a:lnTo>
                <a:lnTo>
                  <a:pt x="89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95680" y="513720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172" y="0"/>
                </a:lnTo>
                <a:lnTo>
                  <a:pt x="88" y="35"/>
                </a:lnTo>
                <a:lnTo>
                  <a:pt x="172" y="0"/>
                </a:lnTo>
                <a:lnTo>
                  <a:pt x="21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95680" y="497196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172" y="0"/>
                </a:lnTo>
                <a:lnTo>
                  <a:pt x="88" y="70"/>
                </a:lnTo>
                <a:lnTo>
                  <a:pt x="172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95680" y="481824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172" y="0"/>
                </a:lnTo>
                <a:lnTo>
                  <a:pt x="88" y="35"/>
                </a:lnTo>
                <a:lnTo>
                  <a:pt x="172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95680" y="465120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172" y="0"/>
                </a:lnTo>
                <a:lnTo>
                  <a:pt x="88" y="70"/>
                </a:lnTo>
                <a:lnTo>
                  <a:pt x="172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95680" y="4498920"/>
            <a:ext cx="78120" cy="114840"/>
          </a:xfrm>
          <a:custGeom>
            <a:avLst/>
            <a:gdLst/>
            <a:ahLst/>
            <a:rect l="0" t="0" r="r" b="b"/>
            <a:pathLst>
              <a:path fill="none" w="217" h="319">
                <a:moveTo>
                  <a:pt x="0" y="319"/>
                </a:moveTo>
                <a:lnTo>
                  <a:pt x="172" y="0"/>
                </a:lnTo>
                <a:lnTo>
                  <a:pt x="88" y="70"/>
                </a:lnTo>
                <a:lnTo>
                  <a:pt x="172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95680" y="434484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172" y="0"/>
                </a:lnTo>
                <a:lnTo>
                  <a:pt x="88" y="70"/>
                </a:lnTo>
                <a:lnTo>
                  <a:pt x="172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95680" y="4192560"/>
            <a:ext cx="78120" cy="114840"/>
          </a:xfrm>
          <a:custGeom>
            <a:avLst/>
            <a:gdLst/>
            <a:ahLst/>
            <a:rect l="0" t="0" r="r" b="b"/>
            <a:pathLst>
              <a:path fill="none" w="217" h="319">
                <a:moveTo>
                  <a:pt x="0" y="319"/>
                </a:moveTo>
                <a:lnTo>
                  <a:pt x="172" y="0"/>
                </a:lnTo>
                <a:lnTo>
                  <a:pt x="88" y="70"/>
                </a:lnTo>
                <a:lnTo>
                  <a:pt x="172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95680" y="405144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172" y="0"/>
                </a:lnTo>
                <a:lnTo>
                  <a:pt x="88" y="35"/>
                </a:lnTo>
                <a:lnTo>
                  <a:pt x="172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95680" y="3897360"/>
            <a:ext cx="78120" cy="90720"/>
          </a:xfrm>
          <a:custGeom>
            <a:avLst/>
            <a:gdLst/>
            <a:ahLst/>
            <a:rect l="0" t="0" r="r" b="b"/>
            <a:pathLst>
              <a:path fill="none" w="217" h="252">
                <a:moveTo>
                  <a:pt x="0" y="252"/>
                </a:moveTo>
                <a:lnTo>
                  <a:pt x="172" y="0"/>
                </a:lnTo>
                <a:lnTo>
                  <a:pt x="88" y="39"/>
                </a:lnTo>
                <a:lnTo>
                  <a:pt x="172" y="0"/>
                </a:lnTo>
                <a:lnTo>
                  <a:pt x="217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95680" y="3757680"/>
            <a:ext cx="62280" cy="76680"/>
          </a:xfrm>
          <a:custGeom>
            <a:avLst/>
            <a:gdLst/>
            <a:ahLst/>
            <a:rect l="0" t="0" r="r" b="b"/>
            <a:pathLst>
              <a:path fill="none" w="173" h="213">
                <a:moveTo>
                  <a:pt x="0" y="213"/>
                </a:moveTo>
                <a:lnTo>
                  <a:pt x="173" y="0"/>
                </a:lnTo>
                <a:lnTo>
                  <a:pt x="89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95680" y="3616200"/>
            <a:ext cx="62280" cy="65520"/>
          </a:xfrm>
          <a:custGeom>
            <a:avLst/>
            <a:gdLst/>
            <a:ahLst/>
            <a:rect l="0" t="0" r="r" b="b"/>
            <a:pathLst>
              <a:path fill="none" w="173" h="182">
                <a:moveTo>
                  <a:pt x="0" y="182"/>
                </a:moveTo>
                <a:lnTo>
                  <a:pt x="173" y="0"/>
                </a:lnTo>
                <a:lnTo>
                  <a:pt x="89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95680" y="3476520"/>
            <a:ext cx="62280" cy="51120"/>
          </a:xfrm>
          <a:custGeom>
            <a:avLst/>
            <a:gdLst/>
            <a:ahLst/>
            <a:rect l="0" t="0" r="r" b="b"/>
            <a:pathLst>
              <a:path fill="none" w="173" h="142">
                <a:moveTo>
                  <a:pt x="0" y="142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95680" y="3335400"/>
            <a:ext cx="62280" cy="39960"/>
          </a:xfrm>
          <a:custGeom>
            <a:avLst/>
            <a:gdLst/>
            <a:ahLst/>
            <a:rect l="0" t="0" r="r" b="b"/>
            <a:pathLst>
              <a:path fill="none" w="173" h="111">
                <a:moveTo>
                  <a:pt x="0" y="111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95680" y="319572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72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95680" y="305424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72"/>
                </a:moveTo>
                <a:lnTo>
                  <a:pt x="173" y="72"/>
                </a:lnTo>
                <a:lnTo>
                  <a:pt x="128" y="0"/>
                </a:lnTo>
                <a:lnTo>
                  <a:pt x="173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95680" y="290196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0"/>
                </a:moveTo>
                <a:lnTo>
                  <a:pt x="173" y="72"/>
                </a:lnTo>
                <a:lnTo>
                  <a:pt x="173" y="72"/>
                </a:lnTo>
                <a:lnTo>
                  <a:pt x="173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95680" y="2747880"/>
            <a:ext cx="62280" cy="51120"/>
          </a:xfrm>
          <a:custGeom>
            <a:avLst/>
            <a:gdLst/>
            <a:ahLst/>
            <a:rect l="0" t="0" r="r" b="b"/>
            <a:pathLst>
              <a:path fill="none" w="173" h="142">
                <a:moveTo>
                  <a:pt x="0" y="0"/>
                </a:moveTo>
                <a:lnTo>
                  <a:pt x="173" y="142"/>
                </a:lnTo>
                <a:lnTo>
                  <a:pt x="173" y="106"/>
                </a:lnTo>
                <a:lnTo>
                  <a:pt x="173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95680" y="2595600"/>
            <a:ext cx="62280" cy="76680"/>
          </a:xfrm>
          <a:custGeom>
            <a:avLst/>
            <a:gdLst/>
            <a:ahLst/>
            <a:rect l="0" t="0" r="r" b="b"/>
            <a:pathLst>
              <a:path fill="none" w="173" h="213">
                <a:moveTo>
                  <a:pt x="0" y="0"/>
                </a:moveTo>
                <a:lnTo>
                  <a:pt x="173" y="213"/>
                </a:lnTo>
                <a:lnTo>
                  <a:pt x="173" y="178"/>
                </a:lnTo>
                <a:lnTo>
                  <a:pt x="173" y="213"/>
                </a:lnTo>
                <a:lnTo>
                  <a:pt x="89" y="17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95680" y="244152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0"/>
                </a:moveTo>
                <a:lnTo>
                  <a:pt x="172" y="283"/>
                </a:lnTo>
                <a:lnTo>
                  <a:pt x="217" y="247"/>
                </a:lnTo>
                <a:lnTo>
                  <a:pt x="172" y="283"/>
                </a:lnTo>
                <a:lnTo>
                  <a:pt x="88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95680" y="2287440"/>
            <a:ext cx="78120" cy="141480"/>
          </a:xfrm>
          <a:custGeom>
            <a:avLst/>
            <a:gdLst/>
            <a:ahLst/>
            <a:rect l="0" t="0" r="r" b="b"/>
            <a:pathLst>
              <a:path fill="none" w="217" h="393">
                <a:moveTo>
                  <a:pt x="0" y="0"/>
                </a:moveTo>
                <a:lnTo>
                  <a:pt x="172" y="393"/>
                </a:lnTo>
                <a:lnTo>
                  <a:pt x="217" y="287"/>
                </a:lnTo>
                <a:lnTo>
                  <a:pt x="172" y="393"/>
                </a:lnTo>
                <a:lnTo>
                  <a:pt x="44" y="32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81240" y="6159600"/>
            <a:ext cx="75960" cy="0"/>
          </a:xfrm>
          <a:custGeom>
            <a:avLst/>
            <a:gdLst/>
            <a:ahLst/>
            <a:rect l="0" t="0" r="r" b="b"/>
            <a:pathLst>
              <a:path fill="none" w="211" h="0">
                <a:moveTo>
                  <a:pt x="0" y="0"/>
                </a:moveTo>
                <a:lnTo>
                  <a:pt x="211" y="0"/>
                </a:lnTo>
                <a:lnTo>
                  <a:pt x="171" y="0"/>
                </a:lnTo>
                <a:lnTo>
                  <a:pt x="211" y="0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81240" y="59799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73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81240" y="581508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107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81240" y="5635800"/>
            <a:ext cx="76680" cy="63720"/>
          </a:xfrm>
          <a:custGeom>
            <a:avLst/>
            <a:gdLst/>
            <a:ahLst/>
            <a:rect l="0" t="0" r="r" b="b"/>
            <a:pathLst>
              <a:path fill="none" w="213" h="177">
                <a:moveTo>
                  <a:pt x="0" y="17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81240" y="5468760"/>
            <a:ext cx="76680" cy="78120"/>
          </a:xfrm>
          <a:custGeom>
            <a:avLst/>
            <a:gdLst/>
            <a:ahLst/>
            <a:rect l="0" t="0" r="r" b="b"/>
            <a:pathLst>
              <a:path fill="none" w="213" h="217">
                <a:moveTo>
                  <a:pt x="0" y="21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81240" y="5303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81240" y="513720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81240" y="497196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81240" y="481824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81240" y="465120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81240" y="449892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81240" y="434484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240" y="419256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81240" y="405144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81240" y="3897360"/>
            <a:ext cx="76680" cy="90720"/>
          </a:xfrm>
          <a:custGeom>
            <a:avLst/>
            <a:gdLst/>
            <a:ahLst/>
            <a:rect l="0" t="0" r="r" b="b"/>
            <a:pathLst>
              <a:path fill="none" w="213" h="252">
                <a:moveTo>
                  <a:pt x="0" y="252"/>
                </a:moveTo>
                <a:lnTo>
                  <a:pt x="213" y="0"/>
                </a:lnTo>
                <a:lnTo>
                  <a:pt x="128" y="39"/>
                </a:lnTo>
                <a:lnTo>
                  <a:pt x="213" y="0"/>
                </a:lnTo>
                <a:lnTo>
                  <a:pt x="213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81240" y="37576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81240" y="3616200"/>
            <a:ext cx="76680" cy="65520"/>
          </a:xfrm>
          <a:custGeom>
            <a:avLst/>
            <a:gdLst/>
            <a:ahLst/>
            <a:rect l="0" t="0" r="r" b="b"/>
            <a:pathLst>
              <a:path fill="none" w="213" h="182">
                <a:moveTo>
                  <a:pt x="0" y="182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81240" y="347652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14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81240" y="3335400"/>
            <a:ext cx="76680" cy="39960"/>
          </a:xfrm>
          <a:custGeom>
            <a:avLst/>
            <a:gdLst/>
            <a:ahLst/>
            <a:rect l="0" t="0" r="r" b="b"/>
            <a:pathLst>
              <a:path fill="none" w="213" h="111">
                <a:moveTo>
                  <a:pt x="0" y="111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81240" y="319572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73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81240" y="305424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72"/>
                </a:lnTo>
                <a:lnTo>
                  <a:pt x="173" y="0"/>
                </a:lnTo>
                <a:lnTo>
                  <a:pt x="213" y="72"/>
                </a:lnTo>
                <a:lnTo>
                  <a:pt x="17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81240" y="29019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0"/>
                </a:moveTo>
                <a:lnTo>
                  <a:pt x="213" y="72"/>
                </a:lnTo>
                <a:lnTo>
                  <a:pt x="173" y="72"/>
                </a:lnTo>
                <a:lnTo>
                  <a:pt x="213" y="72"/>
                </a:lnTo>
                <a:lnTo>
                  <a:pt x="17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81240" y="274788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0"/>
                </a:moveTo>
                <a:lnTo>
                  <a:pt x="213" y="142"/>
                </a:lnTo>
                <a:lnTo>
                  <a:pt x="213" y="106"/>
                </a:lnTo>
                <a:lnTo>
                  <a:pt x="213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81240" y="25956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0"/>
                </a:moveTo>
                <a:lnTo>
                  <a:pt x="213" y="213"/>
                </a:lnTo>
                <a:lnTo>
                  <a:pt x="213" y="178"/>
                </a:lnTo>
                <a:lnTo>
                  <a:pt x="213" y="213"/>
                </a:lnTo>
                <a:lnTo>
                  <a:pt x="128" y="17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81240" y="24415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0"/>
                </a:moveTo>
                <a:lnTo>
                  <a:pt x="213" y="283"/>
                </a:lnTo>
                <a:lnTo>
                  <a:pt x="213" y="247"/>
                </a:lnTo>
                <a:lnTo>
                  <a:pt x="213" y="283"/>
                </a:lnTo>
                <a:lnTo>
                  <a:pt x="128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81240" y="2287440"/>
            <a:ext cx="92520" cy="141480"/>
          </a:xfrm>
          <a:custGeom>
            <a:avLst/>
            <a:gdLst/>
            <a:ahLst/>
            <a:rect l="0" t="0" r="r" b="b"/>
            <a:pathLst>
              <a:path fill="none" w="257" h="393">
                <a:moveTo>
                  <a:pt x="0" y="0"/>
                </a:moveTo>
                <a:lnTo>
                  <a:pt x="213" y="393"/>
                </a:lnTo>
                <a:lnTo>
                  <a:pt x="257" y="287"/>
                </a:lnTo>
                <a:lnTo>
                  <a:pt x="213" y="393"/>
                </a:lnTo>
                <a:lnTo>
                  <a:pt x="84" y="32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81560" y="6159600"/>
            <a:ext cx="75960" cy="0"/>
          </a:xfrm>
          <a:custGeom>
            <a:avLst/>
            <a:gdLst/>
            <a:ahLst/>
            <a:rect l="0" t="0" r="r" b="b"/>
            <a:pathLst>
              <a:path fill="none" w="211" h="0">
                <a:moveTo>
                  <a:pt x="0" y="0"/>
                </a:moveTo>
                <a:lnTo>
                  <a:pt x="211" y="0"/>
                </a:lnTo>
                <a:lnTo>
                  <a:pt x="171" y="0"/>
                </a:lnTo>
                <a:lnTo>
                  <a:pt x="211" y="0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81560" y="59799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81560" y="581508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107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81560" y="5635800"/>
            <a:ext cx="76680" cy="63720"/>
          </a:xfrm>
          <a:custGeom>
            <a:avLst/>
            <a:gdLst/>
            <a:ahLst/>
            <a:rect l="0" t="0" r="r" b="b"/>
            <a:pathLst>
              <a:path fill="none" w="213" h="177">
                <a:moveTo>
                  <a:pt x="0" y="17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81560" y="5468760"/>
            <a:ext cx="76680" cy="78120"/>
          </a:xfrm>
          <a:custGeom>
            <a:avLst/>
            <a:gdLst/>
            <a:ahLst/>
            <a:rect l="0" t="0" r="r" b="b"/>
            <a:pathLst>
              <a:path fill="none" w="213" h="217">
                <a:moveTo>
                  <a:pt x="0" y="21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81560" y="5303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81560" y="513720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84" y="35"/>
                </a:lnTo>
                <a:lnTo>
                  <a:pt x="213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81560" y="497196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81560" y="481824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84" y="35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81560" y="465120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81560" y="449892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81560" y="434484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81560" y="419256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81560" y="405144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84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81560" y="3897360"/>
            <a:ext cx="76680" cy="90720"/>
          </a:xfrm>
          <a:custGeom>
            <a:avLst/>
            <a:gdLst/>
            <a:ahLst/>
            <a:rect l="0" t="0" r="r" b="b"/>
            <a:pathLst>
              <a:path fill="none" w="213" h="252">
                <a:moveTo>
                  <a:pt x="0" y="252"/>
                </a:moveTo>
                <a:lnTo>
                  <a:pt x="213" y="0"/>
                </a:lnTo>
                <a:lnTo>
                  <a:pt x="84" y="39"/>
                </a:lnTo>
                <a:lnTo>
                  <a:pt x="213" y="0"/>
                </a:lnTo>
                <a:lnTo>
                  <a:pt x="213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81560" y="37576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81560" y="3616200"/>
            <a:ext cx="76680" cy="65520"/>
          </a:xfrm>
          <a:custGeom>
            <a:avLst/>
            <a:gdLst/>
            <a:ahLst/>
            <a:rect l="0" t="0" r="r" b="b"/>
            <a:pathLst>
              <a:path fill="none" w="213" h="182">
                <a:moveTo>
                  <a:pt x="0" y="182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81560" y="347652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14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81560" y="3335400"/>
            <a:ext cx="76680" cy="39960"/>
          </a:xfrm>
          <a:custGeom>
            <a:avLst/>
            <a:gdLst/>
            <a:ahLst/>
            <a:rect l="0" t="0" r="r" b="b"/>
            <a:pathLst>
              <a:path fill="none" w="213" h="111">
                <a:moveTo>
                  <a:pt x="0" y="111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81560" y="319572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81560" y="305424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72"/>
                </a:lnTo>
                <a:lnTo>
                  <a:pt x="173" y="0"/>
                </a:lnTo>
                <a:lnTo>
                  <a:pt x="213" y="72"/>
                </a:lnTo>
                <a:lnTo>
                  <a:pt x="17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81560" y="29019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0"/>
                </a:moveTo>
                <a:lnTo>
                  <a:pt x="213" y="72"/>
                </a:lnTo>
                <a:lnTo>
                  <a:pt x="173" y="72"/>
                </a:lnTo>
                <a:lnTo>
                  <a:pt x="213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81560" y="274788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0"/>
                </a:moveTo>
                <a:lnTo>
                  <a:pt x="213" y="142"/>
                </a:lnTo>
                <a:lnTo>
                  <a:pt x="173" y="106"/>
                </a:lnTo>
                <a:lnTo>
                  <a:pt x="213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81560" y="25956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0"/>
                </a:moveTo>
                <a:lnTo>
                  <a:pt x="213" y="213"/>
                </a:lnTo>
                <a:lnTo>
                  <a:pt x="213" y="178"/>
                </a:lnTo>
                <a:lnTo>
                  <a:pt x="213" y="213"/>
                </a:lnTo>
                <a:lnTo>
                  <a:pt x="128" y="17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81560" y="24415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0"/>
                </a:moveTo>
                <a:lnTo>
                  <a:pt x="213" y="283"/>
                </a:lnTo>
                <a:lnTo>
                  <a:pt x="213" y="247"/>
                </a:lnTo>
                <a:lnTo>
                  <a:pt x="213" y="283"/>
                </a:lnTo>
                <a:lnTo>
                  <a:pt x="84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81560" y="2287440"/>
            <a:ext cx="76680" cy="141480"/>
          </a:xfrm>
          <a:custGeom>
            <a:avLst/>
            <a:gdLst/>
            <a:ahLst/>
            <a:rect l="0" t="0" r="r" b="b"/>
            <a:pathLst>
              <a:path fill="none" w="213" h="393">
                <a:moveTo>
                  <a:pt x="0" y="0"/>
                </a:moveTo>
                <a:lnTo>
                  <a:pt x="213" y="393"/>
                </a:lnTo>
                <a:lnTo>
                  <a:pt x="213" y="287"/>
                </a:lnTo>
                <a:lnTo>
                  <a:pt x="213" y="393"/>
                </a:lnTo>
                <a:lnTo>
                  <a:pt x="84" y="32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1520" y="6159600"/>
            <a:ext cx="61560" cy="0"/>
          </a:xfrm>
          <a:custGeom>
            <a:avLst/>
            <a:gdLst/>
            <a:ahLst/>
            <a:rect l="0" t="0" r="r" b="b"/>
            <a:pathLst>
              <a:path fill="none" w="171" h="0">
                <a:moveTo>
                  <a:pt x="0" y="0"/>
                </a:moveTo>
                <a:lnTo>
                  <a:pt x="171" y="0"/>
                </a:lnTo>
                <a:lnTo>
                  <a:pt x="127" y="0"/>
                </a:lnTo>
                <a:lnTo>
                  <a:pt x="171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81520" y="597996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72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81520" y="5815080"/>
            <a:ext cx="62280" cy="38520"/>
          </a:xfrm>
          <a:custGeom>
            <a:avLst/>
            <a:gdLst/>
            <a:ahLst/>
            <a:rect l="0" t="0" r="r" b="b"/>
            <a:pathLst>
              <a:path fill="none" w="173" h="107">
                <a:moveTo>
                  <a:pt x="0" y="107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81520" y="5635800"/>
            <a:ext cx="62280" cy="63720"/>
          </a:xfrm>
          <a:custGeom>
            <a:avLst/>
            <a:gdLst/>
            <a:ahLst/>
            <a:rect l="0" t="0" r="r" b="b"/>
            <a:pathLst>
              <a:path fill="none" w="173" h="177">
                <a:moveTo>
                  <a:pt x="0" y="177"/>
                </a:moveTo>
                <a:lnTo>
                  <a:pt x="173" y="0"/>
                </a:lnTo>
                <a:lnTo>
                  <a:pt x="128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1520" y="5468760"/>
            <a:ext cx="62280" cy="78120"/>
          </a:xfrm>
          <a:custGeom>
            <a:avLst/>
            <a:gdLst/>
            <a:ahLst/>
            <a:rect l="0" t="0" r="r" b="b"/>
            <a:pathLst>
              <a:path fill="none" w="173" h="217">
                <a:moveTo>
                  <a:pt x="0" y="217"/>
                </a:moveTo>
                <a:lnTo>
                  <a:pt x="173" y="0"/>
                </a:lnTo>
                <a:lnTo>
                  <a:pt x="84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1520" y="5303880"/>
            <a:ext cx="62280" cy="76680"/>
          </a:xfrm>
          <a:custGeom>
            <a:avLst/>
            <a:gdLst/>
            <a:ahLst/>
            <a:rect l="0" t="0" r="r" b="b"/>
            <a:pathLst>
              <a:path fill="none" w="173" h="213">
                <a:moveTo>
                  <a:pt x="0" y="213"/>
                </a:moveTo>
                <a:lnTo>
                  <a:pt x="173" y="0"/>
                </a:lnTo>
                <a:lnTo>
                  <a:pt x="84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81520" y="513720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173" y="0"/>
                </a:lnTo>
                <a:lnTo>
                  <a:pt x="84" y="35"/>
                </a:lnTo>
                <a:lnTo>
                  <a:pt x="173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81520" y="497196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173" y="0"/>
                </a:lnTo>
                <a:lnTo>
                  <a:pt x="84" y="70"/>
                </a:lnTo>
                <a:lnTo>
                  <a:pt x="17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1520" y="481824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173" y="0"/>
                </a:lnTo>
                <a:lnTo>
                  <a:pt x="84" y="35"/>
                </a:lnTo>
                <a:lnTo>
                  <a:pt x="17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81520" y="465120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173" y="0"/>
                </a:lnTo>
                <a:lnTo>
                  <a:pt x="84" y="70"/>
                </a:lnTo>
                <a:lnTo>
                  <a:pt x="17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81520" y="449892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173" y="0"/>
                </a:lnTo>
                <a:lnTo>
                  <a:pt x="84" y="70"/>
                </a:lnTo>
                <a:lnTo>
                  <a:pt x="17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81520" y="434484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173" y="0"/>
                </a:lnTo>
                <a:lnTo>
                  <a:pt x="84" y="70"/>
                </a:lnTo>
                <a:lnTo>
                  <a:pt x="17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1520" y="419256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173" y="0"/>
                </a:lnTo>
                <a:lnTo>
                  <a:pt x="84" y="70"/>
                </a:lnTo>
                <a:lnTo>
                  <a:pt x="17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81520" y="405144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173" y="0"/>
                </a:lnTo>
                <a:lnTo>
                  <a:pt x="84" y="35"/>
                </a:lnTo>
                <a:lnTo>
                  <a:pt x="17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81520" y="3897360"/>
            <a:ext cx="76680" cy="90720"/>
          </a:xfrm>
          <a:custGeom>
            <a:avLst/>
            <a:gdLst/>
            <a:ahLst/>
            <a:rect l="0" t="0" r="r" b="b"/>
            <a:pathLst>
              <a:path fill="none" w="213" h="252">
                <a:moveTo>
                  <a:pt x="0" y="252"/>
                </a:moveTo>
                <a:lnTo>
                  <a:pt x="173" y="0"/>
                </a:lnTo>
                <a:lnTo>
                  <a:pt x="84" y="39"/>
                </a:lnTo>
                <a:lnTo>
                  <a:pt x="173" y="0"/>
                </a:lnTo>
                <a:lnTo>
                  <a:pt x="213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81520" y="3757680"/>
            <a:ext cx="62280" cy="76680"/>
          </a:xfrm>
          <a:custGeom>
            <a:avLst/>
            <a:gdLst/>
            <a:ahLst/>
            <a:rect l="0" t="0" r="r" b="b"/>
            <a:pathLst>
              <a:path fill="none" w="173" h="213">
                <a:moveTo>
                  <a:pt x="0" y="213"/>
                </a:moveTo>
                <a:lnTo>
                  <a:pt x="173" y="0"/>
                </a:lnTo>
                <a:lnTo>
                  <a:pt x="84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1520" y="3616200"/>
            <a:ext cx="62280" cy="65520"/>
          </a:xfrm>
          <a:custGeom>
            <a:avLst/>
            <a:gdLst/>
            <a:ahLst/>
            <a:rect l="0" t="0" r="r" b="b"/>
            <a:pathLst>
              <a:path fill="none" w="173" h="182">
                <a:moveTo>
                  <a:pt x="0" y="182"/>
                </a:moveTo>
                <a:lnTo>
                  <a:pt x="173" y="0"/>
                </a:lnTo>
                <a:lnTo>
                  <a:pt x="84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81520" y="3476520"/>
            <a:ext cx="62280" cy="51120"/>
          </a:xfrm>
          <a:custGeom>
            <a:avLst/>
            <a:gdLst/>
            <a:ahLst/>
            <a:rect l="0" t="0" r="r" b="b"/>
            <a:pathLst>
              <a:path fill="none" w="173" h="142">
                <a:moveTo>
                  <a:pt x="0" y="142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81520" y="3335400"/>
            <a:ext cx="62280" cy="39960"/>
          </a:xfrm>
          <a:custGeom>
            <a:avLst/>
            <a:gdLst/>
            <a:ahLst/>
            <a:rect l="0" t="0" r="r" b="b"/>
            <a:pathLst>
              <a:path fill="none" w="173" h="111">
                <a:moveTo>
                  <a:pt x="0" y="111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81520" y="319572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72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81520" y="305424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72"/>
                </a:moveTo>
                <a:lnTo>
                  <a:pt x="173" y="72"/>
                </a:lnTo>
                <a:lnTo>
                  <a:pt x="128" y="0"/>
                </a:lnTo>
                <a:lnTo>
                  <a:pt x="173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81520" y="290196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0"/>
                </a:moveTo>
                <a:lnTo>
                  <a:pt x="173" y="72"/>
                </a:lnTo>
                <a:lnTo>
                  <a:pt x="173" y="72"/>
                </a:lnTo>
                <a:lnTo>
                  <a:pt x="173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81520" y="2747880"/>
            <a:ext cx="62280" cy="51120"/>
          </a:xfrm>
          <a:custGeom>
            <a:avLst/>
            <a:gdLst/>
            <a:ahLst/>
            <a:rect l="0" t="0" r="r" b="b"/>
            <a:pathLst>
              <a:path fill="none" w="173" h="142">
                <a:moveTo>
                  <a:pt x="0" y="0"/>
                </a:moveTo>
                <a:lnTo>
                  <a:pt x="173" y="142"/>
                </a:lnTo>
                <a:lnTo>
                  <a:pt x="173" y="106"/>
                </a:lnTo>
                <a:lnTo>
                  <a:pt x="173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81520" y="2595600"/>
            <a:ext cx="62280" cy="76680"/>
          </a:xfrm>
          <a:custGeom>
            <a:avLst/>
            <a:gdLst/>
            <a:ahLst/>
            <a:rect l="0" t="0" r="r" b="b"/>
            <a:pathLst>
              <a:path fill="none" w="173" h="213">
                <a:moveTo>
                  <a:pt x="0" y="0"/>
                </a:moveTo>
                <a:lnTo>
                  <a:pt x="173" y="213"/>
                </a:lnTo>
                <a:lnTo>
                  <a:pt x="173" y="178"/>
                </a:lnTo>
                <a:lnTo>
                  <a:pt x="173" y="213"/>
                </a:lnTo>
                <a:lnTo>
                  <a:pt x="84" y="17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81520" y="24415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0"/>
                </a:moveTo>
                <a:lnTo>
                  <a:pt x="173" y="283"/>
                </a:lnTo>
                <a:lnTo>
                  <a:pt x="213" y="247"/>
                </a:lnTo>
                <a:lnTo>
                  <a:pt x="173" y="283"/>
                </a:lnTo>
                <a:lnTo>
                  <a:pt x="84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81520" y="2287440"/>
            <a:ext cx="76680" cy="141480"/>
          </a:xfrm>
          <a:custGeom>
            <a:avLst/>
            <a:gdLst/>
            <a:ahLst/>
            <a:rect l="0" t="0" r="r" b="b"/>
            <a:pathLst>
              <a:path fill="none" w="213" h="393">
                <a:moveTo>
                  <a:pt x="0" y="0"/>
                </a:moveTo>
                <a:lnTo>
                  <a:pt x="173" y="393"/>
                </a:lnTo>
                <a:lnTo>
                  <a:pt x="213" y="287"/>
                </a:lnTo>
                <a:lnTo>
                  <a:pt x="173" y="393"/>
                </a:lnTo>
                <a:lnTo>
                  <a:pt x="44" y="32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5640" y="6159600"/>
            <a:ext cx="77760" cy="0"/>
          </a:xfrm>
          <a:custGeom>
            <a:avLst/>
            <a:gdLst/>
            <a:ahLst/>
            <a:rect l="0" t="0" r="r" b="b"/>
            <a:pathLst>
              <a:path fill="none" w="216" h="0">
                <a:moveTo>
                  <a:pt x="0" y="0"/>
                </a:moveTo>
                <a:lnTo>
                  <a:pt x="216" y="0"/>
                </a:lnTo>
                <a:lnTo>
                  <a:pt x="171" y="0"/>
                </a:lnTo>
                <a:lnTo>
                  <a:pt x="216" y="0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65640" y="597996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0"/>
                </a:lnTo>
                <a:lnTo>
                  <a:pt x="172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265640" y="5815080"/>
            <a:ext cx="78120" cy="38520"/>
          </a:xfrm>
          <a:custGeom>
            <a:avLst/>
            <a:gdLst/>
            <a:ahLst/>
            <a:rect l="0" t="0" r="r" b="b"/>
            <a:pathLst>
              <a:path fill="none" w="217" h="107">
                <a:moveTo>
                  <a:pt x="0" y="107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65640" y="5635800"/>
            <a:ext cx="78120" cy="63720"/>
          </a:xfrm>
          <a:custGeom>
            <a:avLst/>
            <a:gdLst/>
            <a:ahLst/>
            <a:rect l="0" t="0" r="r" b="b"/>
            <a:pathLst>
              <a:path fill="none" w="217" h="177">
                <a:moveTo>
                  <a:pt x="0" y="177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65640" y="5468760"/>
            <a:ext cx="78120" cy="78120"/>
          </a:xfrm>
          <a:custGeom>
            <a:avLst/>
            <a:gdLst/>
            <a:ahLst/>
            <a:rect l="0" t="0" r="r" b="b"/>
            <a:pathLst>
              <a:path fill="none" w="217" h="217">
                <a:moveTo>
                  <a:pt x="0" y="217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65640" y="530388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213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265640" y="513720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5640" y="497196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217" y="0"/>
                </a:lnTo>
                <a:lnTo>
                  <a:pt x="12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5640" y="481824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65640" y="465120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12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65640" y="4498920"/>
            <a:ext cx="78120" cy="114840"/>
          </a:xfrm>
          <a:custGeom>
            <a:avLst/>
            <a:gdLst/>
            <a:ahLst/>
            <a:rect l="0" t="0" r="r" b="b"/>
            <a:pathLst>
              <a:path fill="none" w="217" h="319">
                <a:moveTo>
                  <a:pt x="0" y="319"/>
                </a:moveTo>
                <a:lnTo>
                  <a:pt x="217" y="0"/>
                </a:lnTo>
                <a:lnTo>
                  <a:pt x="12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65640" y="434484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12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65640" y="4192560"/>
            <a:ext cx="78120" cy="114840"/>
          </a:xfrm>
          <a:custGeom>
            <a:avLst/>
            <a:gdLst/>
            <a:ahLst/>
            <a:rect l="0" t="0" r="r" b="b"/>
            <a:pathLst>
              <a:path fill="none" w="217" h="319">
                <a:moveTo>
                  <a:pt x="0" y="319"/>
                </a:moveTo>
                <a:lnTo>
                  <a:pt x="217" y="0"/>
                </a:lnTo>
                <a:lnTo>
                  <a:pt x="12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65640" y="405144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65640" y="3897360"/>
            <a:ext cx="78120" cy="90720"/>
          </a:xfrm>
          <a:custGeom>
            <a:avLst/>
            <a:gdLst/>
            <a:ahLst/>
            <a:rect l="0" t="0" r="r" b="b"/>
            <a:pathLst>
              <a:path fill="none" w="217" h="252">
                <a:moveTo>
                  <a:pt x="0" y="252"/>
                </a:moveTo>
                <a:lnTo>
                  <a:pt x="217" y="0"/>
                </a:lnTo>
                <a:lnTo>
                  <a:pt x="128" y="39"/>
                </a:lnTo>
                <a:lnTo>
                  <a:pt x="217" y="0"/>
                </a:lnTo>
                <a:lnTo>
                  <a:pt x="217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265640" y="375768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213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65640" y="3616200"/>
            <a:ext cx="78120" cy="65520"/>
          </a:xfrm>
          <a:custGeom>
            <a:avLst/>
            <a:gdLst/>
            <a:ahLst/>
            <a:rect l="0" t="0" r="r" b="b"/>
            <a:pathLst>
              <a:path fill="none" w="217" h="182">
                <a:moveTo>
                  <a:pt x="0" y="182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5640" y="347652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142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65640" y="3335400"/>
            <a:ext cx="78120" cy="39960"/>
          </a:xfrm>
          <a:custGeom>
            <a:avLst/>
            <a:gdLst/>
            <a:ahLst/>
            <a:rect l="0" t="0" r="r" b="b"/>
            <a:pathLst>
              <a:path fill="none" w="217" h="111">
                <a:moveTo>
                  <a:pt x="0" y="111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265640" y="319572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0"/>
                </a:lnTo>
                <a:lnTo>
                  <a:pt x="172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65640" y="305424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72"/>
                </a:lnTo>
                <a:lnTo>
                  <a:pt x="172" y="0"/>
                </a:lnTo>
                <a:lnTo>
                  <a:pt x="217" y="72"/>
                </a:lnTo>
                <a:lnTo>
                  <a:pt x="17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265640" y="290196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0"/>
                </a:moveTo>
                <a:lnTo>
                  <a:pt x="217" y="72"/>
                </a:lnTo>
                <a:lnTo>
                  <a:pt x="172" y="72"/>
                </a:lnTo>
                <a:lnTo>
                  <a:pt x="217" y="72"/>
                </a:lnTo>
                <a:lnTo>
                  <a:pt x="17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65640" y="274788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0"/>
                </a:moveTo>
                <a:lnTo>
                  <a:pt x="217" y="142"/>
                </a:lnTo>
                <a:lnTo>
                  <a:pt x="217" y="106"/>
                </a:lnTo>
                <a:lnTo>
                  <a:pt x="217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65640" y="259560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0"/>
                </a:moveTo>
                <a:lnTo>
                  <a:pt x="217" y="213"/>
                </a:lnTo>
                <a:lnTo>
                  <a:pt x="217" y="178"/>
                </a:lnTo>
                <a:lnTo>
                  <a:pt x="217" y="213"/>
                </a:lnTo>
                <a:lnTo>
                  <a:pt x="128" y="17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65640" y="244152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0"/>
                </a:moveTo>
                <a:lnTo>
                  <a:pt x="217" y="283"/>
                </a:lnTo>
                <a:lnTo>
                  <a:pt x="217" y="247"/>
                </a:lnTo>
                <a:lnTo>
                  <a:pt x="217" y="283"/>
                </a:lnTo>
                <a:lnTo>
                  <a:pt x="128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265640" y="2287440"/>
            <a:ext cx="93960" cy="141480"/>
          </a:xfrm>
          <a:custGeom>
            <a:avLst/>
            <a:gdLst/>
            <a:ahLst/>
            <a:rect l="0" t="0" r="r" b="b"/>
            <a:pathLst>
              <a:path fill="none" w="261" h="393">
                <a:moveTo>
                  <a:pt x="0" y="0"/>
                </a:moveTo>
                <a:lnTo>
                  <a:pt x="217" y="393"/>
                </a:lnTo>
                <a:lnTo>
                  <a:pt x="261" y="287"/>
                </a:lnTo>
                <a:lnTo>
                  <a:pt x="217" y="393"/>
                </a:lnTo>
                <a:lnTo>
                  <a:pt x="88" y="32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65600" y="6159600"/>
            <a:ext cx="77760" cy="0"/>
          </a:xfrm>
          <a:custGeom>
            <a:avLst/>
            <a:gdLst/>
            <a:ahLst/>
            <a:rect l="0" t="0" r="r" b="b"/>
            <a:pathLst>
              <a:path fill="none" w="216" h="0">
                <a:moveTo>
                  <a:pt x="0" y="0"/>
                </a:moveTo>
                <a:lnTo>
                  <a:pt x="216" y="0"/>
                </a:lnTo>
                <a:lnTo>
                  <a:pt x="171" y="0"/>
                </a:lnTo>
                <a:lnTo>
                  <a:pt x="216" y="0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65600" y="597996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0"/>
                </a:lnTo>
                <a:lnTo>
                  <a:pt x="133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65600" y="5815080"/>
            <a:ext cx="78120" cy="38520"/>
          </a:xfrm>
          <a:custGeom>
            <a:avLst/>
            <a:gdLst/>
            <a:ahLst/>
            <a:rect l="0" t="0" r="r" b="b"/>
            <a:pathLst>
              <a:path fill="none" w="217" h="107">
                <a:moveTo>
                  <a:pt x="0" y="107"/>
                </a:moveTo>
                <a:lnTo>
                  <a:pt x="217" y="0"/>
                </a:lnTo>
                <a:lnTo>
                  <a:pt x="133" y="0"/>
                </a:lnTo>
                <a:lnTo>
                  <a:pt x="217" y="0"/>
                </a:lnTo>
                <a:lnTo>
                  <a:pt x="1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65600" y="5635800"/>
            <a:ext cx="78120" cy="63720"/>
          </a:xfrm>
          <a:custGeom>
            <a:avLst/>
            <a:gdLst/>
            <a:ahLst/>
            <a:rect l="0" t="0" r="r" b="b"/>
            <a:pathLst>
              <a:path fill="none" w="217" h="177">
                <a:moveTo>
                  <a:pt x="0" y="177"/>
                </a:moveTo>
                <a:lnTo>
                  <a:pt x="217" y="0"/>
                </a:lnTo>
                <a:lnTo>
                  <a:pt x="133" y="35"/>
                </a:lnTo>
                <a:lnTo>
                  <a:pt x="217" y="0"/>
                </a:lnTo>
                <a:lnTo>
                  <a:pt x="1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65600" y="5468760"/>
            <a:ext cx="78120" cy="78120"/>
          </a:xfrm>
          <a:custGeom>
            <a:avLst/>
            <a:gdLst/>
            <a:ahLst/>
            <a:rect l="0" t="0" r="r" b="b"/>
            <a:pathLst>
              <a:path fill="none" w="217" h="217">
                <a:moveTo>
                  <a:pt x="0" y="217"/>
                </a:moveTo>
                <a:lnTo>
                  <a:pt x="217" y="0"/>
                </a:lnTo>
                <a:lnTo>
                  <a:pt x="133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65600" y="530388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213"/>
                </a:moveTo>
                <a:lnTo>
                  <a:pt x="217" y="0"/>
                </a:lnTo>
                <a:lnTo>
                  <a:pt x="133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0" y="513720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217" y="0"/>
                </a:lnTo>
                <a:lnTo>
                  <a:pt x="88" y="35"/>
                </a:lnTo>
                <a:lnTo>
                  <a:pt x="217" y="0"/>
                </a:lnTo>
                <a:lnTo>
                  <a:pt x="21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65600" y="497196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65600" y="481824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217" y="0"/>
                </a:lnTo>
                <a:lnTo>
                  <a:pt x="88" y="35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65600" y="465120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65600" y="4498920"/>
            <a:ext cx="78120" cy="114840"/>
          </a:xfrm>
          <a:custGeom>
            <a:avLst/>
            <a:gdLst/>
            <a:ahLst/>
            <a:rect l="0" t="0" r="r" b="b"/>
            <a:pathLst>
              <a:path fill="none" w="217" h="319">
                <a:moveTo>
                  <a:pt x="0" y="319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65600" y="434484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65600" y="4192560"/>
            <a:ext cx="78120" cy="114840"/>
          </a:xfrm>
          <a:custGeom>
            <a:avLst/>
            <a:gdLst/>
            <a:ahLst/>
            <a:rect l="0" t="0" r="r" b="b"/>
            <a:pathLst>
              <a:path fill="none" w="217" h="319">
                <a:moveTo>
                  <a:pt x="0" y="319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65600" y="405144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217" y="0"/>
                </a:lnTo>
                <a:lnTo>
                  <a:pt x="8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65600" y="3897360"/>
            <a:ext cx="78120" cy="90720"/>
          </a:xfrm>
          <a:custGeom>
            <a:avLst/>
            <a:gdLst/>
            <a:ahLst/>
            <a:rect l="0" t="0" r="r" b="b"/>
            <a:pathLst>
              <a:path fill="none" w="217" h="252">
                <a:moveTo>
                  <a:pt x="0" y="252"/>
                </a:moveTo>
                <a:lnTo>
                  <a:pt x="217" y="0"/>
                </a:lnTo>
                <a:lnTo>
                  <a:pt x="88" y="39"/>
                </a:lnTo>
                <a:lnTo>
                  <a:pt x="217" y="0"/>
                </a:lnTo>
                <a:lnTo>
                  <a:pt x="217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65600" y="375768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213"/>
                </a:moveTo>
                <a:lnTo>
                  <a:pt x="217" y="0"/>
                </a:lnTo>
                <a:lnTo>
                  <a:pt x="133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665600" y="3616200"/>
            <a:ext cx="78120" cy="65520"/>
          </a:xfrm>
          <a:custGeom>
            <a:avLst/>
            <a:gdLst/>
            <a:ahLst/>
            <a:rect l="0" t="0" r="r" b="b"/>
            <a:pathLst>
              <a:path fill="none" w="217" h="182">
                <a:moveTo>
                  <a:pt x="0" y="182"/>
                </a:moveTo>
                <a:lnTo>
                  <a:pt x="217" y="0"/>
                </a:lnTo>
                <a:lnTo>
                  <a:pt x="133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65600" y="347652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142"/>
                </a:moveTo>
                <a:lnTo>
                  <a:pt x="217" y="0"/>
                </a:lnTo>
                <a:lnTo>
                  <a:pt x="133" y="0"/>
                </a:lnTo>
                <a:lnTo>
                  <a:pt x="217" y="0"/>
                </a:lnTo>
                <a:lnTo>
                  <a:pt x="1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665600" y="3335400"/>
            <a:ext cx="78120" cy="39960"/>
          </a:xfrm>
          <a:custGeom>
            <a:avLst/>
            <a:gdLst/>
            <a:ahLst/>
            <a:rect l="0" t="0" r="r" b="b"/>
            <a:pathLst>
              <a:path fill="none" w="217" h="111">
                <a:moveTo>
                  <a:pt x="0" y="111"/>
                </a:moveTo>
                <a:lnTo>
                  <a:pt x="217" y="0"/>
                </a:lnTo>
                <a:lnTo>
                  <a:pt x="133" y="0"/>
                </a:lnTo>
                <a:lnTo>
                  <a:pt x="217" y="0"/>
                </a:lnTo>
                <a:lnTo>
                  <a:pt x="1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65600" y="319572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0"/>
                </a:lnTo>
                <a:lnTo>
                  <a:pt x="133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65600" y="305424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72"/>
                </a:lnTo>
                <a:lnTo>
                  <a:pt x="172" y="0"/>
                </a:lnTo>
                <a:lnTo>
                  <a:pt x="217" y="72"/>
                </a:lnTo>
                <a:lnTo>
                  <a:pt x="17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65600" y="290196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0"/>
                </a:moveTo>
                <a:lnTo>
                  <a:pt x="217" y="72"/>
                </a:lnTo>
                <a:lnTo>
                  <a:pt x="172" y="72"/>
                </a:lnTo>
                <a:lnTo>
                  <a:pt x="217" y="72"/>
                </a:lnTo>
                <a:lnTo>
                  <a:pt x="13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65600" y="274788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0"/>
                </a:moveTo>
                <a:lnTo>
                  <a:pt x="217" y="142"/>
                </a:lnTo>
                <a:lnTo>
                  <a:pt x="172" y="106"/>
                </a:lnTo>
                <a:lnTo>
                  <a:pt x="217" y="142"/>
                </a:lnTo>
                <a:lnTo>
                  <a:pt x="133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65600" y="259560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0"/>
                </a:moveTo>
                <a:lnTo>
                  <a:pt x="217" y="213"/>
                </a:lnTo>
                <a:lnTo>
                  <a:pt x="217" y="178"/>
                </a:lnTo>
                <a:lnTo>
                  <a:pt x="217" y="213"/>
                </a:lnTo>
                <a:lnTo>
                  <a:pt x="133" y="17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65600" y="244152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0"/>
                </a:moveTo>
                <a:lnTo>
                  <a:pt x="217" y="283"/>
                </a:lnTo>
                <a:lnTo>
                  <a:pt x="217" y="247"/>
                </a:lnTo>
                <a:lnTo>
                  <a:pt x="217" y="283"/>
                </a:lnTo>
                <a:lnTo>
                  <a:pt x="88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65600" y="2287440"/>
            <a:ext cx="78120" cy="141480"/>
          </a:xfrm>
          <a:custGeom>
            <a:avLst/>
            <a:gdLst/>
            <a:ahLst/>
            <a:rect l="0" t="0" r="r" b="b"/>
            <a:pathLst>
              <a:path fill="none" w="217" h="393">
                <a:moveTo>
                  <a:pt x="0" y="0"/>
                </a:moveTo>
                <a:lnTo>
                  <a:pt x="217" y="393"/>
                </a:lnTo>
                <a:lnTo>
                  <a:pt x="217" y="287"/>
                </a:lnTo>
                <a:lnTo>
                  <a:pt x="217" y="393"/>
                </a:lnTo>
                <a:lnTo>
                  <a:pt x="88" y="32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67360" y="6159600"/>
            <a:ext cx="60120" cy="0"/>
          </a:xfrm>
          <a:custGeom>
            <a:avLst/>
            <a:gdLst/>
            <a:ahLst/>
            <a:rect l="0" t="0" r="r" b="b"/>
            <a:pathLst>
              <a:path fill="none" w="167" h="0">
                <a:moveTo>
                  <a:pt x="0" y="0"/>
                </a:moveTo>
                <a:lnTo>
                  <a:pt x="167" y="0"/>
                </a:lnTo>
                <a:lnTo>
                  <a:pt x="127" y="0"/>
                </a:lnTo>
                <a:lnTo>
                  <a:pt x="167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067360" y="597996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72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067360" y="5815080"/>
            <a:ext cx="60840" cy="38520"/>
          </a:xfrm>
          <a:custGeom>
            <a:avLst/>
            <a:gdLst/>
            <a:ahLst/>
            <a:rect l="0" t="0" r="r" b="b"/>
            <a:pathLst>
              <a:path fill="none" w="169" h="107">
                <a:moveTo>
                  <a:pt x="0" y="107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067360" y="5635800"/>
            <a:ext cx="60840" cy="63720"/>
          </a:xfrm>
          <a:custGeom>
            <a:avLst/>
            <a:gdLst/>
            <a:ahLst/>
            <a:rect l="0" t="0" r="r" b="b"/>
            <a:pathLst>
              <a:path fill="none" w="169" h="177">
                <a:moveTo>
                  <a:pt x="0" y="177"/>
                </a:moveTo>
                <a:lnTo>
                  <a:pt x="169" y="0"/>
                </a:lnTo>
                <a:lnTo>
                  <a:pt x="129" y="35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67360" y="5468760"/>
            <a:ext cx="60840" cy="78120"/>
          </a:xfrm>
          <a:custGeom>
            <a:avLst/>
            <a:gdLst/>
            <a:ahLst/>
            <a:rect l="0" t="0" r="r" b="b"/>
            <a:pathLst>
              <a:path fill="none" w="169" h="217">
                <a:moveTo>
                  <a:pt x="0" y="217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067360" y="5303880"/>
            <a:ext cx="60840" cy="76680"/>
          </a:xfrm>
          <a:custGeom>
            <a:avLst/>
            <a:gdLst/>
            <a:ahLst/>
            <a:rect l="0" t="0" r="r" b="b"/>
            <a:pathLst>
              <a:path fill="none" w="169" h="213">
                <a:moveTo>
                  <a:pt x="0" y="213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67360" y="513720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67360" y="497196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169" y="0"/>
                </a:lnTo>
                <a:lnTo>
                  <a:pt x="84" y="70"/>
                </a:lnTo>
                <a:lnTo>
                  <a:pt x="169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67360" y="481824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067360" y="465120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169" y="0"/>
                </a:lnTo>
                <a:lnTo>
                  <a:pt x="84" y="70"/>
                </a:lnTo>
                <a:lnTo>
                  <a:pt x="169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067360" y="449892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169" y="0"/>
                </a:lnTo>
                <a:lnTo>
                  <a:pt x="84" y="70"/>
                </a:lnTo>
                <a:lnTo>
                  <a:pt x="169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67360" y="434484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169" y="0"/>
                </a:lnTo>
                <a:lnTo>
                  <a:pt x="84" y="70"/>
                </a:lnTo>
                <a:lnTo>
                  <a:pt x="169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67360" y="419256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169" y="0"/>
                </a:lnTo>
                <a:lnTo>
                  <a:pt x="84" y="70"/>
                </a:lnTo>
                <a:lnTo>
                  <a:pt x="169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67360" y="405144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67360" y="3897360"/>
            <a:ext cx="76680" cy="90720"/>
          </a:xfrm>
          <a:custGeom>
            <a:avLst/>
            <a:gdLst/>
            <a:ahLst/>
            <a:rect l="0" t="0" r="r" b="b"/>
            <a:pathLst>
              <a:path fill="none" w="213" h="252">
                <a:moveTo>
                  <a:pt x="0" y="252"/>
                </a:moveTo>
                <a:lnTo>
                  <a:pt x="169" y="0"/>
                </a:lnTo>
                <a:lnTo>
                  <a:pt x="84" y="39"/>
                </a:lnTo>
                <a:lnTo>
                  <a:pt x="169" y="0"/>
                </a:lnTo>
                <a:lnTo>
                  <a:pt x="213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067360" y="3757680"/>
            <a:ext cx="60840" cy="76680"/>
          </a:xfrm>
          <a:custGeom>
            <a:avLst/>
            <a:gdLst/>
            <a:ahLst/>
            <a:rect l="0" t="0" r="r" b="b"/>
            <a:pathLst>
              <a:path fill="none" w="169" h="213">
                <a:moveTo>
                  <a:pt x="0" y="213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067360" y="3616200"/>
            <a:ext cx="60840" cy="65520"/>
          </a:xfrm>
          <a:custGeom>
            <a:avLst/>
            <a:gdLst/>
            <a:ahLst/>
            <a:rect l="0" t="0" r="r" b="b"/>
            <a:pathLst>
              <a:path fill="none" w="169" h="182">
                <a:moveTo>
                  <a:pt x="0" y="182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067360" y="3476520"/>
            <a:ext cx="60840" cy="51120"/>
          </a:xfrm>
          <a:custGeom>
            <a:avLst/>
            <a:gdLst/>
            <a:ahLst/>
            <a:rect l="0" t="0" r="r" b="b"/>
            <a:pathLst>
              <a:path fill="none" w="169" h="142">
                <a:moveTo>
                  <a:pt x="0" y="142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067360" y="3335400"/>
            <a:ext cx="60840" cy="39960"/>
          </a:xfrm>
          <a:custGeom>
            <a:avLst/>
            <a:gdLst/>
            <a:ahLst/>
            <a:rect l="0" t="0" r="r" b="b"/>
            <a:pathLst>
              <a:path fill="none" w="169" h="111">
                <a:moveTo>
                  <a:pt x="0" y="111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67360" y="319572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72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67360" y="305424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72"/>
                </a:moveTo>
                <a:lnTo>
                  <a:pt x="169" y="72"/>
                </a:lnTo>
                <a:lnTo>
                  <a:pt x="129" y="0"/>
                </a:lnTo>
                <a:lnTo>
                  <a:pt x="169" y="72"/>
                </a:lnTo>
                <a:lnTo>
                  <a:pt x="12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067360" y="290196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0"/>
                </a:moveTo>
                <a:lnTo>
                  <a:pt x="169" y="72"/>
                </a:lnTo>
                <a:lnTo>
                  <a:pt x="169" y="72"/>
                </a:lnTo>
                <a:lnTo>
                  <a:pt x="169" y="72"/>
                </a:lnTo>
                <a:lnTo>
                  <a:pt x="12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67360" y="2747880"/>
            <a:ext cx="60840" cy="51120"/>
          </a:xfrm>
          <a:custGeom>
            <a:avLst/>
            <a:gdLst/>
            <a:ahLst/>
            <a:rect l="0" t="0" r="r" b="b"/>
            <a:pathLst>
              <a:path fill="none" w="169" h="142">
                <a:moveTo>
                  <a:pt x="0" y="0"/>
                </a:moveTo>
                <a:lnTo>
                  <a:pt x="169" y="142"/>
                </a:lnTo>
                <a:lnTo>
                  <a:pt x="169" y="106"/>
                </a:lnTo>
                <a:lnTo>
                  <a:pt x="169" y="142"/>
                </a:lnTo>
                <a:lnTo>
                  <a:pt x="129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067360" y="2595600"/>
            <a:ext cx="60840" cy="76680"/>
          </a:xfrm>
          <a:custGeom>
            <a:avLst/>
            <a:gdLst/>
            <a:ahLst/>
            <a:rect l="0" t="0" r="r" b="b"/>
            <a:pathLst>
              <a:path fill="none" w="169" h="213">
                <a:moveTo>
                  <a:pt x="0" y="0"/>
                </a:moveTo>
                <a:lnTo>
                  <a:pt x="169" y="213"/>
                </a:lnTo>
                <a:lnTo>
                  <a:pt x="169" y="178"/>
                </a:lnTo>
                <a:lnTo>
                  <a:pt x="169" y="213"/>
                </a:lnTo>
                <a:lnTo>
                  <a:pt x="84" y="17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067360" y="24415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0"/>
                </a:moveTo>
                <a:lnTo>
                  <a:pt x="169" y="283"/>
                </a:lnTo>
                <a:lnTo>
                  <a:pt x="213" y="247"/>
                </a:lnTo>
                <a:lnTo>
                  <a:pt x="169" y="283"/>
                </a:lnTo>
                <a:lnTo>
                  <a:pt x="84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67360" y="2287440"/>
            <a:ext cx="76680" cy="141480"/>
          </a:xfrm>
          <a:custGeom>
            <a:avLst/>
            <a:gdLst/>
            <a:ahLst/>
            <a:rect l="0" t="0" r="r" b="b"/>
            <a:pathLst>
              <a:path fill="none" w="213" h="393">
                <a:moveTo>
                  <a:pt x="0" y="0"/>
                </a:moveTo>
                <a:lnTo>
                  <a:pt x="169" y="393"/>
                </a:lnTo>
                <a:lnTo>
                  <a:pt x="213" y="287"/>
                </a:lnTo>
                <a:lnTo>
                  <a:pt x="169" y="393"/>
                </a:lnTo>
                <a:lnTo>
                  <a:pt x="39" y="32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51480" y="6159600"/>
            <a:ext cx="75960" cy="0"/>
          </a:xfrm>
          <a:custGeom>
            <a:avLst/>
            <a:gdLst/>
            <a:ahLst/>
            <a:rect l="0" t="0" r="r" b="b"/>
            <a:pathLst>
              <a:path fill="none" w="211" h="0">
                <a:moveTo>
                  <a:pt x="0" y="0"/>
                </a:moveTo>
                <a:lnTo>
                  <a:pt x="211" y="0"/>
                </a:lnTo>
                <a:lnTo>
                  <a:pt x="171" y="0"/>
                </a:lnTo>
                <a:lnTo>
                  <a:pt x="211" y="0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451480" y="59799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73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51480" y="581508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107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51480" y="5635800"/>
            <a:ext cx="76680" cy="63720"/>
          </a:xfrm>
          <a:custGeom>
            <a:avLst/>
            <a:gdLst/>
            <a:ahLst/>
            <a:rect l="0" t="0" r="r" b="b"/>
            <a:pathLst>
              <a:path fill="none" w="213" h="177">
                <a:moveTo>
                  <a:pt x="0" y="17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51480" y="5468760"/>
            <a:ext cx="76680" cy="78120"/>
          </a:xfrm>
          <a:custGeom>
            <a:avLst/>
            <a:gdLst/>
            <a:ahLst/>
            <a:rect l="0" t="0" r="r" b="b"/>
            <a:pathLst>
              <a:path fill="none" w="213" h="217">
                <a:moveTo>
                  <a:pt x="0" y="21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51480" y="5303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451480" y="513720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51480" y="497196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451480" y="481824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51480" y="465120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451480" y="449892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451480" y="434484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451480" y="419256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51480" y="405144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451480" y="3897360"/>
            <a:ext cx="76680" cy="90720"/>
          </a:xfrm>
          <a:custGeom>
            <a:avLst/>
            <a:gdLst/>
            <a:ahLst/>
            <a:rect l="0" t="0" r="r" b="b"/>
            <a:pathLst>
              <a:path fill="none" w="213" h="252">
                <a:moveTo>
                  <a:pt x="0" y="252"/>
                </a:moveTo>
                <a:lnTo>
                  <a:pt x="213" y="0"/>
                </a:lnTo>
                <a:lnTo>
                  <a:pt x="128" y="39"/>
                </a:lnTo>
                <a:lnTo>
                  <a:pt x="213" y="0"/>
                </a:lnTo>
                <a:lnTo>
                  <a:pt x="213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451480" y="37576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451480" y="3616200"/>
            <a:ext cx="76680" cy="65520"/>
          </a:xfrm>
          <a:custGeom>
            <a:avLst/>
            <a:gdLst/>
            <a:ahLst/>
            <a:rect l="0" t="0" r="r" b="b"/>
            <a:pathLst>
              <a:path fill="none" w="213" h="182">
                <a:moveTo>
                  <a:pt x="0" y="182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451480" y="347652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14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51480" y="3335400"/>
            <a:ext cx="76680" cy="39960"/>
          </a:xfrm>
          <a:custGeom>
            <a:avLst/>
            <a:gdLst/>
            <a:ahLst/>
            <a:rect l="0" t="0" r="r" b="b"/>
            <a:pathLst>
              <a:path fill="none" w="213" h="111">
                <a:moveTo>
                  <a:pt x="0" y="111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451480" y="319572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73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51480" y="305424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72"/>
                </a:lnTo>
                <a:lnTo>
                  <a:pt x="173" y="0"/>
                </a:lnTo>
                <a:lnTo>
                  <a:pt x="213" y="72"/>
                </a:lnTo>
                <a:lnTo>
                  <a:pt x="17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451480" y="29019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0"/>
                </a:moveTo>
                <a:lnTo>
                  <a:pt x="213" y="72"/>
                </a:lnTo>
                <a:lnTo>
                  <a:pt x="173" y="72"/>
                </a:lnTo>
                <a:lnTo>
                  <a:pt x="213" y="72"/>
                </a:lnTo>
                <a:lnTo>
                  <a:pt x="17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451480" y="274788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0"/>
                </a:moveTo>
                <a:lnTo>
                  <a:pt x="213" y="142"/>
                </a:lnTo>
                <a:lnTo>
                  <a:pt x="213" y="106"/>
                </a:lnTo>
                <a:lnTo>
                  <a:pt x="213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451480" y="25956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0"/>
                </a:moveTo>
                <a:lnTo>
                  <a:pt x="213" y="213"/>
                </a:lnTo>
                <a:lnTo>
                  <a:pt x="213" y="178"/>
                </a:lnTo>
                <a:lnTo>
                  <a:pt x="213" y="213"/>
                </a:lnTo>
                <a:lnTo>
                  <a:pt x="128" y="17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51480" y="24415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0"/>
                </a:moveTo>
                <a:lnTo>
                  <a:pt x="213" y="283"/>
                </a:lnTo>
                <a:lnTo>
                  <a:pt x="213" y="247"/>
                </a:lnTo>
                <a:lnTo>
                  <a:pt x="213" y="283"/>
                </a:lnTo>
                <a:lnTo>
                  <a:pt x="128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451480" y="2287440"/>
            <a:ext cx="92520" cy="141480"/>
          </a:xfrm>
          <a:custGeom>
            <a:avLst/>
            <a:gdLst/>
            <a:ahLst/>
            <a:rect l="0" t="0" r="r" b="b"/>
            <a:pathLst>
              <a:path fill="none" w="257" h="393">
                <a:moveTo>
                  <a:pt x="0" y="0"/>
                </a:moveTo>
                <a:lnTo>
                  <a:pt x="213" y="393"/>
                </a:lnTo>
                <a:lnTo>
                  <a:pt x="257" y="287"/>
                </a:lnTo>
                <a:lnTo>
                  <a:pt x="213" y="393"/>
                </a:lnTo>
                <a:lnTo>
                  <a:pt x="84" y="32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851440" y="6159600"/>
            <a:ext cx="75960" cy="0"/>
          </a:xfrm>
          <a:custGeom>
            <a:avLst/>
            <a:gdLst/>
            <a:ahLst/>
            <a:rect l="0" t="0" r="r" b="b"/>
            <a:pathLst>
              <a:path fill="none" w="211" h="0">
                <a:moveTo>
                  <a:pt x="0" y="0"/>
                </a:moveTo>
                <a:lnTo>
                  <a:pt x="211" y="0"/>
                </a:lnTo>
                <a:lnTo>
                  <a:pt x="171" y="0"/>
                </a:lnTo>
                <a:lnTo>
                  <a:pt x="211" y="0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851440" y="59799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851440" y="581508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107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51440" y="5635800"/>
            <a:ext cx="76680" cy="63720"/>
          </a:xfrm>
          <a:custGeom>
            <a:avLst/>
            <a:gdLst/>
            <a:ahLst/>
            <a:rect l="0" t="0" r="r" b="b"/>
            <a:pathLst>
              <a:path fill="none" w="213" h="177">
                <a:moveTo>
                  <a:pt x="0" y="17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851440" y="5468760"/>
            <a:ext cx="76680" cy="78120"/>
          </a:xfrm>
          <a:custGeom>
            <a:avLst/>
            <a:gdLst/>
            <a:ahLst/>
            <a:rect l="0" t="0" r="r" b="b"/>
            <a:pathLst>
              <a:path fill="none" w="213" h="217">
                <a:moveTo>
                  <a:pt x="0" y="21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851440" y="5303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851440" y="513720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84" y="35"/>
                </a:lnTo>
                <a:lnTo>
                  <a:pt x="213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51440" y="497196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851440" y="481824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84" y="35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51440" y="465120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851440" y="449892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851440" y="434484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51440" y="419256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51440" y="405144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84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51440" y="3897360"/>
            <a:ext cx="76680" cy="90720"/>
          </a:xfrm>
          <a:custGeom>
            <a:avLst/>
            <a:gdLst/>
            <a:ahLst/>
            <a:rect l="0" t="0" r="r" b="b"/>
            <a:pathLst>
              <a:path fill="none" w="213" h="252">
                <a:moveTo>
                  <a:pt x="0" y="252"/>
                </a:moveTo>
                <a:lnTo>
                  <a:pt x="213" y="0"/>
                </a:lnTo>
                <a:lnTo>
                  <a:pt x="84" y="39"/>
                </a:lnTo>
                <a:lnTo>
                  <a:pt x="213" y="0"/>
                </a:lnTo>
                <a:lnTo>
                  <a:pt x="213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851440" y="37576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851440" y="3616200"/>
            <a:ext cx="76680" cy="65520"/>
          </a:xfrm>
          <a:custGeom>
            <a:avLst/>
            <a:gdLst/>
            <a:ahLst/>
            <a:rect l="0" t="0" r="r" b="b"/>
            <a:pathLst>
              <a:path fill="none" w="213" h="182">
                <a:moveTo>
                  <a:pt x="0" y="182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851440" y="347652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14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851440" y="3335400"/>
            <a:ext cx="76680" cy="39960"/>
          </a:xfrm>
          <a:custGeom>
            <a:avLst/>
            <a:gdLst/>
            <a:ahLst/>
            <a:rect l="0" t="0" r="r" b="b"/>
            <a:pathLst>
              <a:path fill="none" w="213" h="111">
                <a:moveTo>
                  <a:pt x="0" y="111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851440" y="319572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51440" y="305424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72"/>
                </a:lnTo>
                <a:lnTo>
                  <a:pt x="173" y="0"/>
                </a:lnTo>
                <a:lnTo>
                  <a:pt x="213" y="72"/>
                </a:lnTo>
                <a:lnTo>
                  <a:pt x="173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851440" y="29019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0"/>
                </a:moveTo>
                <a:lnTo>
                  <a:pt x="213" y="72"/>
                </a:lnTo>
                <a:lnTo>
                  <a:pt x="173" y="72"/>
                </a:lnTo>
                <a:lnTo>
                  <a:pt x="213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851440" y="274788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0"/>
                </a:moveTo>
                <a:lnTo>
                  <a:pt x="213" y="142"/>
                </a:lnTo>
                <a:lnTo>
                  <a:pt x="173" y="106"/>
                </a:lnTo>
                <a:lnTo>
                  <a:pt x="213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51440" y="25956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0"/>
                </a:moveTo>
                <a:lnTo>
                  <a:pt x="213" y="213"/>
                </a:lnTo>
                <a:lnTo>
                  <a:pt x="213" y="178"/>
                </a:lnTo>
                <a:lnTo>
                  <a:pt x="213" y="213"/>
                </a:lnTo>
                <a:lnTo>
                  <a:pt x="128" y="17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851440" y="24415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0"/>
                </a:moveTo>
                <a:lnTo>
                  <a:pt x="213" y="283"/>
                </a:lnTo>
                <a:lnTo>
                  <a:pt x="213" y="247"/>
                </a:lnTo>
                <a:lnTo>
                  <a:pt x="213" y="283"/>
                </a:lnTo>
                <a:lnTo>
                  <a:pt x="84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51440" y="2287440"/>
            <a:ext cx="76680" cy="141480"/>
          </a:xfrm>
          <a:custGeom>
            <a:avLst/>
            <a:gdLst/>
            <a:ahLst/>
            <a:rect l="0" t="0" r="r" b="b"/>
            <a:pathLst>
              <a:path fill="none" w="213" h="393">
                <a:moveTo>
                  <a:pt x="0" y="0"/>
                </a:moveTo>
                <a:lnTo>
                  <a:pt x="213" y="393"/>
                </a:lnTo>
                <a:lnTo>
                  <a:pt x="213" y="287"/>
                </a:lnTo>
                <a:lnTo>
                  <a:pt x="213" y="393"/>
                </a:lnTo>
                <a:lnTo>
                  <a:pt x="84" y="32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251400" y="6159600"/>
            <a:ext cx="61560" cy="0"/>
          </a:xfrm>
          <a:custGeom>
            <a:avLst/>
            <a:gdLst/>
            <a:ahLst/>
            <a:rect l="0" t="0" r="r" b="b"/>
            <a:pathLst>
              <a:path fill="none" w="171" h="0">
                <a:moveTo>
                  <a:pt x="0" y="0"/>
                </a:moveTo>
                <a:lnTo>
                  <a:pt x="171" y="0"/>
                </a:lnTo>
                <a:lnTo>
                  <a:pt x="127" y="0"/>
                </a:lnTo>
                <a:lnTo>
                  <a:pt x="171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51400" y="597996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72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51400" y="5815080"/>
            <a:ext cx="62280" cy="38520"/>
          </a:xfrm>
          <a:custGeom>
            <a:avLst/>
            <a:gdLst/>
            <a:ahLst/>
            <a:rect l="0" t="0" r="r" b="b"/>
            <a:pathLst>
              <a:path fill="none" w="173" h="107">
                <a:moveTo>
                  <a:pt x="0" y="107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51400" y="5635800"/>
            <a:ext cx="62280" cy="63720"/>
          </a:xfrm>
          <a:custGeom>
            <a:avLst/>
            <a:gdLst/>
            <a:ahLst/>
            <a:rect l="0" t="0" r="r" b="b"/>
            <a:pathLst>
              <a:path fill="none" w="173" h="177">
                <a:moveTo>
                  <a:pt x="0" y="177"/>
                </a:moveTo>
                <a:lnTo>
                  <a:pt x="173" y="0"/>
                </a:lnTo>
                <a:lnTo>
                  <a:pt x="128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51400" y="5468760"/>
            <a:ext cx="62280" cy="78120"/>
          </a:xfrm>
          <a:custGeom>
            <a:avLst/>
            <a:gdLst/>
            <a:ahLst/>
            <a:rect l="0" t="0" r="r" b="b"/>
            <a:pathLst>
              <a:path fill="none" w="173" h="217">
                <a:moveTo>
                  <a:pt x="0" y="217"/>
                </a:moveTo>
                <a:lnTo>
                  <a:pt x="173" y="0"/>
                </a:lnTo>
                <a:lnTo>
                  <a:pt x="89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51400" y="5303880"/>
            <a:ext cx="62280" cy="76680"/>
          </a:xfrm>
          <a:custGeom>
            <a:avLst/>
            <a:gdLst/>
            <a:ahLst/>
            <a:rect l="0" t="0" r="r" b="b"/>
            <a:pathLst>
              <a:path fill="none" w="173" h="213">
                <a:moveTo>
                  <a:pt x="0" y="213"/>
                </a:moveTo>
                <a:lnTo>
                  <a:pt x="173" y="0"/>
                </a:lnTo>
                <a:lnTo>
                  <a:pt x="89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251400" y="513720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172" y="0"/>
                </a:lnTo>
                <a:lnTo>
                  <a:pt x="88" y="35"/>
                </a:lnTo>
                <a:lnTo>
                  <a:pt x="172" y="0"/>
                </a:lnTo>
                <a:lnTo>
                  <a:pt x="21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251400" y="497196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172" y="0"/>
                </a:lnTo>
                <a:lnTo>
                  <a:pt x="88" y="70"/>
                </a:lnTo>
                <a:lnTo>
                  <a:pt x="172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251400" y="481824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172" y="0"/>
                </a:lnTo>
                <a:lnTo>
                  <a:pt x="88" y="35"/>
                </a:lnTo>
                <a:lnTo>
                  <a:pt x="172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251400" y="465120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172" y="0"/>
                </a:lnTo>
                <a:lnTo>
                  <a:pt x="88" y="70"/>
                </a:lnTo>
                <a:lnTo>
                  <a:pt x="172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251400" y="4498920"/>
            <a:ext cx="78120" cy="114840"/>
          </a:xfrm>
          <a:custGeom>
            <a:avLst/>
            <a:gdLst/>
            <a:ahLst/>
            <a:rect l="0" t="0" r="r" b="b"/>
            <a:pathLst>
              <a:path fill="none" w="217" h="319">
                <a:moveTo>
                  <a:pt x="0" y="319"/>
                </a:moveTo>
                <a:lnTo>
                  <a:pt x="172" y="0"/>
                </a:lnTo>
                <a:lnTo>
                  <a:pt x="88" y="70"/>
                </a:lnTo>
                <a:lnTo>
                  <a:pt x="172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251400" y="434484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172" y="0"/>
                </a:lnTo>
                <a:lnTo>
                  <a:pt x="88" y="70"/>
                </a:lnTo>
                <a:lnTo>
                  <a:pt x="172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51400" y="4192560"/>
            <a:ext cx="78120" cy="114840"/>
          </a:xfrm>
          <a:custGeom>
            <a:avLst/>
            <a:gdLst/>
            <a:ahLst/>
            <a:rect l="0" t="0" r="r" b="b"/>
            <a:pathLst>
              <a:path fill="none" w="217" h="319">
                <a:moveTo>
                  <a:pt x="0" y="319"/>
                </a:moveTo>
                <a:lnTo>
                  <a:pt x="172" y="0"/>
                </a:lnTo>
                <a:lnTo>
                  <a:pt x="88" y="70"/>
                </a:lnTo>
                <a:lnTo>
                  <a:pt x="172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251400" y="405144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172" y="0"/>
                </a:lnTo>
                <a:lnTo>
                  <a:pt x="88" y="35"/>
                </a:lnTo>
                <a:lnTo>
                  <a:pt x="172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51400" y="3897360"/>
            <a:ext cx="78120" cy="90720"/>
          </a:xfrm>
          <a:custGeom>
            <a:avLst/>
            <a:gdLst/>
            <a:ahLst/>
            <a:rect l="0" t="0" r="r" b="b"/>
            <a:pathLst>
              <a:path fill="none" w="217" h="252">
                <a:moveTo>
                  <a:pt x="0" y="252"/>
                </a:moveTo>
                <a:lnTo>
                  <a:pt x="172" y="0"/>
                </a:lnTo>
                <a:lnTo>
                  <a:pt x="88" y="39"/>
                </a:lnTo>
                <a:lnTo>
                  <a:pt x="172" y="0"/>
                </a:lnTo>
                <a:lnTo>
                  <a:pt x="217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51400" y="3757680"/>
            <a:ext cx="62280" cy="76680"/>
          </a:xfrm>
          <a:custGeom>
            <a:avLst/>
            <a:gdLst/>
            <a:ahLst/>
            <a:rect l="0" t="0" r="r" b="b"/>
            <a:pathLst>
              <a:path fill="none" w="173" h="213">
                <a:moveTo>
                  <a:pt x="0" y="213"/>
                </a:moveTo>
                <a:lnTo>
                  <a:pt x="173" y="0"/>
                </a:lnTo>
                <a:lnTo>
                  <a:pt x="89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251400" y="3616200"/>
            <a:ext cx="62280" cy="65520"/>
          </a:xfrm>
          <a:custGeom>
            <a:avLst/>
            <a:gdLst/>
            <a:ahLst/>
            <a:rect l="0" t="0" r="r" b="b"/>
            <a:pathLst>
              <a:path fill="none" w="173" h="182">
                <a:moveTo>
                  <a:pt x="0" y="182"/>
                </a:moveTo>
                <a:lnTo>
                  <a:pt x="173" y="0"/>
                </a:lnTo>
                <a:lnTo>
                  <a:pt x="89" y="35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251400" y="3476520"/>
            <a:ext cx="62280" cy="51120"/>
          </a:xfrm>
          <a:custGeom>
            <a:avLst/>
            <a:gdLst/>
            <a:ahLst/>
            <a:rect l="0" t="0" r="r" b="b"/>
            <a:pathLst>
              <a:path fill="none" w="173" h="142">
                <a:moveTo>
                  <a:pt x="0" y="142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251400" y="3335400"/>
            <a:ext cx="62280" cy="39960"/>
          </a:xfrm>
          <a:custGeom>
            <a:avLst/>
            <a:gdLst/>
            <a:ahLst/>
            <a:rect l="0" t="0" r="r" b="b"/>
            <a:pathLst>
              <a:path fill="none" w="173" h="111">
                <a:moveTo>
                  <a:pt x="0" y="111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251400" y="319572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72"/>
                </a:moveTo>
                <a:lnTo>
                  <a:pt x="173" y="0"/>
                </a:lnTo>
                <a:lnTo>
                  <a:pt x="128" y="0"/>
                </a:lnTo>
                <a:lnTo>
                  <a:pt x="173" y="0"/>
                </a:lnTo>
                <a:lnTo>
                  <a:pt x="173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251400" y="305424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72"/>
                </a:moveTo>
                <a:lnTo>
                  <a:pt x="173" y="72"/>
                </a:lnTo>
                <a:lnTo>
                  <a:pt x="128" y="0"/>
                </a:lnTo>
                <a:lnTo>
                  <a:pt x="173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251400" y="2901960"/>
            <a:ext cx="62280" cy="25920"/>
          </a:xfrm>
          <a:custGeom>
            <a:avLst/>
            <a:gdLst/>
            <a:ahLst/>
            <a:rect l="0" t="0" r="r" b="b"/>
            <a:pathLst>
              <a:path fill="none" w="173" h="72">
                <a:moveTo>
                  <a:pt x="0" y="0"/>
                </a:moveTo>
                <a:lnTo>
                  <a:pt x="173" y="72"/>
                </a:lnTo>
                <a:lnTo>
                  <a:pt x="173" y="72"/>
                </a:lnTo>
                <a:lnTo>
                  <a:pt x="173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251400" y="2747880"/>
            <a:ext cx="62280" cy="51120"/>
          </a:xfrm>
          <a:custGeom>
            <a:avLst/>
            <a:gdLst/>
            <a:ahLst/>
            <a:rect l="0" t="0" r="r" b="b"/>
            <a:pathLst>
              <a:path fill="none" w="173" h="142">
                <a:moveTo>
                  <a:pt x="0" y="0"/>
                </a:moveTo>
                <a:lnTo>
                  <a:pt x="173" y="142"/>
                </a:lnTo>
                <a:lnTo>
                  <a:pt x="173" y="106"/>
                </a:lnTo>
                <a:lnTo>
                  <a:pt x="173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51400" y="2595600"/>
            <a:ext cx="62280" cy="76680"/>
          </a:xfrm>
          <a:custGeom>
            <a:avLst/>
            <a:gdLst/>
            <a:ahLst/>
            <a:rect l="0" t="0" r="r" b="b"/>
            <a:pathLst>
              <a:path fill="none" w="173" h="213">
                <a:moveTo>
                  <a:pt x="0" y="0"/>
                </a:moveTo>
                <a:lnTo>
                  <a:pt x="173" y="213"/>
                </a:lnTo>
                <a:lnTo>
                  <a:pt x="173" y="178"/>
                </a:lnTo>
                <a:lnTo>
                  <a:pt x="173" y="213"/>
                </a:lnTo>
                <a:lnTo>
                  <a:pt x="89" y="17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251400" y="244152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0"/>
                </a:moveTo>
                <a:lnTo>
                  <a:pt x="172" y="283"/>
                </a:lnTo>
                <a:lnTo>
                  <a:pt x="217" y="247"/>
                </a:lnTo>
                <a:lnTo>
                  <a:pt x="172" y="283"/>
                </a:lnTo>
                <a:lnTo>
                  <a:pt x="88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251400" y="2287440"/>
            <a:ext cx="78120" cy="141480"/>
          </a:xfrm>
          <a:custGeom>
            <a:avLst/>
            <a:gdLst/>
            <a:ahLst/>
            <a:rect l="0" t="0" r="r" b="b"/>
            <a:pathLst>
              <a:path fill="none" w="217" h="393">
                <a:moveTo>
                  <a:pt x="0" y="0"/>
                </a:moveTo>
                <a:lnTo>
                  <a:pt x="172" y="393"/>
                </a:lnTo>
                <a:lnTo>
                  <a:pt x="217" y="287"/>
                </a:lnTo>
                <a:lnTo>
                  <a:pt x="172" y="393"/>
                </a:lnTo>
                <a:lnTo>
                  <a:pt x="44" y="32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637320" y="6159600"/>
            <a:ext cx="75960" cy="0"/>
          </a:xfrm>
          <a:custGeom>
            <a:avLst/>
            <a:gdLst/>
            <a:ahLst/>
            <a:rect l="0" t="0" r="r" b="b"/>
            <a:pathLst>
              <a:path fill="none" w="211" h="0">
                <a:moveTo>
                  <a:pt x="0" y="0"/>
                </a:moveTo>
                <a:lnTo>
                  <a:pt x="211" y="0"/>
                </a:lnTo>
                <a:lnTo>
                  <a:pt x="167" y="0"/>
                </a:lnTo>
                <a:lnTo>
                  <a:pt x="211" y="0"/>
                </a:lnTo>
                <a:lnTo>
                  <a:pt x="16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637320" y="59799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69" y="0"/>
                </a:lnTo>
                <a:lnTo>
                  <a:pt x="213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637320" y="581508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107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6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37320" y="5635800"/>
            <a:ext cx="76680" cy="63720"/>
          </a:xfrm>
          <a:custGeom>
            <a:avLst/>
            <a:gdLst/>
            <a:ahLst/>
            <a:rect l="0" t="0" r="r" b="b"/>
            <a:pathLst>
              <a:path fill="none" w="213" h="177">
                <a:moveTo>
                  <a:pt x="0" y="17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37320" y="5468760"/>
            <a:ext cx="76680" cy="78120"/>
          </a:xfrm>
          <a:custGeom>
            <a:avLst/>
            <a:gdLst/>
            <a:ahLst/>
            <a:rect l="0" t="0" r="r" b="b"/>
            <a:pathLst>
              <a:path fill="none" w="213" h="217">
                <a:moveTo>
                  <a:pt x="0" y="21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37320" y="5303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37320" y="513720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37320" y="497196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637320" y="481824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637320" y="465120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37320" y="449892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637320" y="434484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637320" y="419256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213" y="0"/>
                </a:lnTo>
                <a:lnTo>
                  <a:pt x="128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637320" y="405144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637320" y="3897360"/>
            <a:ext cx="76680" cy="90720"/>
          </a:xfrm>
          <a:custGeom>
            <a:avLst/>
            <a:gdLst/>
            <a:ahLst/>
            <a:rect l="0" t="0" r="r" b="b"/>
            <a:pathLst>
              <a:path fill="none" w="213" h="252">
                <a:moveTo>
                  <a:pt x="0" y="252"/>
                </a:moveTo>
                <a:lnTo>
                  <a:pt x="213" y="0"/>
                </a:lnTo>
                <a:lnTo>
                  <a:pt x="128" y="39"/>
                </a:lnTo>
                <a:lnTo>
                  <a:pt x="213" y="0"/>
                </a:lnTo>
                <a:lnTo>
                  <a:pt x="213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37320" y="37576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37320" y="3616200"/>
            <a:ext cx="76680" cy="65520"/>
          </a:xfrm>
          <a:custGeom>
            <a:avLst/>
            <a:gdLst/>
            <a:ahLst/>
            <a:rect l="0" t="0" r="r" b="b"/>
            <a:pathLst>
              <a:path fill="none" w="213" h="182">
                <a:moveTo>
                  <a:pt x="0" y="182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637320" y="347652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14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637320" y="3335400"/>
            <a:ext cx="76680" cy="39960"/>
          </a:xfrm>
          <a:custGeom>
            <a:avLst/>
            <a:gdLst/>
            <a:ahLst/>
            <a:rect l="0" t="0" r="r" b="b"/>
            <a:pathLst>
              <a:path fill="none" w="213" h="111">
                <a:moveTo>
                  <a:pt x="0" y="111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637320" y="319572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69" y="0"/>
                </a:lnTo>
                <a:lnTo>
                  <a:pt x="213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37320" y="305424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72"/>
                </a:lnTo>
                <a:lnTo>
                  <a:pt x="169" y="0"/>
                </a:lnTo>
                <a:lnTo>
                  <a:pt x="213" y="72"/>
                </a:lnTo>
                <a:lnTo>
                  <a:pt x="16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637320" y="29019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0"/>
                </a:moveTo>
                <a:lnTo>
                  <a:pt x="213" y="72"/>
                </a:lnTo>
                <a:lnTo>
                  <a:pt x="169" y="72"/>
                </a:lnTo>
                <a:lnTo>
                  <a:pt x="213" y="72"/>
                </a:lnTo>
                <a:lnTo>
                  <a:pt x="16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37320" y="274788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0"/>
                </a:moveTo>
                <a:lnTo>
                  <a:pt x="213" y="142"/>
                </a:lnTo>
                <a:lnTo>
                  <a:pt x="213" y="106"/>
                </a:lnTo>
                <a:lnTo>
                  <a:pt x="213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637320" y="25956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0"/>
                </a:moveTo>
                <a:lnTo>
                  <a:pt x="213" y="213"/>
                </a:lnTo>
                <a:lnTo>
                  <a:pt x="213" y="178"/>
                </a:lnTo>
                <a:lnTo>
                  <a:pt x="213" y="213"/>
                </a:lnTo>
                <a:lnTo>
                  <a:pt x="128" y="17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37320" y="24415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0"/>
                </a:moveTo>
                <a:lnTo>
                  <a:pt x="213" y="283"/>
                </a:lnTo>
                <a:lnTo>
                  <a:pt x="213" y="247"/>
                </a:lnTo>
                <a:lnTo>
                  <a:pt x="213" y="283"/>
                </a:lnTo>
                <a:lnTo>
                  <a:pt x="128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637320" y="2287440"/>
            <a:ext cx="92520" cy="141480"/>
          </a:xfrm>
          <a:custGeom>
            <a:avLst/>
            <a:gdLst/>
            <a:ahLst/>
            <a:rect l="0" t="0" r="r" b="b"/>
            <a:pathLst>
              <a:path fill="none" w="257" h="393">
                <a:moveTo>
                  <a:pt x="0" y="0"/>
                </a:moveTo>
                <a:lnTo>
                  <a:pt x="213" y="393"/>
                </a:lnTo>
                <a:lnTo>
                  <a:pt x="257" y="287"/>
                </a:lnTo>
                <a:lnTo>
                  <a:pt x="213" y="393"/>
                </a:lnTo>
                <a:lnTo>
                  <a:pt x="84" y="32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037280" y="6159600"/>
            <a:ext cx="75960" cy="0"/>
          </a:xfrm>
          <a:custGeom>
            <a:avLst/>
            <a:gdLst/>
            <a:ahLst/>
            <a:rect l="0" t="0" r="r" b="b"/>
            <a:pathLst>
              <a:path fill="none" w="211" h="0">
                <a:moveTo>
                  <a:pt x="0" y="0"/>
                </a:moveTo>
                <a:lnTo>
                  <a:pt x="211" y="0"/>
                </a:lnTo>
                <a:lnTo>
                  <a:pt x="167" y="0"/>
                </a:lnTo>
                <a:lnTo>
                  <a:pt x="211" y="0"/>
                </a:lnTo>
                <a:lnTo>
                  <a:pt x="16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37280" y="59799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037280" y="5815080"/>
            <a:ext cx="76680" cy="38520"/>
          </a:xfrm>
          <a:custGeom>
            <a:avLst/>
            <a:gdLst/>
            <a:ahLst/>
            <a:rect l="0" t="0" r="r" b="b"/>
            <a:pathLst>
              <a:path fill="none" w="213" h="107">
                <a:moveTo>
                  <a:pt x="0" y="107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6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37280" y="5635800"/>
            <a:ext cx="76680" cy="63720"/>
          </a:xfrm>
          <a:custGeom>
            <a:avLst/>
            <a:gdLst/>
            <a:ahLst/>
            <a:rect l="0" t="0" r="r" b="b"/>
            <a:pathLst>
              <a:path fill="none" w="213" h="177">
                <a:moveTo>
                  <a:pt x="0" y="17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37280" y="5468760"/>
            <a:ext cx="76680" cy="78120"/>
          </a:xfrm>
          <a:custGeom>
            <a:avLst/>
            <a:gdLst/>
            <a:ahLst/>
            <a:rect l="0" t="0" r="r" b="b"/>
            <a:pathLst>
              <a:path fill="none" w="213" h="217">
                <a:moveTo>
                  <a:pt x="0" y="217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037280" y="5303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37280" y="513720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84" y="35"/>
                </a:lnTo>
                <a:lnTo>
                  <a:pt x="213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037280" y="497196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037280" y="481824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213" y="0"/>
                </a:lnTo>
                <a:lnTo>
                  <a:pt x="84" y="35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37280" y="465120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37280" y="449892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037280" y="434484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37280" y="419256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213" y="0"/>
                </a:lnTo>
                <a:lnTo>
                  <a:pt x="84" y="70"/>
                </a:lnTo>
                <a:lnTo>
                  <a:pt x="213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037280" y="405144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213" y="0"/>
                </a:lnTo>
                <a:lnTo>
                  <a:pt x="84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37280" y="3897360"/>
            <a:ext cx="76680" cy="90720"/>
          </a:xfrm>
          <a:custGeom>
            <a:avLst/>
            <a:gdLst/>
            <a:ahLst/>
            <a:rect l="0" t="0" r="r" b="b"/>
            <a:pathLst>
              <a:path fill="none" w="213" h="252">
                <a:moveTo>
                  <a:pt x="0" y="252"/>
                </a:moveTo>
                <a:lnTo>
                  <a:pt x="213" y="0"/>
                </a:lnTo>
                <a:lnTo>
                  <a:pt x="84" y="39"/>
                </a:lnTo>
                <a:lnTo>
                  <a:pt x="213" y="0"/>
                </a:lnTo>
                <a:lnTo>
                  <a:pt x="213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7280" y="37576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37280" y="3616200"/>
            <a:ext cx="76680" cy="65520"/>
          </a:xfrm>
          <a:custGeom>
            <a:avLst/>
            <a:gdLst/>
            <a:ahLst/>
            <a:rect l="0" t="0" r="r" b="b"/>
            <a:pathLst>
              <a:path fill="none" w="213" h="182">
                <a:moveTo>
                  <a:pt x="0" y="182"/>
                </a:moveTo>
                <a:lnTo>
                  <a:pt x="213" y="0"/>
                </a:lnTo>
                <a:lnTo>
                  <a:pt x="128" y="35"/>
                </a:lnTo>
                <a:lnTo>
                  <a:pt x="213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37280" y="347652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14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37280" y="3335400"/>
            <a:ext cx="76680" cy="39960"/>
          </a:xfrm>
          <a:custGeom>
            <a:avLst/>
            <a:gdLst/>
            <a:ahLst/>
            <a:rect l="0" t="0" r="r" b="b"/>
            <a:pathLst>
              <a:path fill="none" w="213" h="111">
                <a:moveTo>
                  <a:pt x="0" y="111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037280" y="319572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0"/>
                </a:lnTo>
                <a:lnTo>
                  <a:pt x="128" y="0"/>
                </a:lnTo>
                <a:lnTo>
                  <a:pt x="213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037280" y="305424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72"/>
                </a:moveTo>
                <a:lnTo>
                  <a:pt x="213" y="72"/>
                </a:lnTo>
                <a:lnTo>
                  <a:pt x="169" y="0"/>
                </a:lnTo>
                <a:lnTo>
                  <a:pt x="213" y="72"/>
                </a:lnTo>
                <a:lnTo>
                  <a:pt x="16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037280" y="2901960"/>
            <a:ext cx="76680" cy="25920"/>
          </a:xfrm>
          <a:custGeom>
            <a:avLst/>
            <a:gdLst/>
            <a:ahLst/>
            <a:rect l="0" t="0" r="r" b="b"/>
            <a:pathLst>
              <a:path fill="none" w="213" h="72">
                <a:moveTo>
                  <a:pt x="0" y="0"/>
                </a:moveTo>
                <a:lnTo>
                  <a:pt x="213" y="72"/>
                </a:lnTo>
                <a:lnTo>
                  <a:pt x="169" y="72"/>
                </a:lnTo>
                <a:lnTo>
                  <a:pt x="213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037280" y="2747880"/>
            <a:ext cx="76680" cy="51120"/>
          </a:xfrm>
          <a:custGeom>
            <a:avLst/>
            <a:gdLst/>
            <a:ahLst/>
            <a:rect l="0" t="0" r="r" b="b"/>
            <a:pathLst>
              <a:path fill="none" w="213" h="142">
                <a:moveTo>
                  <a:pt x="0" y="0"/>
                </a:moveTo>
                <a:lnTo>
                  <a:pt x="213" y="142"/>
                </a:lnTo>
                <a:lnTo>
                  <a:pt x="169" y="106"/>
                </a:lnTo>
                <a:lnTo>
                  <a:pt x="213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037280" y="25956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0"/>
                </a:moveTo>
                <a:lnTo>
                  <a:pt x="213" y="213"/>
                </a:lnTo>
                <a:lnTo>
                  <a:pt x="213" y="178"/>
                </a:lnTo>
                <a:lnTo>
                  <a:pt x="213" y="213"/>
                </a:lnTo>
                <a:lnTo>
                  <a:pt x="128" y="17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037280" y="24415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0"/>
                </a:moveTo>
                <a:lnTo>
                  <a:pt x="213" y="283"/>
                </a:lnTo>
                <a:lnTo>
                  <a:pt x="213" y="247"/>
                </a:lnTo>
                <a:lnTo>
                  <a:pt x="213" y="283"/>
                </a:lnTo>
                <a:lnTo>
                  <a:pt x="84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37280" y="2287440"/>
            <a:ext cx="76680" cy="141480"/>
          </a:xfrm>
          <a:custGeom>
            <a:avLst/>
            <a:gdLst/>
            <a:ahLst/>
            <a:rect l="0" t="0" r="r" b="b"/>
            <a:pathLst>
              <a:path fill="none" w="213" h="393">
                <a:moveTo>
                  <a:pt x="0" y="0"/>
                </a:moveTo>
                <a:lnTo>
                  <a:pt x="213" y="393"/>
                </a:lnTo>
                <a:lnTo>
                  <a:pt x="213" y="287"/>
                </a:lnTo>
                <a:lnTo>
                  <a:pt x="213" y="393"/>
                </a:lnTo>
                <a:lnTo>
                  <a:pt x="84" y="32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437600" y="6159600"/>
            <a:ext cx="60120" cy="0"/>
          </a:xfrm>
          <a:custGeom>
            <a:avLst/>
            <a:gdLst/>
            <a:ahLst/>
            <a:rect l="0" t="0" r="r" b="b"/>
            <a:pathLst>
              <a:path fill="none" w="167" h="0">
                <a:moveTo>
                  <a:pt x="0" y="0"/>
                </a:moveTo>
                <a:lnTo>
                  <a:pt x="167" y="0"/>
                </a:lnTo>
                <a:lnTo>
                  <a:pt x="127" y="0"/>
                </a:lnTo>
                <a:lnTo>
                  <a:pt x="167" y="0"/>
                </a:lnTo>
                <a:lnTo>
                  <a:pt x="127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437600" y="597996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72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437600" y="5815080"/>
            <a:ext cx="60840" cy="38520"/>
          </a:xfrm>
          <a:custGeom>
            <a:avLst/>
            <a:gdLst/>
            <a:ahLst/>
            <a:rect l="0" t="0" r="r" b="b"/>
            <a:pathLst>
              <a:path fill="none" w="169" h="107">
                <a:moveTo>
                  <a:pt x="0" y="107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437600" y="5635800"/>
            <a:ext cx="60840" cy="63720"/>
          </a:xfrm>
          <a:custGeom>
            <a:avLst/>
            <a:gdLst/>
            <a:ahLst/>
            <a:rect l="0" t="0" r="r" b="b"/>
            <a:pathLst>
              <a:path fill="none" w="169" h="177">
                <a:moveTo>
                  <a:pt x="0" y="177"/>
                </a:moveTo>
                <a:lnTo>
                  <a:pt x="169" y="0"/>
                </a:lnTo>
                <a:lnTo>
                  <a:pt x="129" y="35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437600" y="5468760"/>
            <a:ext cx="60840" cy="78120"/>
          </a:xfrm>
          <a:custGeom>
            <a:avLst/>
            <a:gdLst/>
            <a:ahLst/>
            <a:rect l="0" t="0" r="r" b="b"/>
            <a:pathLst>
              <a:path fill="none" w="169" h="217">
                <a:moveTo>
                  <a:pt x="0" y="217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437600" y="5303880"/>
            <a:ext cx="60840" cy="76680"/>
          </a:xfrm>
          <a:custGeom>
            <a:avLst/>
            <a:gdLst/>
            <a:ahLst/>
            <a:rect l="0" t="0" r="r" b="b"/>
            <a:pathLst>
              <a:path fill="none" w="169" h="213">
                <a:moveTo>
                  <a:pt x="0" y="213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437600" y="513720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213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437600" y="497196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169" y="0"/>
                </a:lnTo>
                <a:lnTo>
                  <a:pt x="84" y="70"/>
                </a:lnTo>
                <a:lnTo>
                  <a:pt x="169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437600" y="481824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283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437600" y="465120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169" y="0"/>
                </a:lnTo>
                <a:lnTo>
                  <a:pt x="84" y="70"/>
                </a:lnTo>
                <a:lnTo>
                  <a:pt x="169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437600" y="449892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169" y="0"/>
                </a:lnTo>
                <a:lnTo>
                  <a:pt x="84" y="70"/>
                </a:lnTo>
                <a:lnTo>
                  <a:pt x="169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37600" y="4344840"/>
            <a:ext cx="76680" cy="116280"/>
          </a:xfrm>
          <a:custGeom>
            <a:avLst/>
            <a:gdLst/>
            <a:ahLst/>
            <a:rect l="0" t="0" r="r" b="b"/>
            <a:pathLst>
              <a:path fill="none" w="213" h="323">
                <a:moveTo>
                  <a:pt x="0" y="323"/>
                </a:moveTo>
                <a:lnTo>
                  <a:pt x="169" y="0"/>
                </a:lnTo>
                <a:lnTo>
                  <a:pt x="84" y="70"/>
                </a:lnTo>
                <a:lnTo>
                  <a:pt x="169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37600" y="4192560"/>
            <a:ext cx="76680" cy="114840"/>
          </a:xfrm>
          <a:custGeom>
            <a:avLst/>
            <a:gdLst/>
            <a:ahLst/>
            <a:rect l="0" t="0" r="r" b="b"/>
            <a:pathLst>
              <a:path fill="none" w="213" h="319">
                <a:moveTo>
                  <a:pt x="0" y="319"/>
                </a:moveTo>
                <a:lnTo>
                  <a:pt x="169" y="0"/>
                </a:lnTo>
                <a:lnTo>
                  <a:pt x="84" y="70"/>
                </a:lnTo>
                <a:lnTo>
                  <a:pt x="169" y="0"/>
                </a:lnTo>
                <a:lnTo>
                  <a:pt x="213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37600" y="4051440"/>
            <a:ext cx="76680" cy="89280"/>
          </a:xfrm>
          <a:custGeom>
            <a:avLst/>
            <a:gdLst/>
            <a:ahLst/>
            <a:rect l="0" t="0" r="r" b="b"/>
            <a:pathLst>
              <a:path fill="none" w="213" h="248">
                <a:moveTo>
                  <a:pt x="0" y="248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213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437600" y="3897360"/>
            <a:ext cx="76680" cy="90720"/>
          </a:xfrm>
          <a:custGeom>
            <a:avLst/>
            <a:gdLst/>
            <a:ahLst/>
            <a:rect l="0" t="0" r="r" b="b"/>
            <a:pathLst>
              <a:path fill="none" w="213" h="252">
                <a:moveTo>
                  <a:pt x="0" y="252"/>
                </a:moveTo>
                <a:lnTo>
                  <a:pt x="169" y="0"/>
                </a:lnTo>
                <a:lnTo>
                  <a:pt x="84" y="39"/>
                </a:lnTo>
                <a:lnTo>
                  <a:pt x="169" y="0"/>
                </a:lnTo>
                <a:lnTo>
                  <a:pt x="213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437600" y="3757680"/>
            <a:ext cx="60840" cy="76680"/>
          </a:xfrm>
          <a:custGeom>
            <a:avLst/>
            <a:gdLst/>
            <a:ahLst/>
            <a:rect l="0" t="0" r="r" b="b"/>
            <a:pathLst>
              <a:path fill="none" w="169" h="213">
                <a:moveTo>
                  <a:pt x="0" y="213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437600" y="3616200"/>
            <a:ext cx="60840" cy="65520"/>
          </a:xfrm>
          <a:custGeom>
            <a:avLst/>
            <a:gdLst/>
            <a:ahLst/>
            <a:rect l="0" t="0" r="r" b="b"/>
            <a:pathLst>
              <a:path fill="none" w="169" h="182">
                <a:moveTo>
                  <a:pt x="0" y="182"/>
                </a:moveTo>
                <a:lnTo>
                  <a:pt x="169" y="0"/>
                </a:lnTo>
                <a:lnTo>
                  <a:pt x="84" y="35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437600" y="3476520"/>
            <a:ext cx="60840" cy="51120"/>
          </a:xfrm>
          <a:custGeom>
            <a:avLst/>
            <a:gdLst/>
            <a:ahLst/>
            <a:rect l="0" t="0" r="r" b="b"/>
            <a:pathLst>
              <a:path fill="none" w="169" h="142">
                <a:moveTo>
                  <a:pt x="0" y="142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437600" y="3335400"/>
            <a:ext cx="60840" cy="39960"/>
          </a:xfrm>
          <a:custGeom>
            <a:avLst/>
            <a:gdLst/>
            <a:ahLst/>
            <a:rect l="0" t="0" r="r" b="b"/>
            <a:pathLst>
              <a:path fill="none" w="169" h="111">
                <a:moveTo>
                  <a:pt x="0" y="111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437600" y="319572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72"/>
                </a:moveTo>
                <a:lnTo>
                  <a:pt x="169" y="0"/>
                </a:lnTo>
                <a:lnTo>
                  <a:pt x="129" y="0"/>
                </a:lnTo>
                <a:lnTo>
                  <a:pt x="169" y="0"/>
                </a:lnTo>
                <a:lnTo>
                  <a:pt x="169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437600" y="305424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72"/>
                </a:moveTo>
                <a:lnTo>
                  <a:pt x="169" y="72"/>
                </a:lnTo>
                <a:lnTo>
                  <a:pt x="129" y="0"/>
                </a:lnTo>
                <a:lnTo>
                  <a:pt x="169" y="72"/>
                </a:lnTo>
                <a:lnTo>
                  <a:pt x="12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437600" y="2901960"/>
            <a:ext cx="60840" cy="25920"/>
          </a:xfrm>
          <a:custGeom>
            <a:avLst/>
            <a:gdLst/>
            <a:ahLst/>
            <a:rect l="0" t="0" r="r" b="b"/>
            <a:pathLst>
              <a:path fill="none" w="169" h="72">
                <a:moveTo>
                  <a:pt x="0" y="0"/>
                </a:moveTo>
                <a:lnTo>
                  <a:pt x="169" y="72"/>
                </a:lnTo>
                <a:lnTo>
                  <a:pt x="169" y="72"/>
                </a:lnTo>
                <a:lnTo>
                  <a:pt x="169" y="72"/>
                </a:lnTo>
                <a:lnTo>
                  <a:pt x="129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437600" y="2747880"/>
            <a:ext cx="60840" cy="51120"/>
          </a:xfrm>
          <a:custGeom>
            <a:avLst/>
            <a:gdLst/>
            <a:ahLst/>
            <a:rect l="0" t="0" r="r" b="b"/>
            <a:pathLst>
              <a:path fill="none" w="169" h="142">
                <a:moveTo>
                  <a:pt x="0" y="0"/>
                </a:moveTo>
                <a:lnTo>
                  <a:pt x="169" y="142"/>
                </a:lnTo>
                <a:lnTo>
                  <a:pt x="169" y="106"/>
                </a:lnTo>
                <a:lnTo>
                  <a:pt x="169" y="142"/>
                </a:lnTo>
                <a:lnTo>
                  <a:pt x="129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437600" y="2595600"/>
            <a:ext cx="60840" cy="76680"/>
          </a:xfrm>
          <a:custGeom>
            <a:avLst/>
            <a:gdLst/>
            <a:ahLst/>
            <a:rect l="0" t="0" r="r" b="b"/>
            <a:pathLst>
              <a:path fill="none" w="169" h="213">
                <a:moveTo>
                  <a:pt x="0" y="0"/>
                </a:moveTo>
                <a:lnTo>
                  <a:pt x="169" y="213"/>
                </a:lnTo>
                <a:lnTo>
                  <a:pt x="169" y="178"/>
                </a:lnTo>
                <a:lnTo>
                  <a:pt x="169" y="213"/>
                </a:lnTo>
                <a:lnTo>
                  <a:pt x="84" y="17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437600" y="2441520"/>
            <a:ext cx="76680" cy="101880"/>
          </a:xfrm>
          <a:custGeom>
            <a:avLst/>
            <a:gdLst/>
            <a:ahLst/>
            <a:rect l="0" t="0" r="r" b="b"/>
            <a:pathLst>
              <a:path fill="none" w="213" h="283">
                <a:moveTo>
                  <a:pt x="0" y="0"/>
                </a:moveTo>
                <a:lnTo>
                  <a:pt x="169" y="283"/>
                </a:lnTo>
                <a:lnTo>
                  <a:pt x="213" y="247"/>
                </a:lnTo>
                <a:lnTo>
                  <a:pt x="169" y="283"/>
                </a:lnTo>
                <a:lnTo>
                  <a:pt x="84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437600" y="2287440"/>
            <a:ext cx="76680" cy="141480"/>
          </a:xfrm>
          <a:custGeom>
            <a:avLst/>
            <a:gdLst/>
            <a:ahLst/>
            <a:rect l="0" t="0" r="r" b="b"/>
            <a:pathLst>
              <a:path fill="none" w="213" h="393">
                <a:moveTo>
                  <a:pt x="0" y="0"/>
                </a:moveTo>
                <a:lnTo>
                  <a:pt x="169" y="393"/>
                </a:lnTo>
                <a:lnTo>
                  <a:pt x="213" y="287"/>
                </a:lnTo>
                <a:lnTo>
                  <a:pt x="169" y="393"/>
                </a:lnTo>
                <a:lnTo>
                  <a:pt x="39" y="32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21720" y="6159600"/>
            <a:ext cx="77760" cy="0"/>
          </a:xfrm>
          <a:custGeom>
            <a:avLst/>
            <a:gdLst/>
            <a:ahLst/>
            <a:rect l="0" t="0" r="r" b="b"/>
            <a:pathLst>
              <a:path fill="none" w="216" h="0">
                <a:moveTo>
                  <a:pt x="0" y="0"/>
                </a:moveTo>
                <a:lnTo>
                  <a:pt x="216" y="0"/>
                </a:lnTo>
                <a:lnTo>
                  <a:pt x="171" y="0"/>
                </a:lnTo>
                <a:lnTo>
                  <a:pt x="216" y="0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21720" y="597996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0"/>
                </a:lnTo>
                <a:lnTo>
                  <a:pt x="172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21720" y="5815080"/>
            <a:ext cx="78120" cy="38520"/>
          </a:xfrm>
          <a:custGeom>
            <a:avLst/>
            <a:gdLst/>
            <a:ahLst/>
            <a:rect l="0" t="0" r="r" b="b"/>
            <a:pathLst>
              <a:path fill="none" w="217" h="107">
                <a:moveTo>
                  <a:pt x="0" y="107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821720" y="5635800"/>
            <a:ext cx="78120" cy="63720"/>
          </a:xfrm>
          <a:custGeom>
            <a:avLst/>
            <a:gdLst/>
            <a:ahLst/>
            <a:rect l="0" t="0" r="r" b="b"/>
            <a:pathLst>
              <a:path fill="none" w="217" h="177">
                <a:moveTo>
                  <a:pt x="0" y="177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821720" y="5468760"/>
            <a:ext cx="78120" cy="78120"/>
          </a:xfrm>
          <a:custGeom>
            <a:avLst/>
            <a:gdLst/>
            <a:ahLst/>
            <a:rect l="0" t="0" r="r" b="b"/>
            <a:pathLst>
              <a:path fill="none" w="217" h="217">
                <a:moveTo>
                  <a:pt x="0" y="217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821720" y="530388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213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821720" y="513720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821720" y="497196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217" y="0"/>
                </a:lnTo>
                <a:lnTo>
                  <a:pt x="12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821720" y="481824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821720" y="465120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12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821720" y="4498920"/>
            <a:ext cx="78120" cy="114840"/>
          </a:xfrm>
          <a:custGeom>
            <a:avLst/>
            <a:gdLst/>
            <a:ahLst/>
            <a:rect l="0" t="0" r="r" b="b"/>
            <a:pathLst>
              <a:path fill="none" w="217" h="319">
                <a:moveTo>
                  <a:pt x="0" y="319"/>
                </a:moveTo>
                <a:lnTo>
                  <a:pt x="217" y="0"/>
                </a:lnTo>
                <a:lnTo>
                  <a:pt x="12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821720" y="434484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12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821720" y="4192560"/>
            <a:ext cx="78120" cy="114840"/>
          </a:xfrm>
          <a:custGeom>
            <a:avLst/>
            <a:gdLst/>
            <a:ahLst/>
            <a:rect l="0" t="0" r="r" b="b"/>
            <a:pathLst>
              <a:path fill="none" w="217" h="319">
                <a:moveTo>
                  <a:pt x="0" y="319"/>
                </a:moveTo>
                <a:lnTo>
                  <a:pt x="217" y="0"/>
                </a:lnTo>
                <a:lnTo>
                  <a:pt x="12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821720" y="405144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821720" y="3897360"/>
            <a:ext cx="78120" cy="90720"/>
          </a:xfrm>
          <a:custGeom>
            <a:avLst/>
            <a:gdLst/>
            <a:ahLst/>
            <a:rect l="0" t="0" r="r" b="b"/>
            <a:pathLst>
              <a:path fill="none" w="217" h="252">
                <a:moveTo>
                  <a:pt x="0" y="252"/>
                </a:moveTo>
                <a:lnTo>
                  <a:pt x="217" y="0"/>
                </a:lnTo>
                <a:lnTo>
                  <a:pt x="128" y="39"/>
                </a:lnTo>
                <a:lnTo>
                  <a:pt x="217" y="0"/>
                </a:lnTo>
                <a:lnTo>
                  <a:pt x="217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821720" y="375768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213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821720" y="3616200"/>
            <a:ext cx="78120" cy="65520"/>
          </a:xfrm>
          <a:custGeom>
            <a:avLst/>
            <a:gdLst/>
            <a:ahLst/>
            <a:rect l="0" t="0" r="r" b="b"/>
            <a:pathLst>
              <a:path fill="none" w="217" h="182">
                <a:moveTo>
                  <a:pt x="0" y="182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821720" y="347652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142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821720" y="3335400"/>
            <a:ext cx="78120" cy="39960"/>
          </a:xfrm>
          <a:custGeom>
            <a:avLst/>
            <a:gdLst/>
            <a:ahLst/>
            <a:rect l="0" t="0" r="r" b="b"/>
            <a:pathLst>
              <a:path fill="none" w="217" h="111">
                <a:moveTo>
                  <a:pt x="0" y="111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821720" y="319572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0"/>
                </a:lnTo>
                <a:lnTo>
                  <a:pt x="172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821720" y="305424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72"/>
                </a:lnTo>
                <a:lnTo>
                  <a:pt x="172" y="0"/>
                </a:lnTo>
                <a:lnTo>
                  <a:pt x="217" y="72"/>
                </a:lnTo>
                <a:lnTo>
                  <a:pt x="17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821720" y="290196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0"/>
                </a:moveTo>
                <a:lnTo>
                  <a:pt x="217" y="72"/>
                </a:lnTo>
                <a:lnTo>
                  <a:pt x="172" y="72"/>
                </a:lnTo>
                <a:lnTo>
                  <a:pt x="217" y="72"/>
                </a:lnTo>
                <a:lnTo>
                  <a:pt x="17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821720" y="274788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0"/>
                </a:moveTo>
                <a:lnTo>
                  <a:pt x="217" y="142"/>
                </a:lnTo>
                <a:lnTo>
                  <a:pt x="217" y="106"/>
                </a:lnTo>
                <a:lnTo>
                  <a:pt x="217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821720" y="259560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0"/>
                </a:moveTo>
                <a:lnTo>
                  <a:pt x="217" y="213"/>
                </a:lnTo>
                <a:lnTo>
                  <a:pt x="217" y="178"/>
                </a:lnTo>
                <a:lnTo>
                  <a:pt x="217" y="213"/>
                </a:lnTo>
                <a:lnTo>
                  <a:pt x="128" y="17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821720" y="244152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0"/>
                </a:moveTo>
                <a:lnTo>
                  <a:pt x="217" y="283"/>
                </a:lnTo>
                <a:lnTo>
                  <a:pt x="217" y="247"/>
                </a:lnTo>
                <a:lnTo>
                  <a:pt x="217" y="283"/>
                </a:lnTo>
                <a:lnTo>
                  <a:pt x="128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821720" y="2287440"/>
            <a:ext cx="92520" cy="141480"/>
          </a:xfrm>
          <a:custGeom>
            <a:avLst/>
            <a:gdLst/>
            <a:ahLst/>
            <a:rect l="0" t="0" r="r" b="b"/>
            <a:pathLst>
              <a:path fill="none" w="257" h="393">
                <a:moveTo>
                  <a:pt x="0" y="0"/>
                </a:moveTo>
                <a:lnTo>
                  <a:pt x="218" y="393"/>
                </a:lnTo>
                <a:lnTo>
                  <a:pt x="257" y="287"/>
                </a:lnTo>
                <a:lnTo>
                  <a:pt x="218" y="393"/>
                </a:lnTo>
                <a:lnTo>
                  <a:pt x="84" y="32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21680" y="6159600"/>
            <a:ext cx="77760" cy="0"/>
          </a:xfrm>
          <a:custGeom>
            <a:avLst/>
            <a:gdLst/>
            <a:ahLst/>
            <a:rect l="0" t="0" r="r" b="b"/>
            <a:pathLst>
              <a:path fill="none" w="216" h="0">
                <a:moveTo>
                  <a:pt x="0" y="0"/>
                </a:moveTo>
                <a:lnTo>
                  <a:pt x="216" y="0"/>
                </a:lnTo>
                <a:lnTo>
                  <a:pt x="171" y="0"/>
                </a:lnTo>
                <a:lnTo>
                  <a:pt x="216" y="0"/>
                </a:lnTo>
                <a:lnTo>
                  <a:pt x="171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221680" y="597996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221680" y="5815080"/>
            <a:ext cx="78120" cy="38520"/>
          </a:xfrm>
          <a:custGeom>
            <a:avLst/>
            <a:gdLst/>
            <a:ahLst/>
            <a:rect l="0" t="0" r="r" b="b"/>
            <a:pathLst>
              <a:path fill="none" w="217" h="107">
                <a:moveTo>
                  <a:pt x="0" y="107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221680" y="5635800"/>
            <a:ext cx="78120" cy="63720"/>
          </a:xfrm>
          <a:custGeom>
            <a:avLst/>
            <a:gdLst/>
            <a:ahLst/>
            <a:rect l="0" t="0" r="r" b="b"/>
            <a:pathLst>
              <a:path fill="none" w="217" h="177">
                <a:moveTo>
                  <a:pt x="0" y="177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1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221680" y="5468760"/>
            <a:ext cx="78120" cy="78120"/>
          </a:xfrm>
          <a:custGeom>
            <a:avLst/>
            <a:gdLst/>
            <a:ahLst/>
            <a:rect l="0" t="0" r="r" b="b"/>
            <a:pathLst>
              <a:path fill="none" w="217" h="217">
                <a:moveTo>
                  <a:pt x="0" y="217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221680" y="530388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213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221680" y="513720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217" y="0"/>
                </a:lnTo>
                <a:lnTo>
                  <a:pt x="88" y="35"/>
                </a:lnTo>
                <a:lnTo>
                  <a:pt x="217" y="0"/>
                </a:lnTo>
                <a:lnTo>
                  <a:pt x="217" y="71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221680" y="497196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221680" y="481824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283"/>
                </a:moveTo>
                <a:lnTo>
                  <a:pt x="217" y="0"/>
                </a:lnTo>
                <a:lnTo>
                  <a:pt x="88" y="35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221680" y="465120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221680" y="4498920"/>
            <a:ext cx="78120" cy="114840"/>
          </a:xfrm>
          <a:custGeom>
            <a:avLst/>
            <a:gdLst/>
            <a:ahLst/>
            <a:rect l="0" t="0" r="r" b="b"/>
            <a:pathLst>
              <a:path fill="none" w="217" h="319">
                <a:moveTo>
                  <a:pt x="0" y="319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221680" y="4344840"/>
            <a:ext cx="78120" cy="116280"/>
          </a:xfrm>
          <a:custGeom>
            <a:avLst/>
            <a:gdLst/>
            <a:ahLst/>
            <a:rect l="0" t="0" r="r" b="b"/>
            <a:pathLst>
              <a:path fill="none" w="217" h="323">
                <a:moveTo>
                  <a:pt x="0" y="323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221680" y="4192560"/>
            <a:ext cx="78120" cy="114840"/>
          </a:xfrm>
          <a:custGeom>
            <a:avLst/>
            <a:gdLst/>
            <a:ahLst/>
            <a:rect l="0" t="0" r="r" b="b"/>
            <a:pathLst>
              <a:path fill="none" w="217" h="319">
                <a:moveTo>
                  <a:pt x="0" y="319"/>
                </a:moveTo>
                <a:lnTo>
                  <a:pt x="217" y="0"/>
                </a:lnTo>
                <a:lnTo>
                  <a:pt x="88" y="70"/>
                </a:lnTo>
                <a:lnTo>
                  <a:pt x="217" y="0"/>
                </a:lnTo>
                <a:lnTo>
                  <a:pt x="217" y="70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221680" y="4051440"/>
            <a:ext cx="78120" cy="89280"/>
          </a:xfrm>
          <a:custGeom>
            <a:avLst/>
            <a:gdLst/>
            <a:ahLst/>
            <a:rect l="0" t="0" r="r" b="b"/>
            <a:pathLst>
              <a:path fill="none" w="217" h="248">
                <a:moveTo>
                  <a:pt x="0" y="248"/>
                </a:moveTo>
                <a:lnTo>
                  <a:pt x="217" y="0"/>
                </a:lnTo>
                <a:lnTo>
                  <a:pt x="8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21680" y="3897360"/>
            <a:ext cx="78120" cy="90720"/>
          </a:xfrm>
          <a:custGeom>
            <a:avLst/>
            <a:gdLst/>
            <a:ahLst/>
            <a:rect l="0" t="0" r="r" b="b"/>
            <a:pathLst>
              <a:path fill="none" w="217" h="252">
                <a:moveTo>
                  <a:pt x="0" y="252"/>
                </a:moveTo>
                <a:lnTo>
                  <a:pt x="217" y="0"/>
                </a:lnTo>
                <a:lnTo>
                  <a:pt x="88" y="39"/>
                </a:lnTo>
                <a:lnTo>
                  <a:pt x="217" y="0"/>
                </a:lnTo>
                <a:lnTo>
                  <a:pt x="217" y="74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21680" y="375768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213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21680" y="3616200"/>
            <a:ext cx="78120" cy="65520"/>
          </a:xfrm>
          <a:custGeom>
            <a:avLst/>
            <a:gdLst/>
            <a:ahLst/>
            <a:rect l="0" t="0" r="r" b="b"/>
            <a:pathLst>
              <a:path fill="none" w="217" h="182">
                <a:moveTo>
                  <a:pt x="0" y="182"/>
                </a:moveTo>
                <a:lnTo>
                  <a:pt x="217" y="0"/>
                </a:lnTo>
                <a:lnTo>
                  <a:pt x="128" y="35"/>
                </a:lnTo>
                <a:lnTo>
                  <a:pt x="217" y="0"/>
                </a:lnTo>
                <a:lnTo>
                  <a:pt x="217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221680" y="347652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142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221680" y="3335400"/>
            <a:ext cx="78120" cy="39960"/>
          </a:xfrm>
          <a:custGeom>
            <a:avLst/>
            <a:gdLst/>
            <a:ahLst/>
            <a:rect l="0" t="0" r="r" b="b"/>
            <a:pathLst>
              <a:path fill="none" w="217" h="111">
                <a:moveTo>
                  <a:pt x="0" y="111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221680" y="319572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0"/>
                </a:lnTo>
                <a:lnTo>
                  <a:pt x="128" y="0"/>
                </a:lnTo>
                <a:lnTo>
                  <a:pt x="217" y="0"/>
                </a:lnTo>
                <a:lnTo>
                  <a:pt x="172" y="36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221680" y="305424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72"/>
                </a:moveTo>
                <a:lnTo>
                  <a:pt x="217" y="72"/>
                </a:lnTo>
                <a:lnTo>
                  <a:pt x="172" y="0"/>
                </a:lnTo>
                <a:lnTo>
                  <a:pt x="217" y="72"/>
                </a:lnTo>
                <a:lnTo>
                  <a:pt x="172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221680" y="2901960"/>
            <a:ext cx="78120" cy="25920"/>
          </a:xfrm>
          <a:custGeom>
            <a:avLst/>
            <a:gdLst/>
            <a:ahLst/>
            <a:rect l="0" t="0" r="r" b="b"/>
            <a:pathLst>
              <a:path fill="none" w="217" h="72">
                <a:moveTo>
                  <a:pt x="0" y="0"/>
                </a:moveTo>
                <a:lnTo>
                  <a:pt x="217" y="72"/>
                </a:lnTo>
                <a:lnTo>
                  <a:pt x="172" y="72"/>
                </a:lnTo>
                <a:lnTo>
                  <a:pt x="217" y="72"/>
                </a:lnTo>
                <a:lnTo>
                  <a:pt x="128" y="7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221680" y="2747880"/>
            <a:ext cx="78120" cy="51120"/>
          </a:xfrm>
          <a:custGeom>
            <a:avLst/>
            <a:gdLst/>
            <a:ahLst/>
            <a:rect l="0" t="0" r="r" b="b"/>
            <a:pathLst>
              <a:path fill="none" w="217" h="142">
                <a:moveTo>
                  <a:pt x="0" y="0"/>
                </a:moveTo>
                <a:lnTo>
                  <a:pt x="217" y="142"/>
                </a:lnTo>
                <a:lnTo>
                  <a:pt x="172" y="106"/>
                </a:lnTo>
                <a:lnTo>
                  <a:pt x="217" y="142"/>
                </a:lnTo>
                <a:lnTo>
                  <a:pt x="128" y="14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221680" y="2595600"/>
            <a:ext cx="78120" cy="76680"/>
          </a:xfrm>
          <a:custGeom>
            <a:avLst/>
            <a:gdLst/>
            <a:ahLst/>
            <a:rect l="0" t="0" r="r" b="b"/>
            <a:pathLst>
              <a:path fill="none" w="217" h="213">
                <a:moveTo>
                  <a:pt x="0" y="0"/>
                </a:moveTo>
                <a:lnTo>
                  <a:pt x="217" y="213"/>
                </a:lnTo>
                <a:lnTo>
                  <a:pt x="217" y="178"/>
                </a:lnTo>
                <a:lnTo>
                  <a:pt x="217" y="213"/>
                </a:lnTo>
                <a:lnTo>
                  <a:pt x="128" y="178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221680" y="2441520"/>
            <a:ext cx="78120" cy="101880"/>
          </a:xfrm>
          <a:custGeom>
            <a:avLst/>
            <a:gdLst/>
            <a:ahLst/>
            <a:rect l="0" t="0" r="r" b="b"/>
            <a:pathLst>
              <a:path fill="none" w="217" h="283">
                <a:moveTo>
                  <a:pt x="0" y="0"/>
                </a:moveTo>
                <a:lnTo>
                  <a:pt x="217" y="283"/>
                </a:lnTo>
                <a:lnTo>
                  <a:pt x="217" y="247"/>
                </a:lnTo>
                <a:lnTo>
                  <a:pt x="217" y="283"/>
                </a:lnTo>
                <a:lnTo>
                  <a:pt x="88" y="247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221680" y="2287440"/>
            <a:ext cx="78120" cy="141480"/>
          </a:xfrm>
          <a:custGeom>
            <a:avLst/>
            <a:gdLst/>
            <a:ahLst/>
            <a:rect l="0" t="0" r="r" b="b"/>
            <a:pathLst>
              <a:path fill="none" w="217" h="393">
                <a:moveTo>
                  <a:pt x="0" y="0"/>
                </a:moveTo>
                <a:lnTo>
                  <a:pt x="217" y="393"/>
                </a:lnTo>
                <a:lnTo>
                  <a:pt x="217" y="287"/>
                </a:lnTo>
                <a:lnTo>
                  <a:pt x="217" y="393"/>
                </a:lnTo>
                <a:lnTo>
                  <a:pt x="88" y="322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091040" y="1868400"/>
            <a:ext cx="2316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cuación Logí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étodos numéricos para el P.V.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a de Valor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60000"/>
              </a:lnSpc>
              <a:spcBef>
                <a:spcPts val="479"/>
              </a:spcBef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10000"/>
              </a:lnSpc>
              <a:spcBef>
                <a:spcPts val="479"/>
              </a:spcBef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 integral del problema de valor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2652840" y="5591160"/>
            <a:ext cx="4695840" cy="9129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1671480" y="2587680"/>
            <a:ext cx="6659640" cy="52704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1790640" y="3635280"/>
            <a:ext cx="64198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étodo de Eu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880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 integral de la ecuación difere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spcAft>
                <a:spcPts val="2880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oximación (Fórmula de los rectángul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spcAft>
                <a:spcPts val="2880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o fi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79"/>
              </a:spcBef>
              <a:spcAft>
                <a:spcPts val="2880"/>
              </a:spcAft>
              <a:buClr>
                <a:srgbClr val="ff993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étodo de Euler: para k=1,2...,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2519280" y="2314440"/>
            <a:ext cx="4791240" cy="9032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2733840" y="3727440"/>
            <a:ext cx="4363920" cy="50652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3292560" y="4565520"/>
            <a:ext cx="3246480" cy="4968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4"/>
          <a:stretch/>
        </p:blipFill>
        <p:spPr>
          <a:xfrm>
            <a:off x="2849400" y="5867280"/>
            <a:ext cx="413244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121932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étodo de Eu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tion [t,y]=mieuler(a,b,y0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h=(b-a)/n; t=a:h: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y=zeros(size(t)); y(1)=y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or k=1: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y(k+1)=y(k)+h*f(t(k),y(k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9933"/>
              </a:buClr>
              <a:buSzPct val="45000"/>
              <a:buFont typeface="MS LineDraw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en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.P.D.</dc:creator>
  <dc:description/>
  <dc:language>en-US</dc:language>
  <cp:lastModifiedBy>A.P.D.</cp:lastModifiedBy>
  <cp:revision>0</cp:revision>
  <dc:subject/>
  <dc:title>PRACTICA 11</dc:title>
</cp:coreProperties>
</file>